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84.png" ContentType="image/png"/>
  <Override PartName="/ppt/media/image48.png" ContentType="image/png"/>
  <Override PartName="/ppt/media/image11.png" ContentType="image/png"/>
  <Override PartName="/ppt/media/image19.jpeg" ContentType="image/jpeg"/>
  <Override PartName="/ppt/media/image36.png" ContentType="image/png"/>
  <Override PartName="/ppt/media/image23.png" ContentType="image/png"/>
  <Override PartName="/ppt/media/image60.png" ContentType="image/png"/>
  <Override PartName="/ppt/media/image61.png" ContentType="image/png"/>
  <Override PartName="/ppt/media/image65.png" ContentType="image/png"/>
  <Override PartName="/ppt/media/image22.wmf" ContentType="image/x-wmf"/>
  <Override PartName="/ppt/media/image25.jpeg" ContentType="image/jpeg"/>
  <Override PartName="/ppt/media/image32.png" ContentType="image/png"/>
  <Override PartName="/ppt/media/image26.wmf" ContentType="image/x-wmf"/>
  <Override PartName="/ppt/media/image69.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79.png" ContentType="image/png"/>
  <Override PartName="/ppt/media/image91.png" ContentType="image/png"/>
  <Override PartName="/ppt/media/image89.png" ContentType="image/png"/>
  <Override PartName="/ppt/media/image77.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8.png" ContentType="image/png"/>
  <Override PartName="/ppt/media/image74.png" ContentType="image/png"/>
  <Override PartName="/ppt/media/image73.png" ContentType="image/png"/>
  <Override PartName="/ppt/media/image72.png" ContentType="image/png"/>
  <Override PartName="/ppt/media/image58.png" ContentType="image/png"/>
  <Override PartName="/ppt/media/image20.png" ContentType="image/png"/>
  <Override PartName="/ppt/media/image2.wmf" ContentType="image/x-wmf"/>
  <Override PartName="/ppt/media/image57.png" ContentType="image/png"/>
  <Override PartName="/ppt/media/image24.jpeg" ContentType="image/jpeg"/>
  <Override PartName="/ppt/media/image59.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6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7"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6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0"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1"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9C2AD-92AE-4599-ACB6-4ADC03C8D7F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E4D01E5-7119-4EF7-B02F-3D20DAA5CC32}" type="slidenum">
              <a:rPr b="0" lang="ro-RO"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
        <p:nvSpPr>
          <p:cNvPr id="1249" name="PlaceHolder 1"/>
          <p:cNvSpPr>
            <a:spLocks noGrp="1"/>
          </p:cNvSpPr>
          <p:nvPr>
            <p:ph type="sldImg"/>
          </p:nvPr>
        </p:nvSpPr>
        <p:spPr>
          <a:xfrm>
            <a:off x="685800" y="1143000"/>
            <a:ext cx="5486400" cy="3086280"/>
          </a:xfrm>
          <a:prstGeom prst="rect">
            <a:avLst/>
          </a:prstGeom>
          <a:ln w="0">
            <a:noFill/>
          </a:ln>
        </p:spPr>
      </p:sp>
      <p:sp>
        <p:nvSpPr>
          <p:cNvPr id="1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91A75-E852-4C07-961B-A1F59042E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41F1C-3F0E-4E76-997F-5FC1B546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D2E755-C0B6-4CC6-8E24-3D4B9A4368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561C30-42B8-4345-861D-8F0EC3320C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BE51B-25EB-42F4-801F-0C34C078C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88517-EBBE-432A-A086-FC25259C74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6EE60B-A1CB-4CF2-B2D9-E60183E31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2861F-450E-4B0B-9032-F3D1CB5CE9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9BDEF-7731-4125-B570-95F20B4EE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268BD1-F6C5-4E10-89E6-AF72F4C385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7F7386-EFBC-4E25-87D4-EDD702761D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14E1D0-7DF0-4680-BE23-AA93DA0738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910FD-A347-47FD-990F-437A9B16B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2CBEAE-8E88-4819-A999-C888AE364B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25B05B-59BA-4739-8594-350E5540D5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548D16-7004-47E1-86BC-0C01225C6E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801AA4-9C32-4CDE-968D-60393679D9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77973D-9266-4F6F-8C80-4F31EBC762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F2696E-C4A5-4F6F-8938-4743CFAE4C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662183-6AC1-4FF4-9104-6424C17E01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855506-F9F7-4798-B9CD-FD8916180C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AFC3A6-4108-424D-9124-29548BE974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CBCEAB-23D0-4355-9E28-8F911CF052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30127-C4EE-45CB-9D08-EFDB1D579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F6AEF7-D8F9-4AA8-A84A-6020D40A81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057734-7F15-459E-BBFF-C27C678FB9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4D35CB-6A2B-4C33-B4F6-DC41446A63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83A9FD-D091-497C-9668-BCE65E9CC8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0EE40C-B882-4FD7-BAF5-A10C1BA45E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69B7E1-1B9E-434B-8604-5BE2FE1510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7D459C-7C94-4D50-9AAB-A02F059289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FB478A-FA88-4BCE-BE07-1D8F78818E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FFBD00-F024-4304-AB5B-3551617126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1E4B07-C8D2-4E7A-813B-ACCA21D066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395F1-4BE8-4E03-98BB-9F3103E85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5630A1-5B7F-442F-A7B7-9283E88F11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49CB18-3883-45CA-B591-6F6DAAC526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3D9CAE-1050-4D79-80C3-FD7DEB54E4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4D626C-854D-403B-8122-917D34CDE9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8C806E-528A-4DDC-BB20-C786CC6AB0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A65262-D4C0-430D-AF02-9F4451556A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9D143F-0CB8-45D0-B4B0-AEE570C9E8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EEFDF7-8081-4C30-9561-2F3401E77E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42C305-ABEB-42E8-8DE8-9D24D02F42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6DB39A-AD9E-4629-AFC2-1AE9805BFC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44D36-5279-41D5-A54A-28E7E257F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4E5F3A-A2C6-4335-A912-3EA7639D79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3113E9-C7AA-4326-86F5-0611083B8C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91C5E2-BEFD-4FC0-B68E-5AF09C54DF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DE2DE2-4D86-421C-BFFF-9D4859703D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B6A27D-6A6C-41E3-B8A9-A8C947EA46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436E6-DB89-49C2-BFF0-D95DC19C6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973343C-7335-4FD9-A7DC-1E2C823658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E0711E-55A6-4186-BE40-3E3C499482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EF2F93-5643-4084-9599-42C391EA93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9C2A5-0ED8-4390-8E0C-4746BEA97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10F655-4F76-4B8F-9F3E-EE4B4CA7E5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E57894-70A5-4E6A-A67E-F867EE0044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019653-6F61-4848-8B48-9D759EC8BA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7B3177-65A6-4E66-9281-6E7B05E4A0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02CD0F-EC7C-4953-89D8-9E5F851D90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67419E-9161-41DC-B780-37A9B21536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EE8880-1B92-46C4-B53D-0088278DD4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51AB2D-3053-4291-B46E-BED424DDA3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A2D41D3-BB76-49BA-A6A0-DDFA073873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2282F41-2A6C-4136-8EF3-5C626EB841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A5E7-93C9-4640-865E-68925C370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C9EAA8-EACB-4C67-A0A7-EF902C1B9D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E94F63-E6EC-47B0-8731-671DFFF92B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E09B9F-EC0B-4534-8CB2-C2BE3895D4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8A8C8A-1A9D-4E9E-A566-F2D07D259C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A51F90-DABD-447D-8BD7-8CD877F9E8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0CCFFC-2E4C-4E60-9445-1B60D766DF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58511A-4D6F-4AA7-B333-C243F206FE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DC753E-7216-4E1F-AF65-CBA295DCE8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53680C-0E79-439C-BF89-F5A2FA8753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260405-631D-4A4B-8B00-2F4FECAAB4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EED29-B117-4A32-AEE1-58142972F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AD0B02-5169-4A2D-AC8A-D842AE657D3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1A536-FDDB-4082-9029-ACD6A7806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DF4E5-84F1-432B-A7C7-7426AA82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A21E5-9137-41F7-96DC-375A733C4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8D8B-46EB-4C12-8D00-B720034D4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0BCB5-682B-401B-BF80-2DA0CBC24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E4E85-2D4C-411D-9315-DB90B20A3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D63D2-0B65-4B53-9BA8-43833863A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F7E9A2-0815-485B-9A1D-259620DAE7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FE4B4-1787-4205-B164-F22AAA8CE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87615-DB06-4E55-B44B-D163542D7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9F43E-2F87-457C-B837-DF3D94578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20061-080B-42BD-94E6-D3E6329BA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13800-9989-4626-9686-4E9741057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63304-E875-46BA-BAF3-D33223F9D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7B55D-BB0E-4E6A-8F73-81DFE4B72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8E477-B598-4800-96A3-4DCE88F56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5EF54-0A5F-4AEF-B08C-EE41DE512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BC388-B1B0-44FE-AA45-25ED3086B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6204DF-65F0-49D5-949A-FD09A792C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7B5114-F6BF-4D78-BFE4-106097B721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031469-366A-4E58-B87F-CE011F03B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5F5081-3B1E-4689-930B-5DE68B2FA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FE878-297F-49D9-88DD-84A65111A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BEFC-764E-435C-BB37-0536F7173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D3D94-B851-417A-BB53-569AB0C92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92876-4A2D-4221-A926-E5AE76F99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AEC05-1E90-4291-9EEA-8C816EB7CD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07B24-AC68-4157-AFAD-4CCCCEDFF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4F749-8EBE-4517-A00C-75CBD2C8C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5A3AD-1B77-4B32-80B7-1878F675D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F0C91-0E0E-452C-9A2A-EFCCEA2F4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F4E44-7B76-446F-94D2-195F01BA5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7DD84F-E549-48FA-9463-486C5B2F17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E9E8B1-74B9-4D2E-9129-2F8F630EC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D8AC9-BA29-4682-874C-B2A90A55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F5BBA-77B6-4843-B8C3-3826251F2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02DFDB-F5F2-4605-9B7F-B26AE2825E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AF31B-EF0F-42B6-AF73-17301C977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A721C-1449-4090-9601-BCD10EF3F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A290E-E653-4F6A-9242-22DE9FD574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C696E-6B16-489B-BC88-7E485E9E2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96B3B-A728-49C7-987F-D46B87314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B7B7E-A660-4EE8-91B6-EEBFDBB13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8B0A5-6957-4404-8DE8-43C4926A7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43E05D-EEB5-4FE9-A3CE-24A4661B6B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3CDF6-9F3A-4E21-8D16-221F98C5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16644E-BA8D-4B09-829B-ACED62926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923BE4-6855-470A-9CAB-CE5466CBF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10E25B-7F7E-4A05-A3EC-3D23BBE5D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6CA753-56AA-448D-B171-223A7F436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14F3C-79ED-4E01-ACBE-FFE7BC8AE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B75A7-27AA-4DA6-AEFA-7BC28BE61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542E7-A6EB-48E4-80AB-DACE0C80D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8D358-D7E4-48E1-B7A0-6CA270C1D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3BAEF-F53F-455D-BA9C-408C534D6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3CB9A-BE41-4D9E-974C-3FBEEF09F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9BD1-D28A-4365-B89D-A78B28D10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C5C14-C192-409F-9C7B-BE1FCC1C89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B91C66-B9B9-41B5-8E47-5D3AD16612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EBBBF0-1000-4511-BB5D-3706B9F45A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B988B9-A57B-4A57-8896-66FC1EF463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EC16B1-C51C-444A-A5F9-F393805F46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0BEBA4-7A82-4F77-B226-D9DE1A972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6BC791-9780-4B22-A259-0DF5603B7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D2EF18-0FD0-4BA1-BF1B-2F07A0B905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A56666-8E09-41CA-B86E-D2516172B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007EE-0B61-4E98-8674-E4C64A00D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E222-DD97-40F4-B470-75CE9E6B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C9DFB-8D38-434F-9C47-10313DF62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7CDCD-2192-4CE4-839E-565CC78EF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6C433A-69B8-4CD9-9A6F-124949FF1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C3A69C-4611-46EB-9FBB-F812434FF3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D125AD-BDBF-41D1-8EA0-3CB68CE480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B819B2-2E0B-4BC0-A720-5EF3022F94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FC7E8-5293-4836-9BAA-32EA8B4FC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9B503-D609-4817-B9E2-6E40825E0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328886-C8E2-4340-A0C9-D5C6D3550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F237EF-BDD7-45DB-B459-E4B9B2B9E4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5103-753D-4E71-8D74-732E3A798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72864F-17FC-41E2-888C-6EBA9B63A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43FAB-7474-4DD1-AD0F-DD2F092BBE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F54FA-47B3-4A61-BD0A-43C909DF6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1DBED-AA6C-4AC8-9ED6-23D3410B1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96A448-7058-4EB5-99BF-96062725B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8A473B-3AAF-4D0A-BDA1-4D2B0C6D96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940559-0271-4B4F-BE81-86BF74FB93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B796EB-45AF-4214-9E74-C66D03DDE9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EFAD4-C914-4380-BB18-E51A152BBC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3D90E3-63B2-4AC5-BA48-91F5B76973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54876-1647-4EE9-85F8-6E7448335F9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065B6-380A-4744-BEF1-B60A83D99ED0}"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35890-22D7-4BC7-9741-274C040EEA12}"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95" name="PlaceHolder 3"/>
          <p:cNvSpPr>
            <a:spLocks noGrp="1"/>
          </p:cNvSpPr>
          <p:nvPr>
            <p:ph type="dt" idx="34"/>
          </p:nvPr>
        </p:nvSpPr>
        <p:spPr>
          <a:xfrm>
            <a:off x="7605720" y="5955840"/>
            <a:ext cx="28447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PlaceHolder 4"/>
          <p:cNvSpPr>
            <a:spLocks noGrp="1"/>
          </p:cNvSpPr>
          <p:nvPr>
            <p:ph type="ftr" idx="3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7" name="PlaceHolder 5"/>
          <p:cNvSpPr>
            <a:spLocks noGrp="1"/>
          </p:cNvSpPr>
          <p:nvPr>
            <p:ph type="sldNum" idx="36"/>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13801-C82D-4324-9A5C-EDE4C683B1DB}" type="slidenum">
              <a:rPr b="0" lang="ro-RO"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538"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7"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AD95-E1E7-4627-9712-277A8B1F4A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8" name="PlaceHolder 3"/>
          <p:cNvSpPr>
            <a:spLocks noGrp="1"/>
          </p:cNvSpPr>
          <p:nvPr>
            <p:ph type="dt" idx="40"/>
          </p:nvPr>
        </p:nvSpPr>
        <p:spPr>
          <a:xfrm>
            <a:off x="812880" y="6244920"/>
            <a:ext cx="264168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19" name="PlaceHolder 4"/>
          <p:cNvSpPr>
            <a:spLocks noGrp="1"/>
          </p:cNvSpPr>
          <p:nvPr>
            <p:ph type="ftr" idx="41"/>
          </p:nvPr>
        </p:nvSpPr>
        <p:spPr>
          <a:xfrm>
            <a:off x="4165200" y="6244920"/>
            <a:ext cx="386100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20" name="PlaceHolder 5"/>
          <p:cNvSpPr>
            <a:spLocks noGrp="1"/>
          </p:cNvSpPr>
          <p:nvPr>
            <p:ph type="sldNum" idx="42"/>
          </p:nvPr>
        </p:nvSpPr>
        <p:spPr>
          <a:xfrm>
            <a:off x="8737560" y="6244920"/>
            <a:ext cx="264168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89B7-A0E0-4161-ADB7-93E239E68EF9}"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75ED-D0AE-43EB-8B26-5E369EC641B0}"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ECBD4-0258-4E03-8424-D2FAF5BF77A0}"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8BDF8-BBAF-40DE-A224-B8287362D83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E84DC-2B66-4AB5-9F1C-DD9A7B795A50}"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BF5B6-6424-4F29-8749-EADDE319A407}"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BE49A-1400-4583-B715-A72EA6190F3E}"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1E11A-2FEA-4FC4-A7CD-D563B3D6C632}"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6D757-3033-4E62-AA19-20FF572463C4}"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5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57.png"/><Relationship Id="rId32" Type="http://schemas.openxmlformats.org/officeDocument/2006/relationships/image" Target="../media/image58.png"/><Relationship Id="rId33" Type="http://schemas.openxmlformats.org/officeDocument/2006/relationships/image" Target="../media/image59.png"/><Relationship Id="rId34" Type="http://schemas.openxmlformats.org/officeDocument/2006/relationships/image" Target="../media/image60.png"/><Relationship Id="rId35" Type="http://schemas.openxmlformats.org/officeDocument/2006/relationships/image" Target="../media/image61.png"/><Relationship Id="rId36" Type="http://schemas.openxmlformats.org/officeDocument/2006/relationships/image" Target="../media/image62.png"/><Relationship Id="rId37" Type="http://schemas.openxmlformats.org/officeDocument/2006/relationships/image" Target="../media/image63.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6.png"/><Relationship Id="rId41" Type="http://schemas.openxmlformats.org/officeDocument/2006/relationships/image" Target="../media/image67.png"/><Relationship Id="rId42" Type="http://schemas.openxmlformats.org/officeDocument/2006/relationships/image" Target="../media/image68.png"/><Relationship Id="rId43" Type="http://schemas.openxmlformats.org/officeDocument/2006/relationships/image" Target="../media/image69.png"/><Relationship Id="rId44" Type="http://schemas.openxmlformats.org/officeDocument/2006/relationships/image" Target="../media/image70.png"/><Relationship Id="rId45" Type="http://schemas.openxmlformats.org/officeDocument/2006/relationships/image" Target="../media/image71.png"/><Relationship Id="rId46" Type="http://schemas.openxmlformats.org/officeDocument/2006/relationships/image" Target="../media/image72.png"/><Relationship Id="rId47" Type="http://schemas.openxmlformats.org/officeDocument/2006/relationships/image" Target="../media/image73.png"/><Relationship Id="rId48" Type="http://schemas.openxmlformats.org/officeDocument/2006/relationships/image" Target="../media/image74.png"/><Relationship Id="rId49" Type="http://schemas.openxmlformats.org/officeDocument/2006/relationships/image" Target="../media/image75.png"/><Relationship Id="rId50" Type="http://schemas.openxmlformats.org/officeDocument/2006/relationships/image" Target="../media/image76.png"/><Relationship Id="rId51" Type="http://schemas.openxmlformats.org/officeDocument/2006/relationships/image" Target="../media/image77.png"/><Relationship Id="rId52" Type="http://schemas.openxmlformats.org/officeDocument/2006/relationships/image" Target="../media/image78.png"/><Relationship Id="rId53" Type="http://schemas.openxmlformats.org/officeDocument/2006/relationships/image" Target="../media/image79.png"/><Relationship Id="rId54" Type="http://schemas.openxmlformats.org/officeDocument/2006/relationships/image" Target="../media/image80.png"/><Relationship Id="rId55" Type="http://schemas.openxmlformats.org/officeDocument/2006/relationships/image" Target="../media/image81.png"/><Relationship Id="rId56" Type="http://schemas.openxmlformats.org/officeDocument/2006/relationships/image" Target="../media/image82.png"/><Relationship Id="rId57" Type="http://schemas.openxmlformats.org/officeDocument/2006/relationships/image" Target="../media/image83.png"/><Relationship Id="rId58" Type="http://schemas.openxmlformats.org/officeDocument/2006/relationships/image" Target="../media/image84.png"/><Relationship Id="rId59" Type="http://schemas.openxmlformats.org/officeDocument/2006/relationships/image" Target="../media/image85.png"/><Relationship Id="rId60" Type="http://schemas.openxmlformats.org/officeDocument/2006/relationships/image" Target="../media/image86.png"/><Relationship Id="rId61" Type="http://schemas.openxmlformats.org/officeDocument/2006/relationships/image" Target="../media/image87.png"/><Relationship Id="rId62" Type="http://schemas.openxmlformats.org/officeDocument/2006/relationships/image" Target="../media/image88.png"/><Relationship Id="rId63" Type="http://schemas.openxmlformats.org/officeDocument/2006/relationships/image" Target="../media/image89.png"/><Relationship Id="rId64" Type="http://schemas.openxmlformats.org/officeDocument/2006/relationships/image" Target="../media/image90.png"/><Relationship Id="rId65" Type="http://schemas.openxmlformats.org/officeDocument/2006/relationships/image" Target="../media/image91.png"/><Relationship Id="rId66" Type="http://schemas.openxmlformats.org/officeDocument/2006/relationships/image" Target="../media/image92.png"/><Relationship Id="rId67" Type="http://schemas.openxmlformats.org/officeDocument/2006/relationships/slideLayout" Target="../slideLayouts/slideLayout157.xml"/>
</Relationships>
</file>

<file path=ppt/slides/_rels/slide59.xml.rels><?xml version="1.0" encoding="UTF-8"?>
<Relationships xmlns="http://schemas.openxmlformats.org/package/2006/relationships"><Relationship Id="rId1" Type="http://schemas.openxmlformats.org/officeDocument/2006/relationships/hyperlink" Target="http://dcfta.md/uploads/0/images/large/surse-de-finantare.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80680" y="102024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MANAGEMENT STRATEGIC ORIENTAT CĂTRE IMPACT ÎN CADRUL ANTREPRENORIALULUI SOCIAL.  STRATEGIE FOCALIZATĂ PE IMPACT.</a:t>
            </a:r>
            <a:endParaRPr b="0" lang="en-US" sz="2000" spc="-1" strike="noStrike">
              <a:solidFill>
                <a:srgbClr val="ffffff"/>
              </a:solidFill>
              <a:latin typeface="Gill Sans MT"/>
            </a:endParaRPr>
          </a:p>
        </p:txBody>
      </p:sp>
      <p:sp>
        <p:nvSpPr>
          <p:cNvPr id="703"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VERONICA BUTNARU, FORMATOR</a:t>
            </a:r>
            <a:endParaRPr b="0" lang="en-US" sz="1600" spc="-1" strike="noStrike">
              <a:solidFill>
                <a:srgbClr val="3d3d3d"/>
              </a:solidFill>
              <a:latin typeface="Gill Sans MT"/>
            </a:endParaRPr>
          </a:p>
        </p:txBody>
      </p:sp>
      <p:pic>
        <p:nvPicPr>
          <p:cNvPr id="704" name="Picture 9" descr="Managementul strategic | LINK Academy"/>
          <p:cNvPicPr/>
          <p:nvPr/>
        </p:nvPicPr>
        <p:blipFill>
          <a:blip r:embed="rId1"/>
          <a:stretch/>
        </p:blipFill>
        <p:spPr>
          <a:xfrm>
            <a:off x="3090960" y="3164040"/>
            <a:ext cx="583236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806400" y="797040"/>
            <a:ext cx="10677600" cy="4309920"/>
          </a:xfrm>
          <a:prstGeom prst="rect">
            <a:avLst/>
          </a:prstGeom>
          <a:noFill/>
          <a:ln w="0">
            <a:noFill/>
          </a:ln>
        </p:spPr>
        <p:txBody>
          <a:bodyPr anchor="ctr">
            <a:normAutofit/>
          </a:bodyPr>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c32d2e"/>
                </a:solidFill>
                <a:latin typeface="Arial Rounded MT Bold"/>
              </a:rPr>
              <a:t>Management </a:t>
            </a: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660033"/>
                </a:solidFill>
                <a:latin typeface="Arial Rounded MT Bold"/>
              </a:rPr>
              <a:t>“</a:t>
            </a:r>
            <a:r>
              <a:rPr b="1" lang="ro-RO" sz="3200" spc="-1" strike="noStrike">
                <a:solidFill>
                  <a:srgbClr val="660033"/>
                </a:solidFill>
                <a:latin typeface="Arial Rounded MT Bold"/>
              </a:rPr>
              <a:t>Proces de planificare, organizare şi control al resurselor pentru obţinerea unui rezultat specific.</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7">
                                            <p:txEl>
                                              <p:pRg st="0" end="0"/>
                                            </p:txEl>
                                          </p:spTgt>
                                        </p:tgtEl>
                                        <p:attrNameLst>
                                          <p:attrName>style.visibility</p:attrName>
                                        </p:attrNameLst>
                                      </p:cBhvr>
                                      <p:to>
                                        <p:strVal val="visible"/>
                                      </p:to>
                                    </p:set>
                                    <p:anim calcmode="lin" valueType="num">
                                      <p:cBhvr additive="base">
                                        <p:cTn id="7"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7">
                                            <p:txEl>
                                              <p:pRg st="2" end="2"/>
                                            </p:txEl>
                                          </p:spTgt>
                                        </p:tgtEl>
                                        <p:attrNameLst>
                                          <p:attrName>style.visibility</p:attrName>
                                        </p:attrNameLst>
                                      </p:cBhvr>
                                      <p:to>
                                        <p:strVal val="visible"/>
                                      </p:to>
                                    </p:set>
                                    <p:anim calcmode="lin" valueType="num">
                                      <p:cBhvr additive="base">
                                        <p:cTn id="13"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
          <p:cNvSpPr/>
          <p:nvPr/>
        </p:nvSpPr>
        <p:spPr>
          <a:xfrm>
            <a:off x="1022400" y="1814400"/>
            <a:ext cx="105696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Gill Sans MT"/>
              </a:rPr>
              <a:t>Dicționarul Explicativ al Limbii Române (2009)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Parte componentă a artei militare, care se ocupă cu problemele pregătirii, planificării și ducerii războiului și operațiilor militare.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În sintagma) Strategie economică = stabilirea obiectivelor și planificarea cursului acțiunilor de urmat atât la nivel microeconomic, cât și la nivel macroeconomic.</a:t>
            </a:r>
            <a:endParaRPr b="0" lang="en-US" sz="3200" spc="-1" strike="noStrike">
              <a:solidFill>
                <a:srgbClr val="000000"/>
              </a:solidFill>
              <a:latin typeface="Gill Sans MT"/>
            </a:endParaRPr>
          </a:p>
        </p:txBody>
      </p:sp>
      <p:sp>
        <p:nvSpPr>
          <p:cNvPr id="869"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
        <p:nvSpPr>
          <p:cNvPr id="871" name="Rectangle 1"/>
          <p:cNvSpPr/>
          <p:nvPr/>
        </p:nvSpPr>
        <p:spPr>
          <a:xfrm>
            <a:off x="1130400" y="2052720"/>
            <a:ext cx="10186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Calibri"/>
              </a:rPr>
              <a:t>Dicționar explicativ economic. Rusia (2000) </a:t>
            </a: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Calibri"/>
              </a:rPr>
              <a:t>Planul de acțiune în contextul incertitudinii. Acesta este un set de reguli, conform cărora acțiunile întreprinse trebuie să depindă de circumstanțe, inclusiv evenimentele naturale și acțiunile altor persoane</a:t>
            </a:r>
            <a:endParaRPr b="0" lang="en-US" sz="3200" spc="-1" strike="noStrike">
              <a:solidFill>
                <a:srgbClr val="000000"/>
              </a:solidFill>
              <a:latin typeface="Gill Sans MT"/>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344600" y="449280"/>
            <a:ext cx="10018800" cy="175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ABORDAREA MANAGEMENTULUI STRATEGIC</a:t>
            </a:r>
            <a:endParaRPr b="0" lang="en-US" sz="3600" spc="-1" strike="noStrike">
              <a:solidFill>
                <a:srgbClr val="ffffff"/>
              </a:solidFill>
              <a:latin typeface="Gill Sans MT"/>
            </a:endParaRPr>
          </a:p>
        </p:txBody>
      </p:sp>
      <p:grpSp>
        <p:nvGrpSpPr>
          <p:cNvPr id="873" name="Freeform 6"/>
          <p:cNvGrpSpPr/>
          <p:nvPr/>
        </p:nvGrpSpPr>
        <p:grpSpPr>
          <a:xfrm>
            <a:off x="1735200" y="1907280"/>
            <a:ext cx="2257560" cy="2095200"/>
            <a:chOff x="1735200" y="1907280"/>
            <a:chExt cx="2257560" cy="2095200"/>
          </a:xfrm>
        </p:grpSpPr>
        <p:pic>
          <p:nvPicPr>
            <p:cNvPr id="874" name="Freeform 6" descr=""/>
            <p:cNvPicPr/>
            <p:nvPr/>
          </p:nvPicPr>
          <p:blipFill>
            <a:blip r:embed="rId1"/>
            <a:stretch/>
          </p:blipFill>
          <p:spPr>
            <a:xfrm>
              <a:off x="1870920" y="2100240"/>
              <a:ext cx="2011680" cy="1874520"/>
            </a:xfrm>
            <a:prstGeom prst="rect">
              <a:avLst/>
            </a:prstGeom>
            <a:ln w="0">
              <a:noFill/>
            </a:ln>
          </p:spPr>
        </p:pic>
        <p:sp>
          <p:nvSpPr>
            <p:cNvPr id="875" name=""/>
            <p:cNvSpPr/>
            <p:nvPr/>
          </p:nvSpPr>
          <p:spPr>
            <a:xfrm rot="547200">
              <a:off x="1865160" y="2054160"/>
              <a:ext cx="1997280" cy="180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6" name="Freeform 7"/>
          <p:cNvGrpSpPr/>
          <p:nvPr/>
        </p:nvGrpSpPr>
        <p:grpSpPr>
          <a:xfrm>
            <a:off x="3438720" y="1876680"/>
            <a:ext cx="2327040" cy="2145240"/>
            <a:chOff x="3438720" y="1876680"/>
            <a:chExt cx="2327040" cy="2145240"/>
          </a:xfrm>
        </p:grpSpPr>
        <p:pic>
          <p:nvPicPr>
            <p:cNvPr id="877" name="Freeform 7" descr=""/>
            <p:cNvPicPr/>
            <p:nvPr/>
          </p:nvPicPr>
          <p:blipFill>
            <a:blip r:embed="rId2"/>
            <a:stretch/>
          </p:blipFill>
          <p:spPr>
            <a:xfrm>
              <a:off x="3586320" y="2054160"/>
              <a:ext cx="2021760" cy="1950840"/>
            </a:xfrm>
            <a:prstGeom prst="rect">
              <a:avLst/>
            </a:prstGeom>
            <a:ln w="0">
              <a:noFill/>
            </a:ln>
          </p:spPr>
        </p:pic>
        <p:sp>
          <p:nvSpPr>
            <p:cNvPr id="878" name=""/>
            <p:cNvSpPr/>
            <p:nvPr/>
          </p:nvSpPr>
          <p:spPr>
            <a:xfrm rot="585000">
              <a:off x="3578040" y="2036880"/>
              <a:ext cx="2047680" cy="18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9" name="Freeform 8"/>
          <p:cNvGrpSpPr/>
          <p:nvPr/>
        </p:nvGrpSpPr>
        <p:grpSpPr>
          <a:xfrm>
            <a:off x="5249880" y="1888920"/>
            <a:ext cx="2186640" cy="2292480"/>
            <a:chOff x="5249880" y="1888920"/>
            <a:chExt cx="2186640" cy="2292480"/>
          </a:xfrm>
        </p:grpSpPr>
        <p:pic>
          <p:nvPicPr>
            <p:cNvPr id="880" name="Freeform 8" descr=""/>
            <p:cNvPicPr/>
            <p:nvPr/>
          </p:nvPicPr>
          <p:blipFill>
            <a:blip r:embed="rId3"/>
            <a:stretch/>
          </p:blipFill>
          <p:spPr>
            <a:xfrm>
              <a:off x="5364000" y="2054880"/>
              <a:ext cx="1905120" cy="2029320"/>
            </a:xfrm>
            <a:prstGeom prst="rect">
              <a:avLst/>
            </a:prstGeom>
            <a:ln w="0">
              <a:noFill/>
            </a:ln>
          </p:spPr>
        </p:pic>
        <p:sp>
          <p:nvSpPr>
            <p:cNvPr id="881" name=""/>
            <p:cNvSpPr/>
            <p:nvPr/>
          </p:nvSpPr>
          <p:spPr>
            <a:xfrm rot="21064800">
              <a:off x="5394960" y="2023560"/>
              <a:ext cx="1895760" cy="20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2" name="Freeform 9"/>
          <p:cNvGrpSpPr/>
          <p:nvPr/>
        </p:nvGrpSpPr>
        <p:grpSpPr>
          <a:xfrm>
            <a:off x="8468280" y="1792440"/>
            <a:ext cx="2374200" cy="2226960"/>
            <a:chOff x="8468280" y="1792440"/>
            <a:chExt cx="2374200" cy="2226960"/>
          </a:xfrm>
        </p:grpSpPr>
        <p:pic>
          <p:nvPicPr>
            <p:cNvPr id="883" name="Freeform 9" descr=""/>
            <p:cNvPicPr/>
            <p:nvPr/>
          </p:nvPicPr>
          <p:blipFill>
            <a:blip r:embed="rId4"/>
            <a:stretch/>
          </p:blipFill>
          <p:spPr>
            <a:xfrm>
              <a:off x="8746200" y="2077920"/>
              <a:ext cx="1865880" cy="1835280"/>
            </a:xfrm>
            <a:prstGeom prst="rect">
              <a:avLst/>
            </a:prstGeom>
            <a:ln w="0">
              <a:noFill/>
            </a:ln>
          </p:spPr>
        </p:pic>
        <p:sp>
          <p:nvSpPr>
            <p:cNvPr id="884" name=""/>
            <p:cNvSpPr/>
            <p:nvPr/>
          </p:nvSpPr>
          <p:spPr>
            <a:xfrm rot="20266800">
              <a:off x="8705880" y="2090520"/>
              <a:ext cx="1898640" cy="16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5" name="Freeform 10"/>
          <p:cNvGrpSpPr/>
          <p:nvPr/>
        </p:nvGrpSpPr>
        <p:grpSpPr>
          <a:xfrm>
            <a:off x="6902280" y="1961280"/>
            <a:ext cx="2108520" cy="2177640"/>
            <a:chOff x="6902280" y="1961280"/>
            <a:chExt cx="2108520" cy="2177640"/>
          </a:xfrm>
        </p:grpSpPr>
        <p:pic>
          <p:nvPicPr>
            <p:cNvPr id="886" name="Freeform 10" descr=""/>
            <p:cNvPicPr/>
            <p:nvPr/>
          </p:nvPicPr>
          <p:blipFill>
            <a:blip r:embed="rId5"/>
            <a:stretch/>
          </p:blipFill>
          <p:spPr>
            <a:xfrm>
              <a:off x="7022880" y="2054160"/>
              <a:ext cx="1908000" cy="1939320"/>
            </a:xfrm>
            <a:prstGeom prst="rect">
              <a:avLst/>
            </a:prstGeom>
            <a:ln w="0">
              <a:noFill/>
            </a:ln>
          </p:spPr>
        </p:pic>
        <p:sp>
          <p:nvSpPr>
            <p:cNvPr id="887" name=""/>
            <p:cNvSpPr/>
            <p:nvPr/>
          </p:nvSpPr>
          <p:spPr>
            <a:xfrm rot="373200">
              <a:off x="7004160" y="2058480"/>
              <a:ext cx="1904760" cy="198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sp>
        <p:nvSpPr>
          <p:cNvPr id="888" name="TextBox 11"/>
          <p:cNvSpPr/>
          <p:nvPr/>
        </p:nvSpPr>
        <p:spPr>
          <a:xfrm>
            <a:off x="3855960" y="2395440"/>
            <a:ext cx="1611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 justifica necesităţile de finanţare</a:t>
            </a:r>
            <a:endParaRPr b="0" lang="en-US" sz="1600" spc="-1" strike="noStrike">
              <a:solidFill>
                <a:srgbClr val="000000"/>
              </a:solidFill>
              <a:latin typeface="Gill Sans MT"/>
            </a:endParaRPr>
          </a:p>
        </p:txBody>
      </p:sp>
      <p:sp>
        <p:nvSpPr>
          <p:cNvPr id="889" name="TextBox 14"/>
          <p:cNvSpPr/>
          <p:nvPr/>
        </p:nvSpPr>
        <p:spPr>
          <a:xfrm>
            <a:off x="2071800" y="2395440"/>
            <a:ext cx="162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800" spc="-1" strike="noStrike">
                <a:solidFill>
                  <a:srgbClr val="000000"/>
                </a:solidFill>
                <a:latin typeface="Calibri"/>
              </a:rPr>
              <a:t>Aceasta este o formalitate</a:t>
            </a:r>
            <a:endParaRPr b="0" lang="en-US" sz="1800" spc="-1" strike="noStrike">
              <a:solidFill>
                <a:srgbClr val="000000"/>
              </a:solidFill>
              <a:latin typeface="Gill Sans MT"/>
            </a:endParaRPr>
          </a:p>
        </p:txBody>
      </p:sp>
      <p:sp>
        <p:nvSpPr>
          <p:cNvPr id="890" name="TextBox 17"/>
          <p:cNvSpPr/>
          <p:nvPr/>
        </p:nvSpPr>
        <p:spPr>
          <a:xfrm>
            <a:off x="5467320" y="2395440"/>
            <a:ext cx="1749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Ţine de responsabilitatea subdiviziunii planificare strategică</a:t>
            </a:r>
            <a:endParaRPr b="0" lang="en-US" sz="1600" spc="-1" strike="noStrike">
              <a:solidFill>
                <a:srgbClr val="000000"/>
              </a:solidFill>
              <a:latin typeface="Gill Sans MT"/>
            </a:endParaRPr>
          </a:p>
        </p:txBody>
      </p:sp>
      <p:sp>
        <p:nvSpPr>
          <p:cNvPr id="891" name="TextBox 20"/>
          <p:cNvSpPr/>
          <p:nvPr/>
        </p:nvSpPr>
        <p:spPr>
          <a:xfrm>
            <a:off x="7054920" y="2395440"/>
            <a:ext cx="173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Acesta este instrumentul de management al organizaţiei</a:t>
            </a:r>
            <a:endParaRPr b="0" lang="en-US" sz="1600" spc="-1" strike="noStrike">
              <a:solidFill>
                <a:srgbClr val="000000"/>
              </a:solidFill>
              <a:latin typeface="Gill Sans MT"/>
            </a:endParaRPr>
          </a:p>
        </p:txBody>
      </p:sp>
      <p:sp>
        <p:nvSpPr>
          <p:cNvPr id="892" name="TextBox 23"/>
          <p:cNvSpPr/>
          <p:nvPr/>
        </p:nvSpPr>
        <p:spPr>
          <a:xfrm>
            <a:off x="8972640" y="2349360"/>
            <a:ext cx="1868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t>
            </a:r>
            <a:r>
              <a:rPr b="1" lang="en-US" sz="1600" spc="-1" strike="noStrike">
                <a:solidFill>
                  <a:srgbClr val="000000"/>
                </a:solidFill>
                <a:latin typeface="Calibri"/>
              </a:rPr>
              <a:t>a demonstra existe</a:t>
            </a:r>
            <a:r>
              <a:rPr b="1" lang="ro-RO" sz="1600" spc="-1" strike="noStrike">
                <a:solidFill>
                  <a:srgbClr val="000000"/>
                </a:solidFill>
                <a:latin typeface="Calibri"/>
              </a:rPr>
              <a:t>nţa noastră organelor de control </a:t>
            </a:r>
            <a:endParaRPr b="0" lang="en-US" sz="1600" spc="-1" strike="noStrike">
              <a:solidFill>
                <a:srgbClr val="000000"/>
              </a:solidFill>
              <a:latin typeface="Gill Sans MT"/>
            </a:endParaRPr>
          </a:p>
        </p:txBody>
      </p:sp>
      <p:pic>
        <p:nvPicPr>
          <p:cNvPr id="893" name="Group 4" descr=""/>
          <p:cNvPicPr/>
          <p:nvPr/>
        </p:nvPicPr>
        <p:blipFill>
          <a:blip r:embed="rId6"/>
          <a:stretch/>
        </p:blipFill>
        <p:spPr>
          <a:xfrm>
            <a:off x="3419640" y="4114800"/>
            <a:ext cx="664920" cy="1316160"/>
          </a:xfrm>
          <a:prstGeom prst="rect">
            <a:avLst/>
          </a:prstGeom>
          <a:ln w="0">
            <a:noFill/>
          </a:ln>
        </p:spPr>
      </p:pic>
      <p:pic>
        <p:nvPicPr>
          <p:cNvPr id="894" name="Group 4" descr=""/>
          <p:cNvPicPr/>
          <p:nvPr/>
        </p:nvPicPr>
        <p:blipFill>
          <a:blip r:embed="rId7"/>
          <a:stretch/>
        </p:blipFill>
        <p:spPr>
          <a:xfrm>
            <a:off x="5072040" y="4114800"/>
            <a:ext cx="663480" cy="1316160"/>
          </a:xfrm>
          <a:prstGeom prst="rect">
            <a:avLst/>
          </a:prstGeom>
          <a:ln w="0">
            <a:noFill/>
          </a:ln>
        </p:spPr>
      </p:pic>
      <p:pic>
        <p:nvPicPr>
          <p:cNvPr id="895" name="Group 4" descr=""/>
          <p:cNvPicPr/>
          <p:nvPr/>
        </p:nvPicPr>
        <p:blipFill>
          <a:blip r:embed="rId8"/>
          <a:stretch/>
        </p:blipFill>
        <p:spPr>
          <a:xfrm>
            <a:off x="5894280" y="4114800"/>
            <a:ext cx="665280" cy="1316160"/>
          </a:xfrm>
          <a:prstGeom prst="rect">
            <a:avLst/>
          </a:prstGeom>
          <a:ln w="0">
            <a:noFill/>
          </a:ln>
        </p:spPr>
      </p:pic>
      <p:pic>
        <p:nvPicPr>
          <p:cNvPr id="896" name="Group 4" descr=""/>
          <p:cNvPicPr/>
          <p:nvPr/>
        </p:nvPicPr>
        <p:blipFill>
          <a:blip r:embed="rId9"/>
          <a:stretch/>
        </p:blipFill>
        <p:spPr>
          <a:xfrm>
            <a:off x="6724800" y="4114800"/>
            <a:ext cx="663480" cy="1316160"/>
          </a:xfrm>
          <a:prstGeom prst="rect">
            <a:avLst/>
          </a:prstGeom>
          <a:ln w="0">
            <a:noFill/>
          </a:ln>
        </p:spPr>
      </p:pic>
      <p:pic>
        <p:nvPicPr>
          <p:cNvPr id="897" name="Group 4" descr=""/>
          <p:cNvPicPr/>
          <p:nvPr/>
        </p:nvPicPr>
        <p:blipFill>
          <a:blip r:embed="rId10"/>
          <a:stretch/>
        </p:blipFill>
        <p:spPr>
          <a:xfrm>
            <a:off x="8375760" y="4114800"/>
            <a:ext cx="664920" cy="1316160"/>
          </a:xfrm>
          <a:prstGeom prst="rect">
            <a:avLst/>
          </a:prstGeom>
          <a:ln w="0">
            <a:noFill/>
          </a:ln>
        </p:spPr>
      </p:pic>
      <p:pic>
        <p:nvPicPr>
          <p:cNvPr id="898" name="Group 4" descr=""/>
          <p:cNvPicPr/>
          <p:nvPr/>
        </p:nvPicPr>
        <p:blipFill>
          <a:blip r:embed="rId11"/>
          <a:stretch/>
        </p:blipFill>
        <p:spPr>
          <a:xfrm>
            <a:off x="7547040" y="4114800"/>
            <a:ext cx="663480" cy="1316160"/>
          </a:xfrm>
          <a:prstGeom prst="rect">
            <a:avLst/>
          </a:prstGeom>
          <a:ln w="0">
            <a:noFill/>
          </a:ln>
        </p:spPr>
      </p:pic>
      <p:pic>
        <p:nvPicPr>
          <p:cNvPr id="899" name="Group 4" descr=""/>
          <p:cNvPicPr/>
          <p:nvPr/>
        </p:nvPicPr>
        <p:blipFill>
          <a:blip r:embed="rId12"/>
          <a:stretch/>
        </p:blipFill>
        <p:spPr>
          <a:xfrm>
            <a:off x="4243320" y="4114800"/>
            <a:ext cx="663480" cy="1316160"/>
          </a:xfrm>
          <a:prstGeom prst="rect">
            <a:avLst/>
          </a:prstGeom>
          <a:ln w="0">
            <a:noFill/>
          </a:ln>
        </p:spPr>
      </p:pic>
      <p:sp>
        <p:nvSpPr>
          <p:cNvPr id="900" name="TextBox 2"/>
          <p:cNvSpPr/>
          <p:nvPr/>
        </p:nvSpPr>
        <p:spPr>
          <a:xfrm>
            <a:off x="6353280" y="5703840"/>
            <a:ext cx="469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c00000"/>
                </a:solidFill>
                <a:latin typeface="Calibri"/>
              </a:rPr>
              <a:t>Care este abordarea Dvs.</a:t>
            </a:r>
            <a:r>
              <a:rPr b="1" lang="en-US" sz="2800" spc="-1" strike="noStrike">
                <a:solidFill>
                  <a:srgbClr val="c00000"/>
                </a:solidFill>
                <a:latin typeface="Calibri"/>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889"/>
                                        </p:tgtEl>
                                        <p:attrNameLst>
                                          <p:attrName>style.visibility</p:attrName>
                                        </p:attrNameLst>
                                      </p:cBhvr>
                                      <p:to>
                                        <p:strVal val="visible"/>
                                      </p:to>
                                    </p:set>
                                    <p:animEffect filter="fade" transition="in">
                                      <p:cBhvr additive="repl">
                                        <p:cTn id="21" dur="300"/>
                                        <p:tgtEl>
                                          <p:spTgt spid="889"/>
                                        </p:tgtEl>
                                      </p:cBhvr>
                                    </p:animEffect>
                                  </p:childTnLst>
                                </p:cTn>
                              </p:par>
                              <p:par>
                                <p:cTn id="22" nodeType="withEffect" fill="hold" presetClass="entr" presetID="10">
                                  <p:stCondLst>
                                    <p:cond delay="0"/>
                                  </p:stCondLst>
                                  <p:childTnLst>
                                    <p:set>
                                      <p:cBhvr>
                                        <p:cTn id="23" dur="1" fill="hold">
                                          <p:stCondLst>
                                            <p:cond delay="0"/>
                                          </p:stCondLst>
                                        </p:cTn>
                                        <p:tgtEl>
                                          <p:spTgt spid="873"/>
                                        </p:tgtEl>
                                        <p:attrNameLst>
                                          <p:attrName>style.visibility</p:attrName>
                                        </p:attrNameLst>
                                      </p:cBhvr>
                                      <p:to>
                                        <p:strVal val="visible"/>
                                      </p:to>
                                    </p:set>
                                    <p:animEffect filter="fade" transition="in">
                                      <p:cBhvr additive="repl">
                                        <p:cTn id="24" dur="300"/>
                                        <p:tgtEl>
                                          <p:spTgt spid="873"/>
                                        </p:tgtEl>
                                      </p:cBhvr>
                                    </p:animEffect>
                                  </p:childTnLst>
                                </p:cTn>
                              </p:par>
                              <p:par>
                                <p:cTn id="25" nodeType="withEffect" fill="hold" presetClass="entr" presetID="10">
                                  <p:stCondLst>
                                    <p:cond delay="0"/>
                                  </p:stCondLst>
                                  <p:childTnLst>
                                    <p:set>
                                      <p:cBhvr>
                                        <p:cTn id="26" dur="1" fill="hold">
                                          <p:stCondLst>
                                            <p:cond delay="0"/>
                                          </p:stCondLst>
                                        </p:cTn>
                                        <p:tgtEl>
                                          <p:spTgt spid="893"/>
                                        </p:tgtEl>
                                        <p:attrNameLst>
                                          <p:attrName>style.visibility</p:attrName>
                                        </p:attrNameLst>
                                      </p:cBhvr>
                                      <p:to>
                                        <p:strVal val="visible"/>
                                      </p:to>
                                    </p:set>
                                    <p:animEffect filter="fade" transition="in">
                                      <p:cBhvr additive="repl">
                                        <p:cTn id="27" dur="500"/>
                                        <p:tgtEl>
                                          <p:spTgt spid="893"/>
                                        </p:tgtEl>
                                      </p:cBhvr>
                                    </p:animEffect>
                                  </p:childTnLst>
                                </p:cTn>
                              </p:par>
                              <p:par>
                                <p:cTn id="28" nodeType="withEffect" fill="hold" presetClass="entr" presetID="10">
                                  <p:stCondLst>
                                    <p:cond delay="300"/>
                                  </p:stCondLst>
                                  <p:childTnLst>
                                    <p:set>
                                      <p:cBhvr>
                                        <p:cTn id="29" dur="1" fill="hold">
                                          <p:stCondLst>
                                            <p:cond delay="0"/>
                                          </p:stCondLst>
                                        </p:cTn>
                                        <p:tgtEl>
                                          <p:spTgt spid="899"/>
                                        </p:tgtEl>
                                        <p:attrNameLst>
                                          <p:attrName>style.visibility</p:attrName>
                                        </p:attrNameLst>
                                      </p:cBhvr>
                                      <p:to>
                                        <p:strVal val="visible"/>
                                      </p:to>
                                    </p:set>
                                    <p:animEffect filter="fade" transition="in">
                                      <p:cBhvr additive="repl">
                                        <p:cTn id="30" dur="500"/>
                                        <p:tgtEl>
                                          <p:spTgt spid="899"/>
                                        </p:tgtEl>
                                      </p:cBhvr>
                                    </p:animEffect>
                                  </p:childTnLst>
                                </p:cTn>
                              </p:par>
                            </p:childTnLst>
                          </p:cTn>
                        </p:par>
                        <p:par>
                          <p:cTn id="31" nodeType="afterEffect" fill="hold">
                            <p:stCondLst>
                              <p:cond delay="800"/>
                            </p:stCondLst>
                            <p:childTnLst>
                              <p:par>
                                <p:cTn id="32" nodeType="afterEffect" fill="hold" presetClass="entr" presetID="10">
                                  <p:stCondLst>
                                    <p:cond delay="0"/>
                                  </p:stCondLst>
                                  <p:childTnLst>
                                    <p:set>
                                      <p:cBhvr>
                                        <p:cTn id="33" dur="1" fill="hold">
                                          <p:stCondLst>
                                            <p:cond delay="0"/>
                                          </p:stCondLst>
                                        </p:cTn>
                                        <p:tgtEl>
                                          <p:spTgt spid="888"/>
                                        </p:tgtEl>
                                        <p:attrNameLst>
                                          <p:attrName>style.visibility</p:attrName>
                                        </p:attrNameLst>
                                      </p:cBhvr>
                                      <p:to>
                                        <p:strVal val="visible"/>
                                      </p:to>
                                    </p:set>
                                    <p:animEffect filter="fade" transition="in">
                                      <p:cBhvr additive="repl">
                                        <p:cTn id="34" dur="300"/>
                                        <p:tgtEl>
                                          <p:spTgt spid="888"/>
                                        </p:tgtEl>
                                      </p:cBhvr>
                                    </p:animEffect>
                                  </p:childTnLst>
                                </p:cTn>
                              </p:par>
                              <p:par>
                                <p:cTn id="35" nodeType="withEffect" fill="hold" presetClass="entr" presetID="10">
                                  <p:stCondLst>
                                    <p:cond delay="0"/>
                                  </p:stCondLst>
                                  <p:childTnLst>
                                    <p:set>
                                      <p:cBhvr>
                                        <p:cTn id="36" dur="1" fill="hold">
                                          <p:stCondLst>
                                            <p:cond delay="0"/>
                                          </p:stCondLst>
                                        </p:cTn>
                                        <p:tgtEl>
                                          <p:spTgt spid="876"/>
                                        </p:tgtEl>
                                        <p:attrNameLst>
                                          <p:attrName>style.visibility</p:attrName>
                                        </p:attrNameLst>
                                      </p:cBhvr>
                                      <p:to>
                                        <p:strVal val="visible"/>
                                      </p:to>
                                    </p:set>
                                    <p:animEffect filter="fade" transition="in">
                                      <p:cBhvr additive="repl">
                                        <p:cTn id="37" dur="300"/>
                                        <p:tgtEl>
                                          <p:spTgt spid="876"/>
                                        </p:tgtEl>
                                      </p:cBhvr>
                                    </p:animEffect>
                                  </p:childTnLst>
                                </p:cTn>
                              </p:par>
                              <p:par>
                                <p:cTn id="38" nodeType="withEffect" fill="hold" presetClass="entr" presetID="10">
                                  <p:stCondLst>
                                    <p:cond delay="0"/>
                                  </p:stCondLst>
                                  <p:childTnLst>
                                    <p:set>
                                      <p:cBhvr>
                                        <p:cTn id="39" dur="1" fill="hold">
                                          <p:stCondLst>
                                            <p:cond delay="0"/>
                                          </p:stCondLst>
                                        </p:cTn>
                                        <p:tgtEl>
                                          <p:spTgt spid="894"/>
                                        </p:tgtEl>
                                        <p:attrNameLst>
                                          <p:attrName>style.visibility</p:attrName>
                                        </p:attrNameLst>
                                      </p:cBhvr>
                                      <p:to>
                                        <p:strVal val="visible"/>
                                      </p:to>
                                    </p:set>
                                    <p:animEffect filter="fade" transition="in">
                                      <p:cBhvr additive="repl">
                                        <p:cTn id="40" dur="500"/>
                                        <p:tgtEl>
                                          <p:spTgt spid="894"/>
                                        </p:tgtEl>
                                      </p:cBhvr>
                                    </p:animEffect>
                                  </p:childTnLst>
                                </p:cTn>
                              </p:par>
                            </p:childTnLst>
                          </p:cTn>
                        </p:par>
                        <p:par>
                          <p:cTn id="41" nodeType="afterEffect" fill="hold">
                            <p:stCondLst>
                              <p:cond delay="1300"/>
                            </p:stCondLst>
                            <p:childTnLst>
                              <p:par>
                                <p:cTn id="42" nodeType="afterEffect" fill="hold" presetClass="entr" presetID="10">
                                  <p:stCondLst>
                                    <p:cond delay="0"/>
                                  </p:stCondLst>
                                  <p:childTnLst>
                                    <p:set>
                                      <p:cBhvr>
                                        <p:cTn id="43" dur="1" fill="hold">
                                          <p:stCondLst>
                                            <p:cond delay="0"/>
                                          </p:stCondLst>
                                        </p:cTn>
                                        <p:tgtEl>
                                          <p:spTgt spid="890"/>
                                        </p:tgtEl>
                                        <p:attrNameLst>
                                          <p:attrName>style.visibility</p:attrName>
                                        </p:attrNameLst>
                                      </p:cBhvr>
                                      <p:to>
                                        <p:strVal val="visible"/>
                                      </p:to>
                                    </p:set>
                                    <p:animEffect filter="fade" transition="in">
                                      <p:cBhvr additive="repl">
                                        <p:cTn id="44" dur="300"/>
                                        <p:tgtEl>
                                          <p:spTgt spid="890"/>
                                        </p:tgtEl>
                                      </p:cBhvr>
                                    </p:animEffect>
                                  </p:childTnLst>
                                </p:cTn>
                              </p:par>
                              <p:par>
                                <p:cTn id="45" nodeType="withEffect" fill="hold" presetClass="entr" presetID="10">
                                  <p:stCondLst>
                                    <p:cond delay="0"/>
                                  </p:stCondLst>
                                  <p:childTnLst>
                                    <p:set>
                                      <p:cBhvr>
                                        <p:cTn id="46" dur="1" fill="hold">
                                          <p:stCondLst>
                                            <p:cond delay="0"/>
                                          </p:stCondLst>
                                        </p:cTn>
                                        <p:tgtEl>
                                          <p:spTgt spid="879"/>
                                        </p:tgtEl>
                                        <p:attrNameLst>
                                          <p:attrName>style.visibility</p:attrName>
                                        </p:attrNameLst>
                                      </p:cBhvr>
                                      <p:to>
                                        <p:strVal val="visible"/>
                                      </p:to>
                                    </p:set>
                                    <p:animEffect filter="fade" transition="in">
                                      <p:cBhvr additive="repl">
                                        <p:cTn id="47" dur="300"/>
                                        <p:tgtEl>
                                          <p:spTgt spid="879"/>
                                        </p:tgtEl>
                                      </p:cBhvr>
                                    </p:animEffect>
                                  </p:childTnLst>
                                </p:cTn>
                              </p:par>
                              <p:par>
                                <p:cTn id="48" nodeType="withEffect" fill="hold" presetClass="entr" presetID="10">
                                  <p:stCondLst>
                                    <p:cond delay="0"/>
                                  </p:stCondLst>
                                  <p:childTnLst>
                                    <p:set>
                                      <p:cBhvr>
                                        <p:cTn id="49" dur="1" fill="hold">
                                          <p:stCondLst>
                                            <p:cond delay="0"/>
                                          </p:stCondLst>
                                        </p:cTn>
                                        <p:tgtEl>
                                          <p:spTgt spid="895"/>
                                        </p:tgtEl>
                                        <p:attrNameLst>
                                          <p:attrName>style.visibility</p:attrName>
                                        </p:attrNameLst>
                                      </p:cBhvr>
                                      <p:to>
                                        <p:strVal val="visible"/>
                                      </p:to>
                                    </p:set>
                                    <p:animEffect filter="fade" transition="in">
                                      <p:cBhvr additive="repl">
                                        <p:cTn id="50" dur="500"/>
                                        <p:tgtEl>
                                          <p:spTgt spid="895"/>
                                        </p:tgtEl>
                                      </p:cBhvr>
                                    </p:animEffect>
                                  </p:childTnLst>
                                </p:cTn>
                              </p:par>
                            </p:childTnLst>
                          </p:cTn>
                        </p:par>
                        <p:par>
                          <p:cTn id="51" nodeType="afterEffect" fill="hold">
                            <p:stCondLst>
                              <p:cond delay="1800"/>
                            </p:stCondLst>
                            <p:childTnLst>
                              <p:par>
                                <p:cTn id="52" nodeType="afterEffect" fill="hold" presetClass="entr" presetID="10">
                                  <p:stCondLst>
                                    <p:cond delay="0"/>
                                  </p:stCondLst>
                                  <p:childTnLst>
                                    <p:set>
                                      <p:cBhvr>
                                        <p:cTn id="53" dur="1" fill="hold">
                                          <p:stCondLst>
                                            <p:cond delay="0"/>
                                          </p:stCondLst>
                                        </p:cTn>
                                        <p:tgtEl>
                                          <p:spTgt spid="891"/>
                                        </p:tgtEl>
                                        <p:attrNameLst>
                                          <p:attrName>style.visibility</p:attrName>
                                        </p:attrNameLst>
                                      </p:cBhvr>
                                      <p:to>
                                        <p:strVal val="visible"/>
                                      </p:to>
                                    </p:set>
                                    <p:animEffect filter="fade" transition="in">
                                      <p:cBhvr additive="repl">
                                        <p:cTn id="54" dur="300"/>
                                        <p:tgtEl>
                                          <p:spTgt spid="891"/>
                                        </p:tgtEl>
                                      </p:cBhvr>
                                    </p:animEffect>
                                  </p:childTnLst>
                                </p:cTn>
                              </p:par>
                              <p:par>
                                <p:cTn id="55" nodeType="withEffect" fill="hold" presetClass="entr" presetID="10">
                                  <p:stCondLst>
                                    <p:cond delay="0"/>
                                  </p:stCondLst>
                                  <p:childTnLst>
                                    <p:set>
                                      <p:cBhvr>
                                        <p:cTn id="56" dur="1" fill="hold">
                                          <p:stCondLst>
                                            <p:cond delay="0"/>
                                          </p:stCondLst>
                                        </p:cTn>
                                        <p:tgtEl>
                                          <p:spTgt spid="885"/>
                                        </p:tgtEl>
                                        <p:attrNameLst>
                                          <p:attrName>style.visibility</p:attrName>
                                        </p:attrNameLst>
                                      </p:cBhvr>
                                      <p:to>
                                        <p:strVal val="visible"/>
                                      </p:to>
                                    </p:set>
                                    <p:animEffect filter="fade" transition="in">
                                      <p:cBhvr additive="repl">
                                        <p:cTn id="57" dur="300"/>
                                        <p:tgtEl>
                                          <p:spTgt spid="885"/>
                                        </p:tgtEl>
                                      </p:cBhvr>
                                    </p:animEffect>
                                  </p:childTnLst>
                                </p:cTn>
                              </p:par>
                              <p:par>
                                <p:cTn id="58" nodeType="withEffect" fill="hold" presetClass="entr" presetID="10">
                                  <p:stCondLst>
                                    <p:cond delay="0"/>
                                  </p:stCondLst>
                                  <p:childTnLst>
                                    <p:set>
                                      <p:cBhvr>
                                        <p:cTn id="59" dur="1" fill="hold">
                                          <p:stCondLst>
                                            <p:cond delay="0"/>
                                          </p:stCondLst>
                                        </p:cTn>
                                        <p:tgtEl>
                                          <p:spTgt spid="896"/>
                                        </p:tgtEl>
                                        <p:attrNameLst>
                                          <p:attrName>style.visibility</p:attrName>
                                        </p:attrNameLst>
                                      </p:cBhvr>
                                      <p:to>
                                        <p:strVal val="visible"/>
                                      </p:to>
                                    </p:set>
                                    <p:animEffect filter="fade" transition="in">
                                      <p:cBhvr additive="repl">
                                        <p:cTn id="60" dur="500"/>
                                        <p:tgtEl>
                                          <p:spTgt spid="896"/>
                                        </p:tgtEl>
                                      </p:cBhvr>
                                    </p:animEffect>
                                  </p:childTnLst>
                                </p:cTn>
                              </p:par>
                              <p:par>
                                <p:cTn id="61" nodeType="withEffect" fill="hold" presetClass="entr" presetID="10">
                                  <p:stCondLst>
                                    <p:cond delay="200"/>
                                  </p:stCondLst>
                                  <p:childTnLst>
                                    <p:set>
                                      <p:cBhvr>
                                        <p:cTn id="62" dur="1" fill="hold">
                                          <p:stCondLst>
                                            <p:cond delay="0"/>
                                          </p:stCondLst>
                                        </p:cTn>
                                        <p:tgtEl>
                                          <p:spTgt spid="898"/>
                                        </p:tgtEl>
                                        <p:attrNameLst>
                                          <p:attrName>style.visibility</p:attrName>
                                        </p:attrNameLst>
                                      </p:cBhvr>
                                      <p:to>
                                        <p:strVal val="visible"/>
                                      </p:to>
                                    </p:set>
                                    <p:animEffect filter="fade" transition="in">
                                      <p:cBhvr additive="repl">
                                        <p:cTn id="63" dur="500"/>
                                        <p:tgtEl>
                                          <p:spTgt spid="89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892"/>
                                        </p:tgtEl>
                                        <p:attrNameLst>
                                          <p:attrName>style.visibility</p:attrName>
                                        </p:attrNameLst>
                                      </p:cBhvr>
                                      <p:to>
                                        <p:strVal val="visible"/>
                                      </p:to>
                                    </p:set>
                                    <p:animEffect filter="fade" transition="in">
                                      <p:cBhvr additive="repl">
                                        <p:cTn id="67" dur="300"/>
                                        <p:tgtEl>
                                          <p:spTgt spid="892"/>
                                        </p:tgtEl>
                                      </p:cBhvr>
                                    </p:animEffect>
                                  </p:childTnLst>
                                </p:cTn>
                              </p:par>
                              <p:par>
                                <p:cTn id="68" nodeType="withEffect" fill="hold" presetClass="entr" presetID="10">
                                  <p:stCondLst>
                                    <p:cond delay="0"/>
                                  </p:stCondLst>
                                  <p:childTnLst>
                                    <p:set>
                                      <p:cBhvr>
                                        <p:cTn id="69" dur="1" fill="hold">
                                          <p:stCondLst>
                                            <p:cond delay="0"/>
                                          </p:stCondLst>
                                        </p:cTn>
                                        <p:tgtEl>
                                          <p:spTgt spid="882"/>
                                        </p:tgtEl>
                                        <p:attrNameLst>
                                          <p:attrName>style.visibility</p:attrName>
                                        </p:attrNameLst>
                                      </p:cBhvr>
                                      <p:to>
                                        <p:strVal val="visible"/>
                                      </p:to>
                                    </p:set>
                                    <p:animEffect filter="fade" transition="in">
                                      <p:cBhvr additive="repl">
                                        <p:cTn id="70" dur="300"/>
                                        <p:tgtEl>
                                          <p:spTgt spid="882"/>
                                        </p:tgtEl>
                                      </p:cBhvr>
                                    </p:animEffect>
                                  </p:childTnLst>
                                </p:cTn>
                              </p:par>
                              <p:par>
                                <p:cTn id="71" nodeType="withEffect" fill="hold" presetClass="entr" presetID="10">
                                  <p:stCondLst>
                                    <p:cond delay="0"/>
                                  </p:stCondLst>
                                  <p:childTnLst>
                                    <p:set>
                                      <p:cBhvr>
                                        <p:cTn id="72" dur="1" fill="hold">
                                          <p:stCondLst>
                                            <p:cond delay="0"/>
                                          </p:stCondLst>
                                        </p:cTn>
                                        <p:tgtEl>
                                          <p:spTgt spid="897"/>
                                        </p:tgtEl>
                                        <p:attrNameLst>
                                          <p:attrName>style.visibility</p:attrName>
                                        </p:attrNameLst>
                                      </p:cBhvr>
                                      <p:to>
                                        <p:strVal val="visible"/>
                                      </p:to>
                                    </p:set>
                                    <p:animEffect filter="fade" transition="in">
                                      <p:cBhvr additive="repl">
                                        <p:cTn id="7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PRINCIPALELE ÎNTREBĂRI LA CARE RĂSPUNDE STRATEGIA SUNT URMĂTOARELE:</a:t>
            </a:r>
            <a:endParaRPr b="0" lang="en-US" sz="2500" spc="-1" strike="noStrike">
              <a:solidFill>
                <a:srgbClr val="ffffff"/>
              </a:solidFill>
              <a:latin typeface="Gill Sans MT"/>
            </a:endParaRPr>
          </a:p>
        </p:txBody>
      </p:sp>
      <p:sp>
        <p:nvSpPr>
          <p:cNvPr id="902" name=""/>
          <p:cNvSpPr txBox="1"/>
          <p:nvPr/>
        </p:nvSpPr>
        <p:spPr>
          <a:xfrm>
            <a:off x="838080" y="1842840"/>
            <a:ext cx="10515600" cy="4351320"/>
          </a:xfrm>
          <a:prstGeom prst="rect">
            <a:avLst/>
          </a:prstGeom>
          <a:noFill/>
          <a:ln w="0">
            <a:noFill/>
          </a:ln>
        </p:spPr>
        <p:txBody>
          <a:bodyPr anchor="ctr">
            <a:normAutofit/>
          </a:bodyPr>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âte afaceri va gestiona organizați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ne vom diversific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se vor aloca resursel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ESTE STRATEGIE</a:t>
            </a:r>
            <a:endParaRPr b="0" lang="en-US" sz="2800" spc="-1" strike="noStrike">
              <a:solidFill>
                <a:srgbClr val="ffffff"/>
              </a:solidFill>
              <a:latin typeface="Gill Sans MT"/>
            </a:endParaRPr>
          </a:p>
        </p:txBody>
      </p:sp>
      <p:sp>
        <p:nvSpPr>
          <p:cNvPr id="904"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presupune dezvoltarea și implementarea unui set de soluții unice și complementare, care-i va asigura organizației o dezvoltare durabilă și profituri stabile pe o perioadă lungă de timp.</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constă în: a) îmbinarea oportunităților care le oferă mediul extern cu posibilitățile și resursele organizației de-a le valorifica; b) dezvoltarea capacităților organizației de-a identifica și de-a depăși riscurile și amenințările mediului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Prin urmare, strategia răspunde la întrebarea: </a:t>
            </a:r>
            <a:r>
              <a:rPr b="1" lang="ro-MD" sz="1800" spc="-1" strike="noStrike">
                <a:solidFill>
                  <a:srgbClr val="c00000"/>
                </a:solidFill>
                <a:latin typeface="Gill Sans MT"/>
              </a:rPr>
              <a:t>”Cum integrăm organizația în mediul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este orientată către viitor, dar este executată în present. Astfel, decidem ce trebuie să facem în present pentru a asigura afacerii succes în viit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Fiecare strategie are un ”orizont strategic” și se planifică pe un termen lung (mai mult de 1 a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NU ESTE STRATEGIE</a:t>
            </a:r>
            <a:endParaRPr b="0" lang="en-US" sz="2800" spc="-1" strike="noStrike">
              <a:solidFill>
                <a:srgbClr val="ffffff"/>
              </a:solidFill>
              <a:latin typeface="Gill Sans MT"/>
            </a:endParaRPr>
          </a:p>
        </p:txBody>
      </p:sp>
      <p:sp>
        <p:nvSpPr>
          <p:cNvPr id="906" name=""/>
          <p:cNvSpPr txBox="1"/>
          <p:nvPr/>
        </p:nvSpPr>
        <p:spPr>
          <a:xfrm>
            <a:off x="838080" y="2112480"/>
            <a:ext cx="10515600" cy="4351320"/>
          </a:xfrm>
          <a:prstGeom prst="rect">
            <a:avLst/>
          </a:prstGeom>
          <a:noFill/>
          <a:ln w="0">
            <a:noFill/>
          </a:ln>
        </p:spPr>
        <p:txBody>
          <a:bodyPr anchor="ctr">
            <a:normAutofit fontScale="94000"/>
          </a:bodyPr>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destinație sau un set de obiectiv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viziune sau o misiun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un proiect (managementul strategiei este un proces, care la anumite etape conține aspecte conceptuale și proiect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doar un plan (la o anumită etapă managementul strategic include și planificarea strategică, după cum vom afla în continuar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trebuie confundată cu eficiența operațională (poate fi unul din obiectivele strategic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fuziunea și/sau achiziția unei companii (reprezintă doar un instrument de diversificare a afacer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poate fi multiplicată și prezentată ”la pachet” (un business nu poate avea mai multe strateg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Nu există 2 strategii identice (strategia poate fi doar una singură pentru fiecare organizație în parte).</a:t>
            </a:r>
            <a:endParaRPr b="0" lang="en-US" sz="1800" spc="-1" strike="noStrike">
              <a:solidFill>
                <a:srgbClr val="3d3d3d"/>
              </a:solidFill>
              <a:latin typeface="Gill Sans MT"/>
            </a:endParaRPr>
          </a:p>
          <a:p>
            <a:pPr marL="286560" indent="-286560"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08"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it-IT" sz="1800" spc="-1" strike="noStrike">
                <a:solidFill>
                  <a:srgbClr val="3d3d3d"/>
                </a:solidFill>
                <a:latin typeface="Gill Sans MT"/>
              </a:rPr>
              <a:t>5</a:t>
            </a:r>
            <a:r>
              <a:rPr b="0" lang="it-IT" sz="1800" spc="-1" strike="noStrike">
                <a:solidFill>
                  <a:srgbClr val="3d3d3d"/>
                </a:solidFill>
                <a:latin typeface="Gill Sans MT"/>
              </a:rPr>
              <a:t> </a:t>
            </a:r>
            <a:r>
              <a:rPr b="1" lang="it-IT" sz="1800" spc="-1" strike="noStrike">
                <a:solidFill>
                  <a:srgbClr val="3d3d3d"/>
                </a:solidFill>
                <a:latin typeface="Gill Sans MT"/>
              </a:rPr>
              <a:t>MOTIVE IMPORTANTE PENTRU DEZVOLTAREA UNEI STRATEGII DE AFACERI</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10" name=""/>
          <p:cNvSpPr txBox="1"/>
          <p:nvPr/>
        </p:nvSpPr>
        <p:spPr>
          <a:xfrm>
            <a:off x="838080" y="2112480"/>
            <a:ext cx="10515600" cy="4351320"/>
          </a:xfrm>
          <a:prstGeom prst="rect">
            <a:avLst/>
          </a:prstGeom>
          <a:noFill/>
          <a:ln w="0">
            <a:noFill/>
          </a:ln>
        </p:spPr>
        <p:txBody>
          <a:bodyPr anchor="ctr">
            <a:normAutofit/>
          </a:bodyPr>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Setarea direcției de dezvoltare și a priorităților.</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 </a:t>
            </a:r>
            <a:r>
              <a:rPr b="1" lang="it-IT" sz="1800" spc="-1" strike="noStrike">
                <a:solidFill>
                  <a:srgbClr val="3d3d3d"/>
                </a:solidFill>
                <a:latin typeface="Gill Sans MT"/>
              </a:rPr>
              <a:t>Asigurarea unei dezvoltări durabile 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ro-MD" sz="1800" spc="-1" strike="noStrike">
                <a:solidFill>
                  <a:srgbClr val="3d3d3d"/>
                </a:solidFill>
                <a:latin typeface="Gill Sans MT"/>
              </a:rPr>
              <a:t>Îmbunătățirea procesului decizional.</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Alinierea resurselor organizației la realizarea obiectivelor strategice.</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Strategia permite schimbarea abordării în gestiune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43080" indent="-343080"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1087560"/>
            <a:ext cx="10515600" cy="583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r>
              <a:rPr b="1" lang="ro-RO" sz="2500" spc="-1" strike="noStrike">
                <a:solidFill>
                  <a:srgbClr val="ffffff"/>
                </a:solidFill>
                <a:latin typeface="Gill Sans MT"/>
              </a:rPr>
              <a:t>MANAGEMENTUL STRATEGIC</a:t>
            </a:r>
            <a:endParaRPr b="0" lang="en-US" sz="2500" spc="-1" strike="noStrike">
              <a:solidFill>
                <a:srgbClr val="ffffff"/>
              </a:solidFill>
              <a:latin typeface="Gill Sans MT"/>
            </a:endParaRPr>
          </a:p>
        </p:txBody>
      </p:sp>
      <p:sp>
        <p:nvSpPr>
          <p:cNvPr id="912" name=""/>
          <p:cNvSpPr txBox="1"/>
          <p:nvPr/>
        </p:nvSpPr>
        <p:spPr>
          <a:xfrm>
            <a:off x="838080" y="2412720"/>
            <a:ext cx="10515600" cy="2384280"/>
          </a:xfrm>
          <a:prstGeom prst="rect">
            <a:avLst/>
          </a:prstGeom>
          <a:noFill/>
          <a:ln w="0">
            <a:noFill/>
          </a:ln>
        </p:spPr>
        <p:txBody>
          <a:bodyPr anchor="ctr">
            <a:normAutofit/>
          </a:bodyPr>
          <a:p>
            <a:pPr algn="just">
              <a:lnSpc>
                <a:spcPct val="9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a:solidFill>
                  <a:srgbClr val="3d3d3d"/>
                </a:solidFill>
                <a:latin typeface="Gill Sans MT"/>
              </a:rPr>
              <a:t>Managementul strategic </a:t>
            </a:r>
            <a:r>
              <a:rPr b="0" lang="ro-MD" sz="3200" spc="-1" strike="noStrike">
                <a:solidFill>
                  <a:srgbClr val="3d3d3d"/>
                </a:solidFill>
                <a:latin typeface="Gill Sans MT"/>
              </a:rPr>
              <a:t>este un proces de luare și realizare a </a:t>
            </a:r>
            <a:r>
              <a:rPr b="0" i="1" lang="ro-MD" sz="3200" spc="-1" strike="noStrike">
                <a:solidFill>
                  <a:srgbClr val="3d3d3d"/>
                </a:solidFill>
                <a:latin typeface="Gill Sans MT"/>
              </a:rPr>
              <a:t>deciziilor strategice, la baza căruia este alegerea strategică, bazată pe utilizarea potențialului de resurse propriu ale întreprinderii și oportunitățile și pericolele mediului extern în care acesta activează.</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706"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Gill Sans MT"/>
              </a:rPr>
              <a:t>MANAGEMENTUL STRATEGIC</a:t>
            </a:r>
            <a:endParaRPr b="0" lang="en-US" sz="2800" spc="-1" strike="noStrike">
              <a:solidFill>
                <a:srgbClr val="ffffff"/>
              </a:solidFill>
              <a:latin typeface="Gill Sans MT"/>
            </a:endParaRPr>
          </a:p>
        </p:txBody>
      </p:sp>
      <p:sp>
        <p:nvSpPr>
          <p:cNvPr id="914" name=""/>
          <p:cNvSpPr txBox="1"/>
          <p:nvPr/>
        </p:nvSpPr>
        <p:spPr>
          <a:xfrm>
            <a:off x="838080" y="2112480"/>
            <a:ext cx="10515600" cy="43513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Managementul strategic se deosebeşte de gestiunea tradiţională a organizaţiei prin abordările netradiţionale şi </a:t>
            </a:r>
            <a:r>
              <a:rPr b="1" lang="ro-MD" sz="2800" spc="-1" strike="noStrike">
                <a:solidFill>
                  <a:srgbClr val="ff0000"/>
                </a:solidFill>
                <a:latin typeface="Gill Sans MT"/>
              </a:rPr>
              <a:t>deciziile inovatoare care deseori întâmpină rezistenţă</a:t>
            </a:r>
            <a:r>
              <a:rPr b="0" lang="ro-MD" sz="2800" spc="-1" strike="noStrike">
                <a:solidFill>
                  <a:srgbClr val="3d3d3d"/>
                </a:solidFill>
                <a:latin typeface="Gill Sans MT"/>
              </a:rPr>
              <a:t>.</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 </a:t>
            </a:r>
            <a:r>
              <a:rPr b="0" lang="ro-MD" sz="2800" spc="-1" strike="noStrike">
                <a:solidFill>
                  <a:srgbClr val="3d3d3d"/>
                </a:solidFill>
                <a:latin typeface="Gill Sans MT"/>
              </a:rPr>
              <a:t>În condiţiile când activitatea economică se desfăşoară într-un mediu social-economic variabil şi nestabil, sarcina asigurării fiabilităţii şi dezvoltării continue devine primordială. </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CasetăText 3"/>
          <p:cNvSpPr/>
          <p:nvPr/>
        </p:nvSpPr>
        <p:spPr>
          <a:xfrm>
            <a:off x="433440" y="1584360"/>
            <a:ext cx="7688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ffff"/>
                </a:solidFill>
                <a:latin typeface="Calibri Light"/>
                <a:ea typeface="Times New Roman"/>
              </a:rPr>
              <a:t>Inovațiile sunt importante în creșterea finanțării, deoarece acestea se referă la caracterul diferențiat și unic al noii companii din domeniul antreprenoriatului social. Este important de evidențiat că inovațiile au legătură nu doar cu tehnologia, dar și cu valorile sociale și economice pe care le creează.</a:t>
            </a:r>
            <a:endParaRPr b="0" lang="en-US" sz="2800" spc="-1" strike="noStrike">
              <a:solidFill>
                <a:srgbClr val="000000"/>
              </a:solidFill>
              <a:latin typeface="Gill Sans M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Line 3"/>
          <p:cNvSpPr/>
          <p:nvPr/>
        </p:nvSpPr>
        <p:spPr>
          <a:xfrm>
            <a:off x="3048120" y="914400"/>
            <a:ext cx="7238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7" name="Line 5"/>
          <p:cNvSpPr/>
          <p:nvPr/>
        </p:nvSpPr>
        <p:spPr>
          <a:xfrm>
            <a:off x="3124080" y="1066680"/>
            <a:ext cx="70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8" name="Line 9"/>
          <p:cNvSpPr/>
          <p:nvPr/>
        </p:nvSpPr>
        <p:spPr>
          <a:xfrm>
            <a:off x="1523880" y="6477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9" name="Text Box 11"/>
          <p:cNvSpPr/>
          <p:nvPr/>
        </p:nvSpPr>
        <p:spPr>
          <a:xfrm>
            <a:off x="3413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20" name="Text Box 12"/>
          <p:cNvSpPr/>
          <p:nvPr/>
        </p:nvSpPr>
        <p:spPr>
          <a:xfrm>
            <a:off x="2720520" y="60480"/>
            <a:ext cx="7881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Times New Roman"/>
              </a:rPr>
              <a:t>  </a:t>
            </a:r>
            <a:r>
              <a:rPr b="1" lang="ro-RO" sz="2400" spc="-1" strike="noStrike">
                <a:solidFill>
                  <a:srgbClr val="00b050"/>
                </a:solidFill>
                <a:latin typeface="Times New Roman"/>
              </a:rPr>
              <a:t>Managementului strategic răspunde la întrebările:</a:t>
            </a:r>
            <a:endParaRPr b="0" lang="en-US" sz="2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Times New Roman"/>
              </a:rPr>
              <a:t>Care se doreşte să fie afacerea? Unde se doreşte de ajuns? Cum se doreşte de ajuns?</a:t>
            </a:r>
            <a:endParaRPr b="0" lang="en-US" sz="1800" spc="-1" strike="noStrike">
              <a:solidFill>
                <a:srgbClr val="000000"/>
              </a:solidFill>
              <a:latin typeface="Gill Sans MT"/>
            </a:endParaRPr>
          </a:p>
        </p:txBody>
      </p:sp>
      <p:sp>
        <p:nvSpPr>
          <p:cNvPr id="921" name="Text Box 13"/>
          <p:cNvSpPr/>
          <p:nvPr/>
        </p:nvSpPr>
        <p:spPr>
          <a:xfrm>
            <a:off x="1599840" y="1638360"/>
            <a:ext cx="1639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Misiunea</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Care se doreşte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să fie afacerea</a:t>
            </a:r>
            <a:r>
              <a:rPr b="0" lang="ro-RO" sz="1800" spc="-1" strike="noStrike">
                <a:solidFill>
                  <a:srgbClr val="000000"/>
                </a:solidFill>
                <a:latin typeface="Times New Roman"/>
              </a:rPr>
              <a:t>?</a:t>
            </a:r>
            <a:endParaRPr b="0" lang="en-US" sz="1800" spc="-1" strike="noStrike">
              <a:solidFill>
                <a:srgbClr val="000000"/>
              </a:solidFill>
              <a:latin typeface="Gill Sans MT"/>
            </a:endParaRPr>
          </a:p>
        </p:txBody>
      </p:sp>
      <p:sp>
        <p:nvSpPr>
          <p:cNvPr id="922" name="Line 14"/>
          <p:cNvSpPr/>
          <p:nvPr/>
        </p:nvSpPr>
        <p:spPr>
          <a:xfrm>
            <a:off x="3200400" y="12952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3" name="Text Box 15"/>
          <p:cNvSpPr/>
          <p:nvPr/>
        </p:nvSpPr>
        <p:spPr>
          <a:xfrm>
            <a:off x="3345480" y="1306440"/>
            <a:ext cx="706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enunţare cuprinzătoare a scopurilor fundamentale şi concepţiei (filozofiei) privind evoluţia şi</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sfăşurarea activităţilor firmei, prin care se diferenţiază de întreprinderile similare şi din c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curge sfera sau domeniul de activitate şi piaţa de desfacere”</a:t>
            </a:r>
            <a:endParaRPr b="0" lang="en-US" sz="1400" spc="-1" strike="noStrike">
              <a:solidFill>
                <a:srgbClr val="000000"/>
              </a:solidFill>
              <a:latin typeface="Gill Sans MT"/>
            </a:endParaRPr>
          </a:p>
        </p:txBody>
      </p:sp>
      <p:sp>
        <p:nvSpPr>
          <p:cNvPr id="924" name="Text Box 16"/>
          <p:cNvSpPr/>
          <p:nvPr/>
        </p:nvSpPr>
        <p:spPr>
          <a:xfrm>
            <a:off x="3263760" y="2133720"/>
            <a:ext cx="748044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formularea misiunii trebuie să conţină următoarel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Sarcina firmei din punct de vedere al produselor şi serviciilor.</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Mediul extern în raport cu firma, care determină principiile ei de activitat</a:t>
            </a:r>
            <a:r>
              <a:rPr b="0" lang="ro-RO" sz="1400" spc="-1" strike="noStrike">
                <a:solidFill>
                  <a:srgbClr val="000000"/>
                </a:solidFill>
                <a:latin typeface="Times New Roman"/>
              </a:rPr>
              <a:t>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Cultura organizaţiei. Tipul climatului existent în cadrul firmei. </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Tipul clientelei atrasă de acest climat.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Gill Sans MT"/>
            </a:endParaRPr>
          </a:p>
        </p:txBody>
      </p:sp>
      <p:sp>
        <p:nvSpPr>
          <p:cNvPr id="925" name="Line 17"/>
          <p:cNvSpPr/>
          <p:nvPr/>
        </p:nvSpPr>
        <p:spPr>
          <a:xfrm>
            <a:off x="1828800" y="34290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6" name="Text Box 18"/>
          <p:cNvSpPr/>
          <p:nvPr/>
        </p:nvSpPr>
        <p:spPr>
          <a:xfrm>
            <a:off x="1518840" y="3848040"/>
            <a:ext cx="171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Obiectivel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Unde se doreşt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 </a:t>
            </a:r>
            <a:r>
              <a:rPr b="1" lang="ro-RO" sz="1800" spc="-1" strike="noStrike">
                <a:solidFill>
                  <a:srgbClr val="00b050"/>
                </a:solidFill>
                <a:latin typeface="Times New Roman"/>
              </a:rPr>
              <a:t>de ajuns?</a:t>
            </a:r>
            <a:endParaRPr b="0" lang="en-US" sz="1800" spc="-1" strike="noStrike">
              <a:solidFill>
                <a:srgbClr val="000000"/>
              </a:solidFill>
              <a:latin typeface="Gill Sans MT"/>
            </a:endParaRPr>
          </a:p>
        </p:txBody>
      </p:sp>
      <p:sp>
        <p:nvSpPr>
          <p:cNvPr id="927" name="Text Box 19"/>
          <p:cNvSpPr/>
          <p:nvPr/>
        </p:nvSpPr>
        <p:spPr>
          <a:xfrm>
            <a:off x="3276360" y="3429000"/>
            <a:ext cx="7322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formularea a ceea ce este de realizat”</a:t>
            </a:r>
            <a:r>
              <a:rPr b="0" lang="ro-RO" sz="1400" spc="-1" strike="noStrike">
                <a:solidFill>
                  <a:srgbClr val="000000"/>
                </a:solidFill>
                <a:latin typeface="Times New Roman"/>
              </a:rPr>
              <a:t>,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rezultate căutate sau situaţii finale, concrete pe care şi le doreşte să le obţină un grup în procesul</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de colabor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 exprimă formularea calitativă sau cantitativă a rezultatului dorit pentru perioade de timp fixate.</a:t>
            </a:r>
            <a:endParaRPr b="0" lang="en-US" sz="1400" spc="-1" strike="noStrike">
              <a:solidFill>
                <a:srgbClr val="000000"/>
              </a:solidFill>
              <a:latin typeface="Gill Sans MT"/>
            </a:endParaRPr>
          </a:p>
        </p:txBody>
      </p:sp>
      <p:sp>
        <p:nvSpPr>
          <p:cNvPr id="928" name="Text Box 20"/>
          <p:cNvSpPr/>
          <p:nvPr/>
        </p:nvSpPr>
        <p:spPr>
          <a:xfrm>
            <a:off x="3272400" y="4500720"/>
            <a:ext cx="7293240" cy="1372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Procesul de formulare a obiectivelor conţine următoarele etape:</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Identificarea domeniilor principale de activitate, pentru care se vor determina obiectivele.</a:t>
            </a:r>
            <a:r>
              <a:rPr b="0" lang="ru-RU" sz="1400" spc="-1" strike="noStrike">
                <a:solidFill>
                  <a:srgbClr val="000000"/>
                </a:solidFill>
                <a:latin typeface="Times New Roman"/>
              </a:rPr>
              <a:t> </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Determinarea orizontului de timp este în funcţie de stabilitatea mediului de activitate şi dina</a:t>
            </a:r>
            <a:r>
              <a:rPr b="0" lang="ro-RO" sz="1400" spc="-1" strike="noStrike">
                <a:solidFill>
                  <a:srgbClr val="000000"/>
                </a:solidFill>
                <a:latin typeface="Times New Roman"/>
              </a:rPr>
              <a:t>-</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          </a:t>
            </a:r>
            <a:r>
              <a:rPr b="0" lang="ro-RO" sz="1400" spc="-1" strike="noStrike">
                <a:solidFill>
                  <a:srgbClr val="000000"/>
                </a:solidFill>
                <a:latin typeface="Times New Roman"/>
                <a:ea typeface="Times New Roman"/>
              </a:rPr>
              <a:t>mismul schimbării în ramură.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3.      </a:t>
            </a:r>
            <a:r>
              <a:rPr b="0" lang="ro-RO" sz="1400" spc="-1" strike="noStrike">
                <a:solidFill>
                  <a:srgbClr val="000000"/>
                </a:solidFill>
                <a:latin typeface="Times New Roman"/>
                <a:ea typeface="Times New Roman"/>
              </a:rPr>
              <a:t>Determinarea magnitudinii obiectivelor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4.      </a:t>
            </a:r>
            <a:r>
              <a:rPr b="0" lang="ro-RO" sz="1400" spc="-1" strike="noStrike">
                <a:solidFill>
                  <a:srgbClr val="000000"/>
                </a:solidFill>
                <a:latin typeface="Times New Roman"/>
                <a:ea typeface="Times New Roman"/>
              </a:rPr>
              <a:t>Punerea obiectivelor într-o formă scrisă. </a:t>
            </a:r>
            <a:endParaRPr b="0" lang="en-US" sz="1400" spc="-1" strike="noStrike">
              <a:solidFill>
                <a:srgbClr val="000000"/>
              </a:solidFill>
              <a:latin typeface="Gill Sans MT"/>
            </a:endParaRPr>
          </a:p>
        </p:txBody>
      </p:sp>
      <p:sp>
        <p:nvSpPr>
          <p:cNvPr id="929" name="Text Box 21"/>
          <p:cNvSpPr/>
          <p:nvPr/>
        </p:nvSpPr>
        <p:spPr>
          <a:xfrm>
            <a:off x="3429000" y="56498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0" name="Text Box 22"/>
          <p:cNvSpPr/>
          <p:nvPr/>
        </p:nvSpPr>
        <p:spPr>
          <a:xfrm>
            <a:off x="3379680" y="5977080"/>
            <a:ext cx="705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rPr>
              <a:t>Obiectivele trebuie </a:t>
            </a:r>
            <a:r>
              <a:rPr b="0" lang="ro-RO" sz="1400" spc="-1" strike="noStrike">
                <a:solidFill>
                  <a:srgbClr val="000000"/>
                </a:solidFill>
                <a:latin typeface="Times New Roman"/>
                <a:ea typeface="Times New Roman"/>
              </a:rPr>
              <a:t>să fie concrete şi măsurabile, să fie realizabile, sa nu să se excludă reciproc,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să fie mobilizatoare. </a:t>
            </a:r>
            <a:r>
              <a:rPr b="0" lang="ro-RO" sz="1400" spc="-1" strike="noStrike">
                <a:solidFill>
                  <a:srgbClr val="000000"/>
                </a:solidFill>
                <a:latin typeface="Times New Roman"/>
              </a:rPr>
              <a:t>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unității de business este dezvoltată în cadrul unei întreprinderi, care activează pe o singură piață împotriva unui singur set de concurenți. Scopul principal al strategiei întreprinderii este asigurarea unei dezvoltări durabile pe viitor, dezvoltarea avantajelor concurențiale pe termen lung și întărirea poziției firmei pe piață.</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Dezvoltarea strategiei întreprinderii, care include de regulă următoarele activități, divizate în </a:t>
            </a:r>
            <a:r>
              <a:rPr b="1" lang="ro-MD" sz="1800" spc="-1" strike="noStrike">
                <a:solidFill>
                  <a:srgbClr val="3d3d3d"/>
                </a:solidFill>
                <a:latin typeface="Gill Sans MT"/>
              </a:rPr>
              <a:t>3 etape consecutiv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4" name=""/>
          <p:cNvSpPr txBox="1"/>
          <p:nvPr/>
        </p:nvSpPr>
        <p:spPr>
          <a:xfrm>
            <a:off x="838080" y="211248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1. Analiza strategică. </a:t>
            </a:r>
            <a:r>
              <a:rPr b="0" lang="ro-MD" sz="1600" spc="-1" strike="noStrike">
                <a:solidFill>
                  <a:srgbClr val="3d3d3d"/>
                </a:solidFill>
                <a:latin typeface="Gill Sans MT"/>
              </a:rPr>
              <a:t>Etapa include (dar nu se limitează la) analiza: pieței și sectorului, mediului concurențial și clienților, i resurselor întreprinderii; poziției întreprinderii pe piață; avantajelor și dezavantajele întreprinderii față de concurenți; oportunităților și amenințărilor mediului extern; etc.</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2. Formularea strategiei. </a:t>
            </a:r>
            <a:r>
              <a:rPr b="0" lang="ro-MD" sz="1600" spc="-1" strike="noStrike">
                <a:solidFill>
                  <a:srgbClr val="3d3d3d"/>
                </a:solidFill>
                <a:latin typeface="Gill Sans MT"/>
              </a:rPr>
              <a:t>Etapa include activități: formularea misiuni și viziunii; poziționarea întreprinderii; identificarea opțiunilor strategice și analiza lor; selectarea direcțiilor strategice de dezvoltare; identificarea modalităților de obținere a avantajelor concurențiale; definirea orizontului strategic și setarea obiectivelor strategice.</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3. Planificarea strategică include</a:t>
            </a:r>
            <a:r>
              <a:rPr b="0" lang="ro-MD" sz="1600" spc="-1" strike="noStrike">
                <a:solidFill>
                  <a:srgbClr val="3d3d3d"/>
                </a:solidFill>
                <a:latin typeface="Gill Sans MT"/>
              </a:rPr>
              <a:t>: a) prezentarea în ordine cronologică a tuturor acțiunilor și activităților necesare implementării strategiei; b) identificarea schimbărilor organizatorice, necesare executării strategiei; d) alinierea întregii organizații la implementarea strategiei; e) crearea de instrumente pentru monitorizarea implementării strategiei; f) determinarea necesarului de resurse și alcătuirea bugetulu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27"/>
          <p:cNvGrpSpPr/>
          <p:nvPr/>
        </p:nvGrpSpPr>
        <p:grpSpPr>
          <a:xfrm>
            <a:off x="1595520" y="1219320"/>
            <a:ext cx="8872560" cy="5038560"/>
            <a:chOff x="1595520" y="1219320"/>
            <a:chExt cx="8872560" cy="5038560"/>
          </a:xfrm>
        </p:grpSpPr>
        <p:sp>
          <p:nvSpPr>
            <p:cNvPr id="936" name="Text Box 8"/>
            <p:cNvSpPr/>
            <p:nvPr/>
          </p:nvSpPr>
          <p:spPr>
            <a:xfrm>
              <a:off x="3124440" y="121932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Elaborare</a:t>
              </a:r>
              <a:endParaRPr b="0" lang="en-US" sz="2400" spc="-1" strike="noStrike">
                <a:solidFill>
                  <a:srgbClr val="000000"/>
                </a:solidFill>
                <a:latin typeface="Gill Sans MT"/>
              </a:endParaRPr>
            </a:p>
          </p:txBody>
        </p:sp>
        <p:sp>
          <p:nvSpPr>
            <p:cNvPr id="937" name="Text Box 9"/>
            <p:cNvSpPr/>
            <p:nvPr/>
          </p:nvSpPr>
          <p:spPr>
            <a:xfrm>
              <a:off x="6734160" y="121932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Implementare</a:t>
              </a:r>
              <a:endParaRPr b="0" lang="en-US" sz="2400" spc="-1" strike="noStrike">
                <a:solidFill>
                  <a:srgbClr val="000000"/>
                </a:solidFill>
                <a:latin typeface="Gill Sans MT"/>
              </a:endParaRPr>
            </a:p>
          </p:txBody>
        </p:sp>
        <p:sp>
          <p:nvSpPr>
            <p:cNvPr id="938" name="Text Box 10"/>
            <p:cNvSpPr/>
            <p:nvPr/>
          </p:nvSpPr>
          <p:spPr>
            <a:xfrm>
              <a:off x="9125280" y="1219320"/>
              <a:ext cx="1342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Control</a:t>
              </a:r>
              <a:endParaRPr b="0" lang="en-US" sz="2400" spc="-1" strike="noStrike">
                <a:solidFill>
                  <a:srgbClr val="000000"/>
                </a:solidFill>
                <a:latin typeface="Gill Sans MT"/>
              </a:endParaRPr>
            </a:p>
          </p:txBody>
        </p:sp>
        <p:sp>
          <p:nvSpPr>
            <p:cNvPr id="939" name="Text Box 11"/>
            <p:cNvSpPr/>
            <p:nvPr/>
          </p:nvSpPr>
          <p:spPr>
            <a:xfrm>
              <a:off x="1911240" y="2133720"/>
              <a:ext cx="1800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Fundament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ei</a:t>
              </a:r>
              <a:endParaRPr b="0" lang="en-US" sz="1800" spc="-1" strike="noStrike">
                <a:solidFill>
                  <a:srgbClr val="000000"/>
                </a:solidFill>
                <a:latin typeface="Gill Sans MT"/>
              </a:endParaRPr>
            </a:p>
          </p:txBody>
        </p:sp>
        <p:sp>
          <p:nvSpPr>
            <p:cNvPr id="940" name="Text Box 12"/>
            <p:cNvSpPr/>
            <p:nvPr/>
          </p:nvSpPr>
          <p:spPr>
            <a:xfrm>
              <a:off x="4531320" y="2000160"/>
              <a:ext cx="1422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Planific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că</a:t>
              </a:r>
              <a:endParaRPr b="0" lang="en-US" sz="1800" spc="-1" strike="noStrike">
                <a:solidFill>
                  <a:srgbClr val="000000"/>
                </a:solidFill>
                <a:latin typeface="Gill Sans MT"/>
              </a:endParaRPr>
            </a:p>
          </p:txBody>
        </p:sp>
        <p:sp>
          <p:nvSpPr>
            <p:cNvPr id="941" name="Text Box 13"/>
            <p:cNvSpPr/>
            <p:nvPr/>
          </p:nvSpPr>
          <p:spPr>
            <a:xfrm>
              <a:off x="1595520" y="3071880"/>
              <a:ext cx="20718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mediului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ex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potențialului in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ilul de viață a pieței, produselo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942" name="Text Box 14"/>
            <p:cNvSpPr/>
            <p:nvPr/>
          </p:nvSpPr>
          <p:spPr>
            <a:xfrm>
              <a:off x="3733920" y="3000240"/>
              <a:ext cx="286236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definirea misiunii;</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tabilirea obiectivelor strat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gic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dimensionarea resurselor n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es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ursele de finanţ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urnizorii de materie primă, materiale, condiţiile de asigur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ixarea termenilor de realiz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punerea în formă scrisă a str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tegiei şi aducerea la cunoştinţ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rincipalilor actori.</a:t>
              </a:r>
              <a:endParaRPr b="0" lang="en-US" sz="1600" spc="-1" strike="noStrike">
                <a:solidFill>
                  <a:srgbClr val="000000"/>
                </a:solidFill>
                <a:latin typeface="Gill Sans MT"/>
              </a:endParaRPr>
            </a:p>
          </p:txBody>
        </p:sp>
        <p:sp>
          <p:nvSpPr>
            <p:cNvPr id="943" name="Text Box 16"/>
            <p:cNvSpPr/>
            <p:nvPr/>
          </p:nvSpPr>
          <p:spPr>
            <a:xfrm>
              <a:off x="6739200" y="1996920"/>
              <a:ext cx="25988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remodelarea generală sau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arţială a sistemului d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management;</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daptarea structurii org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nizaţionale cu opţiune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strategic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pregătirea climatului din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adrul firmei;</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laborarea şi implementarea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lanului operaţional.</a:t>
              </a:r>
              <a:endParaRPr b="0" lang="en-US" sz="1600" spc="-1" strike="noStrike">
                <a:solidFill>
                  <a:srgbClr val="000000"/>
                </a:solidFill>
                <a:latin typeface="Gill Sans MT"/>
              </a:endParaRPr>
            </a:p>
          </p:txBody>
        </p:sp>
        <p:sp>
          <p:nvSpPr>
            <p:cNvPr id="944" name="Line 17"/>
            <p:cNvSpPr/>
            <p:nvPr/>
          </p:nvSpPr>
          <p:spPr>
            <a:xfrm>
              <a:off x="4496040" y="1447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5" name="Line 18"/>
            <p:cNvSpPr/>
            <p:nvPr/>
          </p:nvSpPr>
          <p:spPr>
            <a:xfrm flipH="1">
              <a:off x="2895480" y="16765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6" name="Line 19"/>
            <p:cNvSpPr/>
            <p:nvPr/>
          </p:nvSpPr>
          <p:spPr>
            <a:xfrm>
              <a:off x="3657960" y="1676520"/>
              <a:ext cx="1581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7" name="Line 20"/>
            <p:cNvSpPr/>
            <p:nvPr/>
          </p:nvSpPr>
          <p:spPr>
            <a:xfrm>
              <a:off x="274356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8" name="Line 21"/>
            <p:cNvSpPr/>
            <p:nvPr/>
          </p:nvSpPr>
          <p:spPr>
            <a:xfrm flipH="1">
              <a:off x="5238720" y="2643120"/>
              <a:ext cx="190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9" name="Line 22"/>
            <p:cNvSpPr/>
            <p:nvPr/>
          </p:nvSpPr>
          <p:spPr>
            <a:xfrm>
              <a:off x="754416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0" name="Text Box 23"/>
            <p:cNvSpPr/>
            <p:nvPr/>
          </p:nvSpPr>
          <p:spPr>
            <a:xfrm>
              <a:off x="7792200" y="5029200"/>
              <a:ext cx="26100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ne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valuarea strategiei</a:t>
              </a:r>
              <a:endParaRPr b="0" lang="en-US" sz="1600" spc="-1" strike="noStrike">
                <a:solidFill>
                  <a:srgbClr val="000000"/>
                </a:solidFill>
                <a:latin typeface="Gill Sans MT"/>
              </a:endParaRPr>
            </a:p>
          </p:txBody>
        </p:sp>
        <p:sp>
          <p:nvSpPr>
            <p:cNvPr id="951" name="Line 24"/>
            <p:cNvSpPr/>
            <p:nvPr/>
          </p:nvSpPr>
          <p:spPr>
            <a:xfrm>
              <a:off x="9753840" y="16765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2" name="Line 25"/>
            <p:cNvSpPr/>
            <p:nvPr/>
          </p:nvSpPr>
          <p:spPr>
            <a:xfrm>
              <a:off x="8610840" y="1447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953" name="Text Box 26"/>
          <p:cNvSpPr/>
          <p:nvPr/>
        </p:nvSpPr>
        <p:spPr>
          <a:xfrm>
            <a:off x="4056840" y="270000"/>
            <a:ext cx="554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44546a"/>
                </a:solidFill>
                <a:latin typeface="Times New Roman"/>
              </a:rPr>
              <a:t>Procesul strategic este continuu şi flexibi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81108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Fundamentarea strategiei</a:t>
            </a:r>
            <a:endParaRPr b="0" lang="en-US" sz="4400" spc="-1" strike="noStrike">
              <a:solidFill>
                <a:srgbClr val="000000"/>
              </a:solidFill>
              <a:latin typeface="Calibri Light"/>
            </a:endParaRPr>
          </a:p>
        </p:txBody>
      </p:sp>
      <p:sp>
        <p:nvSpPr>
          <p:cNvPr id="955" name=""/>
          <p:cNvSpPr txBox="1"/>
          <p:nvPr/>
        </p:nvSpPr>
        <p:spPr>
          <a:xfrm>
            <a:off x="838080" y="19411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200" spc="-1" strike="noStrike">
                <a:solidFill>
                  <a:srgbClr val="ff0000"/>
                </a:solidFill>
                <a:latin typeface="Calibri"/>
              </a:rPr>
              <a:t>1. Evaluarea mediului extern</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Calibri"/>
              </a:rPr>
              <a:t>Mediul extern reprezintă principalele forțe din afara organizației care au un impact potențial mare asupra succesului unor bunuri sau servicii pe care firma le realizează sau livreaz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Mediul extern = micromediul + macromediul</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acromediul</a:t>
            </a:r>
            <a:r>
              <a:rPr b="0" lang="ro-MD" sz="2800" spc="-1" strike="noStrike">
                <a:solidFill>
                  <a:srgbClr val="000000"/>
                </a:solidFill>
                <a:latin typeface="Calibri"/>
              </a:rPr>
              <a:t> – condițiile și tendințele largi ale societăților și economiilor în care firma operează în mediul internațional.</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icromediul</a:t>
            </a:r>
            <a:r>
              <a:rPr b="0" lang="ro-MD" sz="2800" spc="-1" strike="noStrike">
                <a:solidFill>
                  <a:srgbClr val="000000"/>
                </a:solidFill>
                <a:latin typeface="Calibri"/>
              </a:rPr>
              <a:t> – elementele specifice cu care firma vineîn contact, incluzând clienții, competitorii,furnizorii,instituțiile guvernamental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Forțele externe care influențează mediul de afaceri (Macromediul)</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econom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polit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social-cultural</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Tehnologia și inovare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ANALIZA PES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La nivel macroeconomic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POLIT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ECONOM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SOCIO - CULTURAL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TEHNOLOGICI</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08"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1a3260"/>
                </a:solidFill>
                <a:latin typeface="Gill Sans MT"/>
              </a:rPr>
              <a:t>Bunăstarea ființei umane, ca individ și ca membru al comunității, este obiectivul final al economiei.</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Papa Ioan Paul al II-lea,</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Sollicitudo rei Socialis, 1987</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Politic: </a:t>
            </a:r>
            <a:r>
              <a:rPr b="0" lang="ro-MD" sz="2800" spc="-1" strike="noStrike">
                <a:solidFill>
                  <a:srgbClr val="000000"/>
                </a:solidFill>
                <a:latin typeface="Calibri"/>
              </a:rPr>
              <a:t>ceea ce se întâmplă în mediul politic în care operează întreprinderea, politica fiscală, ocuparea forţei de muncă, reglementările de mediu, comerţ, stabilitate politic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70ad47"/>
                </a:solidFill>
                <a:latin typeface="Calibri"/>
              </a:rPr>
              <a:t>Economic:</a:t>
            </a:r>
            <a:r>
              <a:rPr b="1" lang="ro-MD" sz="2800" spc="-1" strike="noStrike">
                <a:solidFill>
                  <a:srgbClr val="000000"/>
                </a:solidFill>
                <a:latin typeface="Calibri"/>
              </a:rPr>
              <a:t> </a:t>
            </a:r>
            <a:r>
              <a:rPr b="0" lang="ro-MD" sz="2800" spc="-1" strike="noStrike">
                <a:solidFill>
                  <a:srgbClr val="000000"/>
                </a:solidFill>
                <a:latin typeface="Calibri"/>
              </a:rPr>
              <a:t>creşterea economică, ratele dobânzilor, fluctuaţia cursului de schimb valutar, rata inflaţiei, salariile, salariul minim, orele de lucru, reglementările în domeniul şomajului, piaţa creditării, costul vieţii, etc. Mediul economic determină formarea cererii şi oferte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Socio – Cultural: </a:t>
            </a:r>
            <a:r>
              <a:rPr b="0" lang="ro-MD" sz="2800" spc="-1" strike="noStrike">
                <a:solidFill>
                  <a:srgbClr val="000000"/>
                </a:solidFill>
                <a:latin typeface="Calibri"/>
              </a:rPr>
              <a:t>populaţia reprezintă cererea; de aceea se iau în calcul variabile precum numărul său, speranţa medie de viaţă, rata natalității si cea a mortalității, etc.; </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Tehnologic:</a:t>
            </a:r>
            <a:r>
              <a:rPr b="0" lang="ro-MD" sz="2800" spc="-1" strike="noStrike">
                <a:solidFill>
                  <a:srgbClr val="000000"/>
                </a:solidFill>
                <a:latin typeface="Calibri"/>
              </a:rPr>
              <a:t> o firmă este influenţată şi de nivelul tehnologic din domeniul său de activi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5"/>
          <p:cNvSpPr/>
          <p:nvPr/>
        </p:nvSpPr>
        <p:spPr>
          <a:xfrm>
            <a:off x="2044800" y="711000"/>
            <a:ext cx="845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2800" spc="-1" strike="noStrike">
                <a:solidFill>
                  <a:srgbClr val="000000"/>
                </a:solidFill>
                <a:latin typeface="Bahnschrift"/>
                <a:ea typeface="Times New Roman"/>
              </a:rPr>
              <a:t>Analiza PEST</a:t>
            </a:r>
            <a:endParaRPr b="0" lang="en-US" sz="2800" spc="-1" strike="noStrike">
              <a:solidFill>
                <a:srgbClr val="000000"/>
              </a:solidFill>
              <a:latin typeface="Gill Sans MT"/>
            </a:endParaRPr>
          </a:p>
        </p:txBody>
      </p:sp>
      <p:sp>
        <p:nvSpPr>
          <p:cNvPr id="962" name="Rectangle 31"/>
          <p:cNvSpPr/>
          <p:nvPr/>
        </p:nvSpPr>
        <p:spPr>
          <a:xfrm>
            <a:off x="1523880" y="477216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3" name="Rectangle 38"/>
          <p:cNvSpPr/>
          <p:nvPr/>
        </p:nvSpPr>
        <p:spPr>
          <a:xfrm>
            <a:off x="1523880" y="1830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964" name=""/>
          <p:cNvGraphicFramePr/>
          <p:nvPr/>
        </p:nvGraphicFramePr>
        <p:xfrm>
          <a:off x="874800" y="1628640"/>
          <a:ext cx="10578960" cy="4896000"/>
        </p:xfrm>
        <a:graphic>
          <a:graphicData uri="http://schemas.openxmlformats.org/drawingml/2006/table">
            <a:tbl>
              <a:tblPr/>
              <a:tblGrid>
                <a:gridCol w="4929120"/>
                <a:gridCol w="5649840"/>
              </a:tblGrid>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Politice – leg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în vigo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european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omisiunile de schimb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apacitatea de implement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Structura organizaţion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Condiţii econom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Resursele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zvoltările aştepta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laţ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eţul energie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Furnizarea forţei de muncă</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Socio- cultur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mograf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Atitudine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ivelul educaţional</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bilitatea soci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Tehnolog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ercetări publ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oi invenţi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rastructura existent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dele de folosire a tehnologiilor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Tendinţe</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Analiza SWO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Calibri"/>
              </a:rPr>
              <a:t>Analiza SWOT</a:t>
            </a:r>
            <a:r>
              <a:rPr b="0" lang="ro-MD" sz="2400" spc="-1" strike="noStrike">
                <a:solidFill>
                  <a:srgbClr val="000000"/>
                </a:solidFill>
                <a:latin typeface="Calibri"/>
              </a:rPr>
              <a:t> este o metodă folosită în mediul de afaceri, pentru a ajuta la proiectarea unei viziuni de ansamblu asupra firme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Calibri"/>
              </a:rPr>
              <a:t>Ea funcționează ca o radiografie a firmei sau a ideii de afaceri și evaluează în același timp factorii de influență interni și externi ai unei organizații, precum și poziția acesteia pe piață sau în raport cu ceilalți competitori cu scopul de a pune în lumină punctele tari și slabe ale unei companii, în relație cu oportunitățile și amenințările existente la un moment dat pe piaț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Picture 1" descr=""/>
          <p:cNvPicPr/>
          <p:nvPr/>
        </p:nvPicPr>
        <p:blipFill>
          <a:blip r:embed="rId1"/>
          <a:stretch/>
        </p:blipFill>
        <p:spPr>
          <a:xfrm>
            <a:off x="1455840" y="654120"/>
            <a:ext cx="6243480" cy="5491080"/>
          </a:xfrm>
          <a:prstGeom prst="rect">
            <a:avLst/>
          </a:prstGeom>
          <a:ln w="0">
            <a:noFill/>
          </a:ln>
        </p:spPr>
      </p:pic>
      <p:sp>
        <p:nvSpPr>
          <p:cNvPr id="967" name="Right Arrow 4"/>
          <p:cNvSpPr/>
          <p:nvPr/>
        </p:nvSpPr>
        <p:spPr>
          <a:xfrm rot="10800000">
            <a:off x="7197840" y="4920840"/>
            <a:ext cx="2162160" cy="466920"/>
          </a:xfrm>
          <a:prstGeom prst="rightArrow">
            <a:avLst>
              <a:gd name="adj1" fmla="val 50000"/>
              <a:gd name="adj2" fmla="val 49973"/>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8" name="TextBox 7"/>
          <p:cNvSpPr/>
          <p:nvPr/>
        </p:nvSpPr>
        <p:spPr>
          <a:xfrm>
            <a:off x="9360000" y="4921200"/>
            <a:ext cx="238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70ad47"/>
                </a:solidFill>
                <a:latin typeface="Calibri"/>
              </a:rPr>
              <a:t>ANALIZA PES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1523880" y="1064880"/>
            <a:ext cx="8675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Arial"/>
                <a:ea typeface="Times New Roman"/>
              </a:rPr>
              <a:t>Analiza </a:t>
            </a:r>
            <a:r>
              <a:rPr b="1" lang="en-US" sz="2400" spc="-1" strike="noStrike">
                <a:solidFill>
                  <a:srgbClr val="000000"/>
                </a:solidFill>
                <a:latin typeface="Arial"/>
                <a:ea typeface="Times New Roman"/>
              </a:rPr>
              <a:t>SWOT</a:t>
            </a:r>
            <a:endParaRPr b="0" lang="en-US" sz="2400" spc="-1" strike="noStrike">
              <a:solidFill>
                <a:srgbClr val="000000"/>
              </a:solidFill>
              <a:latin typeface="Gill Sans MT"/>
            </a:endParaRPr>
          </a:p>
        </p:txBody>
      </p:sp>
      <p:sp>
        <p:nvSpPr>
          <p:cNvPr id="970" name="Rectangle 32"/>
          <p:cNvSpPr/>
          <p:nvPr/>
        </p:nvSpPr>
        <p:spPr>
          <a:xfrm>
            <a:off x="1523880" y="516096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971" name="Picture 2" descr="https://www.consultex.md/assets/images/blog/swot_2.jpg"/>
          <p:cNvPicPr/>
          <p:nvPr/>
        </p:nvPicPr>
        <p:blipFill>
          <a:blip r:embed="rId1"/>
          <a:stretch/>
        </p:blipFill>
        <p:spPr>
          <a:xfrm>
            <a:off x="1940040" y="561960"/>
            <a:ext cx="8062920" cy="6046920"/>
          </a:xfrm>
          <a:prstGeom prst="rect">
            <a:avLst/>
          </a:prstGeom>
          <a:ln w="0">
            <a:noFill/>
          </a:ln>
        </p:spPr>
      </p:pic>
      <p:sp>
        <p:nvSpPr>
          <p:cNvPr id="972" name="Rectangle 2"/>
          <p:cNvSpPr/>
          <p:nvPr/>
        </p:nvSpPr>
        <p:spPr>
          <a:xfrm>
            <a:off x="8016840" y="5975280"/>
            <a:ext cx="1874880" cy="47160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74"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1 Oportunităț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2  Amenințăr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6"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1. Firma (multe puncte forte, puține dezavantaje) / Mediul extern ( multe amenințări și riscur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această situație, deciziile strategice ale întreprinderii vor viza atenuarea amenințărilor mediului extern, utilizând avantajele și punctele forte ale firme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 diversificarea afacerii (dezvoltarea de noi produse/servicii, deservirea segmentelor noi de clienți, penetrarea în alte segmete de preț, penetrarea pe piețe conexe, penetrarea pe piețe independen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b) integrarea afacerii pe verticală sau orizontală.</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8"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2. Firma (puține puncte forte, multe dezavantaje) / Mediul extern favorabil (oportunități bu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asemenea condiții, se vor găsi soluții pentru compensarea punctelor slabe ale întreprinderii datorită oportunităților bune oferite de mediul extern. Astfel de soluții ar putea fi: crearea de parteneriate și/sau chiar întreprinderi mixte pentru a uni eforturile, activele și avantaje complimentare în câștigarea unor segmente/piețe promițătoare sau a beneficia de alte avantaje oferite de mediul exter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0"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3. Firma (multe puncte forte, puține dezavantaje) / Mediul extern favorabil ( multe oportunități, riscuri neânsemna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cea mai prielnică situație, în care soluția optimă este dezvoltarea intensivă a afacerii. Aceasta presupune valorificarea intensivă a oportunitățilr, utilizând avantajele și resursele abundente ale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Dezvoltarea armonioasă a economiei naţionale este condiţionată de asigurarea succesului economic bazat pe crearea unui mediu stimulator pentru schimbare şi inovaţ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În ultimii ani economia socială a devenit unul dintre cel mai frecvent abordate subiecte atât la nivel naţional cât şi internaţional. </a:t>
            </a:r>
            <a:endParaRPr b="0" lang="en-US" sz="2000" spc="-1" strike="noStrike">
              <a:solidFill>
                <a:srgbClr val="3d3d3d"/>
              </a:solidFill>
              <a:latin typeface="Gill Sans MT"/>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4. Firma (puține puncte forte, multe dezavantaje) / Mediul extern (multe amenințări și riscuri, oportunități mic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situația cea mai nefavorabilă. În asemenea condiție, soluțiile optime ar putea fi concentrarea eforturilor și a resurselor limitate ale firmei pe un segment îngust de piață (nișă) cu potențial de creștere pe viitor, conservarea afacerii sau falimentul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4"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c00000"/>
                </a:solidFill>
                <a:latin typeface="Gill Sans MT"/>
              </a:rPr>
              <a:t>IMPORTANT! </a:t>
            </a:r>
            <a:r>
              <a:rPr b="0" lang="ro-MD" sz="2400" spc="-1" strike="noStrike">
                <a:solidFill>
                  <a:srgbClr val="000000"/>
                </a:solidFill>
                <a:latin typeface="Gill Sans MT"/>
              </a:rPr>
              <a:t>Atât elaborarea strategiei întreprinderii, cât și alcătuirea analizei SWOT, ca instrument important al managementului strategic, intră în sfera de interes al managentului superior al întreprinderii,. Prin urmare, participarea managementului superior la alcătuirea analizei SWOT și formularea concluziilor este indispensabilă.</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POSIBILE GREȘELI LA ALCĂTUIREA ANALIZEI SWOT</a:t>
            </a:r>
            <a:endParaRPr b="0" lang="en-US" sz="2800" spc="-1" strike="noStrike">
              <a:solidFill>
                <a:srgbClr val="ffffff"/>
              </a:solidFill>
              <a:latin typeface="Gill Sans MT"/>
            </a:endParaRPr>
          </a:p>
        </p:txBody>
      </p:sp>
      <p:sp>
        <p:nvSpPr>
          <p:cNvPr id="986"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Alcătuirea analizei SWOT fără o cunoaștere bună a mediului extern al întreprinderii (piață; sector; factorii macroeconomici, politisociali, tehnologici, tendințe, etc.);</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sincerității și a unei abordări autocritice la identificarea neajunsurilor și dezavanajel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oportunități neadecvate (peste potențialul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amenințări și/sau riscuri cu o probabilitate foarte mică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Cadranele matricei SWOT sunt ”aglomerate” cu mulți factori lipsiți de importanță strategic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conducerii și a specialiștilor cheie la alcătuirea anaizei SWO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8" name=""/>
          <p:cNvSpPr txBox="1"/>
          <p:nvPr/>
        </p:nvSpPr>
        <p:spPr>
          <a:xfrm>
            <a:off x="838080" y="2112480"/>
            <a:ext cx="10515600" cy="43513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000" spc="-1" strike="noStrike">
                <a:solidFill>
                  <a:srgbClr val="c00000"/>
                </a:solidFill>
                <a:latin typeface="Gill Sans MT"/>
              </a:rPr>
              <a:t>Analiza SWOT </a:t>
            </a:r>
            <a:r>
              <a:rPr b="0" lang="ro-MD" sz="2000" spc="-1" strike="noStrike">
                <a:solidFill>
                  <a:srgbClr val="000000"/>
                </a:solidFill>
                <a:latin typeface="Gill Sans MT"/>
              </a:rPr>
              <a:t>poate fi folosită în orice fază a crizei – la început, pe parcurs și la sfârșitul crizei. Mai mult ca atât, factorii din analiza SWOT trebuie revizuiți și adaptați periodic la schimbările apărute. În cazul unei volatilități mari a mediului extern, managerii trebuie să fie permanent la curent cu poziția firmei în raport cu concurența și cu capacitatea resurselor firmei de-a face față provocărilor extern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000" spc="-1" strike="noStrike">
                <a:solidFill>
                  <a:srgbClr val="000000"/>
                </a:solidFill>
                <a:latin typeface="Gill Sans MT"/>
              </a:rPr>
              <a:t>Exersând în alcătuirea analizei SWOT, urmând metodologia descrisă, manegerii își vor îmbunătăți considerabil aptitudinile decizionale și vor obține un instrument important în gestiunea firmei pe timp de criz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0"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În limba chineză, hierogliful cuvântului criză este format din două caractere: unul înseamnă AMENINȚARE, iar celălalt înseamnă OPORTUNITATE. </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Hierogliful cuvântului „criză”, precum și modelul „yin și yang”, reflectă dualitatea situațiilor crit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Vechea regulă chineză „Regula Hi” spune: „În tot ce-i bine, trebuie să căutăm răul, dar în tot ce-i rău trebuie să căutăm bine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Conform filosofiei chineze ”Dao” (Calea), criza constă în interacțiunea a două polarități: „riscuri și pericole” la un pol și „oportunități și șanse” la polul opus. Ambele polarități se contopesc pe parcursul timpului: tot ce astăzi este perceput de noi că pericol, mâine poate deveni o oportunitate și invers.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Totul este relativ și depinde în mare parte de modul cum percepem mediul extern. Două persoane pot aborda același fenomen în mod diferit, în funcție de modul de gândire, temperament, convingeri, experiență de viață,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La ce să atragem atenția în primul rând?!</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Este foarte important să facem o delimitare clară între 2 abordări ce ține de oportunităț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1) Oportunități de-a supraviețui sau de-a păstra afacerea ”pe linia de plutire” în condițiile crizei, fapt care deja poate fi socotit un rezultat bun;</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2) Oportunități de-a dezvolta afacerea pe timp de criză (crearea avantajelor concurențiale pe termen lung și depășirea concurenților, diversificarea afacerii în sectoare conexe sau în sectoare absolut noi, lansarea unor produse/servicii în segmente noi,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6" name=""/>
          <p:cNvSpPr txBox="1"/>
          <p:nvPr/>
        </p:nvSpPr>
        <p:spPr>
          <a:xfrm>
            <a:off x="838080" y="180612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Pentru cei care caută oportunități pe timp de criză este important să ia în vedere că odată cu finalizarea carantinei, criza economică nu se va sfârși. Prin urmare vor exista </a:t>
            </a:r>
            <a:r>
              <a:rPr b="1" lang="ro-MD" sz="1600" spc="-1" strike="noStrike">
                <a:solidFill>
                  <a:srgbClr val="c00000"/>
                </a:solidFill>
                <a:latin typeface="Gill Sans MT"/>
              </a:rPr>
              <a:t>2 etape importante ale crize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1) Carantina, care impune rigorile sale și care, luând în considerație un scenariu optimist, va dura până-n iunie. Este perioada când multe afaceri își încetează complet activitatea, altele abea reușind să-și mențină activitatea.</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2) Criza economică de după carantină. Această etapă ar putea dura un timp mai îndelungat (circa 8-12 luni). După carantină consumul nu va fi cel de până la criză. Mulți consumatori se vor regăsi fără locuri de muncă, cu salarii reduse și/sau cu un nivel înalt de îndatorare. Sentimentul de incertitudine și neâncredere în ziua de mâine va spor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Oamenii vor cumpăra mai cumpătat (cel puțin la început), abținându-se de la procurarea produselor scumpe și care nu sunt de primă necesitate. Tot mai mulți vor prefera să cumpere on-line. Carantina, care a impus și o distanțare socială, va marca și comportamentul oamenilor în societate. Probabil, pentru început oamenii ar putea evita spațiile aglomerate, mai ales cele închise, cum ar fi centrele comerciale și evenimentele, care adună mulți vizitator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98" name=""/>
          <p:cNvSpPr txBox="1"/>
          <p:nvPr/>
        </p:nvSpPr>
        <p:spPr>
          <a:xfrm>
            <a:off x="838080" y="2112480"/>
            <a:ext cx="10515600" cy="4351320"/>
          </a:xfrm>
          <a:prstGeom prst="rect">
            <a:avLst/>
          </a:prstGeom>
          <a:noFill/>
          <a:ln w="0">
            <a:noFill/>
          </a:ln>
        </p:spPr>
        <p:txBody>
          <a:bodyPr anchor="ctr">
            <a:normAutofit/>
          </a:bodyPr>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3d3d3d"/>
                </a:solidFill>
                <a:latin typeface="Gill Sans MT"/>
              </a:rPr>
              <a:t>Care sunt principalele schimbări în nevoile și comportamentul consumatorilor pe timp de criză (în carantină și post-carantină)</a:t>
            </a:r>
            <a:endParaRPr b="0" lang="en-US" sz="2800" spc="-1" strike="noStrike">
              <a:solidFill>
                <a:srgbClr val="3d3d3d"/>
              </a:solidFill>
              <a:latin typeface="Gill Sans MT"/>
            </a:endParaRPr>
          </a:p>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5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0" name="Content Placeholder 4" descr=""/>
          <p:cNvPicPr/>
          <p:nvPr/>
        </p:nvPicPr>
        <p:blipFill>
          <a:blip r:embed="rId1"/>
          <a:stretch/>
        </p:blipFill>
        <p:spPr>
          <a:xfrm>
            <a:off x="444600" y="1133640"/>
            <a:ext cx="1150920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2"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Întreprinderile de </a:t>
            </a:r>
            <a:r>
              <a:rPr b="1" lang="sr-Latn-RS" sz="2400" spc="-1" strike="noStrike">
                <a:solidFill>
                  <a:srgbClr val="3d3d3d"/>
                </a:solidFill>
                <a:latin typeface="Gill Sans MT"/>
              </a:rPr>
              <a:t>economie socială plasează oamenii înaintea profiturilor.</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Ele abordează într-un mod inovator nevoile sociale, economice și ecologice ale societății, care nu și-au găsit o rezolvare adecvată prin acțiunile sectorului public și al celui priv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2" name="Content Placeholder 1" descr=""/>
          <p:cNvPicPr/>
          <p:nvPr/>
        </p:nvPicPr>
        <p:blipFill>
          <a:blip r:embed="rId1"/>
          <a:stretch/>
        </p:blipFill>
        <p:spPr>
          <a:xfrm>
            <a:off x="785880" y="1805040"/>
            <a:ext cx="10583640" cy="43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100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xistă o greșeală, pe care o fac mulți manageri și proprietari de afaceri. Atunci când vine vorba de dezvoltare, ne gândim adesea la categorii șablonate în ”hotarele” unei anumite întreprinderi, nișe, piețe.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realitate însă, pe piețele și/sau în nișele în care activăm, oportunitățile pot fi minime sau chiar să nu existe deloc. Prin urmare, atunci când suntem în căutarea de noi oportunități și/sau idei de dezvoltare, trebuie să depășim granițele mintale obișnuite, să avem o abordare complexă și să gândim într-un mod creativ și independen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923760" y="281160"/>
            <a:ext cx="10972800" cy="715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700" spc="-1" strike="noStrike">
                <a:solidFill>
                  <a:srgbClr val="ff0000"/>
                </a:solidFill>
                <a:latin typeface="Calibri Light"/>
              </a:rPr>
              <a:t>C</a:t>
            </a:r>
            <a:r>
              <a:rPr b="1" lang="pt-BR" sz="3700" spc="-1" strike="noStrike">
                <a:solidFill>
                  <a:srgbClr val="ff0000"/>
                </a:solidFill>
                <a:latin typeface="Calibri Light"/>
              </a:rPr>
              <a:t>ilul de viață a pieței, produselor</a:t>
            </a:r>
            <a:endParaRPr b="0" lang="en-US" sz="3700" spc="-1" strike="noStrike">
              <a:solidFill>
                <a:srgbClr val="000000"/>
              </a:solidFill>
              <a:latin typeface="Calibri Light"/>
            </a:endParaRPr>
          </a:p>
        </p:txBody>
      </p:sp>
      <p:pic>
        <p:nvPicPr>
          <p:cNvPr id="1006" name="Picture 3" descr=""/>
          <p:cNvPicPr/>
          <p:nvPr/>
        </p:nvPicPr>
        <p:blipFill>
          <a:blip r:embed="rId1"/>
          <a:stretch/>
        </p:blipFill>
        <p:spPr>
          <a:xfrm>
            <a:off x="2427120" y="1143000"/>
            <a:ext cx="7966080" cy="5194440"/>
          </a:xfrm>
          <a:prstGeom prst="rect">
            <a:avLst/>
          </a:prstGeom>
          <a:ln w="0">
            <a:noFill/>
          </a:ln>
        </p:spPr>
      </p:pic>
      <p:sp>
        <p:nvSpPr>
          <p:cNvPr id="1007" name="Rectangle 2"/>
          <p:cNvSpPr/>
          <p:nvPr/>
        </p:nvSpPr>
        <p:spPr>
          <a:xfrm>
            <a:off x="2614680" y="1434960"/>
            <a:ext cx="7591320" cy="67968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08" name="Rectangle 4"/>
          <p:cNvSpPr/>
          <p:nvPr/>
        </p:nvSpPr>
        <p:spPr>
          <a:xfrm>
            <a:off x="2614680" y="6245280"/>
            <a:ext cx="7591320" cy="18396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2 MOTIVE IMPORTANTE, CARE NEAPĂRAT TREBUIE LUATE ÎN CONSIDERAȚIE LA ELABORAREA STRATEGIEI:</a:t>
            </a:r>
            <a:endParaRPr b="0" lang="en-US" sz="2500" spc="-1" strike="noStrike">
              <a:solidFill>
                <a:srgbClr val="ffffff"/>
              </a:solidFill>
              <a:latin typeface="Gill Sans MT"/>
            </a:endParaRPr>
          </a:p>
        </p:txBody>
      </p:sp>
      <p:pic>
        <p:nvPicPr>
          <p:cNvPr id="1010" name="Content Placeholder 1" descr=""/>
          <p:cNvPicPr/>
          <p:nvPr/>
        </p:nvPicPr>
        <p:blipFill>
          <a:blip r:embed="rId1"/>
          <a:stretch/>
        </p:blipFill>
        <p:spPr>
          <a:xfrm>
            <a:off x="828720" y="1805040"/>
            <a:ext cx="10534680" cy="441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Picture 2" descr="5 MOTIVE IMPORTANTE PENTRU DEZVOLTAREA UNEI STRATEGII DE AFACERI"/>
          <p:cNvPicPr/>
          <p:nvPr/>
        </p:nvPicPr>
        <p:blipFill>
          <a:blip r:embed="rId1"/>
          <a:stretch/>
        </p:blipFill>
        <p:spPr>
          <a:xfrm>
            <a:off x="609480" y="285840"/>
            <a:ext cx="9069480" cy="6459480"/>
          </a:xfrm>
          <a:prstGeom prst="rect">
            <a:avLst/>
          </a:prstGeom>
          <a:ln w="9360">
            <a:solidFill>
              <a:srgbClr val="ffffff"/>
            </a:solidFill>
            <a:miter/>
          </a:ln>
        </p:spPr>
      </p:pic>
      <p:sp>
        <p:nvSpPr>
          <p:cNvPr id="1012" name="Rectangle 2"/>
          <p:cNvSpPr/>
          <p:nvPr/>
        </p:nvSpPr>
        <p:spPr>
          <a:xfrm>
            <a:off x="609480" y="425520"/>
            <a:ext cx="3011760" cy="565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2" descr="INFLUIENȚA CRIZEI PANDEMICE ASUPRA SECTOARELOR ECONOMIEI NAȚIONALE"/>
          <p:cNvPicPr/>
          <p:nvPr/>
        </p:nvPicPr>
        <p:blipFill>
          <a:blip r:embed="rId1"/>
          <a:stretch/>
        </p:blipFill>
        <p:spPr>
          <a:xfrm>
            <a:off x="1679400" y="723960"/>
            <a:ext cx="8518680" cy="5751360"/>
          </a:xfrm>
          <a:prstGeom prst="rect">
            <a:avLst/>
          </a:prstGeom>
          <a:ln w="0">
            <a:noFill/>
          </a:ln>
        </p:spPr>
      </p:pic>
      <p:sp>
        <p:nvSpPr>
          <p:cNvPr id="1014" name="Rectangle 2"/>
          <p:cNvSpPr/>
          <p:nvPr/>
        </p:nvSpPr>
        <p:spPr>
          <a:xfrm>
            <a:off x="8248680" y="5938920"/>
            <a:ext cx="1809720" cy="442800"/>
          </a:xfrm>
          <a:prstGeom prst="rect">
            <a:avLst/>
          </a:prstGeom>
          <a:solidFill>
            <a:srgbClr val="4590b8"/>
          </a:solidFill>
          <a:ln cap="rnd" w="22320">
            <a:solidFill>
              <a:srgbClr val="30688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DEZVOLTAREA UNEI STRATEGII DE AFACERI</a:t>
            </a:r>
            <a:endParaRPr b="0" lang="en-US" sz="2800" spc="-1" strike="noStrike">
              <a:solidFill>
                <a:srgbClr val="ffffff"/>
              </a:solidFill>
              <a:latin typeface="Gill Sans MT"/>
            </a:endParaRPr>
          </a:p>
        </p:txBody>
      </p:sp>
      <p:sp>
        <p:nvSpPr>
          <p:cNvPr id="1016" name=""/>
          <p:cNvSpPr txBox="1"/>
          <p:nvPr/>
        </p:nvSpPr>
        <p:spPr>
          <a:xfrm>
            <a:off x="638280" y="1995120"/>
            <a:ext cx="1110456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IMPORTANT: </a:t>
            </a:r>
            <a:r>
              <a:rPr b="0" lang="ro-MD" sz="1800" spc="-1" strike="noStrike">
                <a:solidFill>
                  <a:srgbClr val="3d3d3d"/>
                </a:solidFill>
                <a:latin typeface="Gill Sans MT"/>
              </a:rPr>
              <a:t>Este foarte important ca strategia organizației să fie formalizată, adică să fie ”pusă pe hârtie”. De cele mai multe ori oamenii de afaceri sau directorii generali păstrează strategia de dezvoltare în mintea lor, fără a o comunica angajaților organizației.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cest ”defect de comunicare” a strategiei crează obstacole majore la executarea strategiei. Odată ce strategia este formalizată și comunicată angajaților, toate entitățile organizaționale (producerea, vânzările, marketingul, achizițiile, HR-ul, etc.) vor lucra într-un efort comun la realizarea obiectivelor strategic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7" name="Picture 2" descr=""/>
          <p:cNvPicPr/>
          <p:nvPr/>
        </p:nvPicPr>
        <p:blipFill>
          <a:blip r:embed="rId1"/>
          <a:stretch/>
        </p:blipFill>
        <p:spPr>
          <a:xfrm>
            <a:off x="2860560" y="501480"/>
            <a:ext cx="7659720" cy="6037560"/>
          </a:xfrm>
          <a:prstGeom prst="rect">
            <a:avLst/>
          </a:prstGeom>
          <a:ln w="0">
            <a:noFill/>
          </a:ln>
        </p:spPr>
      </p:pic>
      <p:sp>
        <p:nvSpPr>
          <p:cNvPr id="1018" name="TextBox 4"/>
          <p:cNvSpPr/>
          <p:nvPr/>
        </p:nvSpPr>
        <p:spPr>
          <a:xfrm>
            <a:off x="8023320" y="49068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19" name="TextBox 5"/>
          <p:cNvSpPr/>
          <p:nvPr/>
        </p:nvSpPr>
        <p:spPr>
          <a:xfrm>
            <a:off x="8499600" y="13892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0" name="TextBox 6"/>
          <p:cNvSpPr/>
          <p:nvPr/>
        </p:nvSpPr>
        <p:spPr>
          <a:xfrm>
            <a:off x="6072120" y="166680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1" name="TextBox 7"/>
          <p:cNvSpPr/>
          <p:nvPr/>
        </p:nvSpPr>
        <p:spPr>
          <a:xfrm>
            <a:off x="5821200" y="351936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2" name="TextBox 8"/>
          <p:cNvSpPr/>
          <p:nvPr/>
        </p:nvSpPr>
        <p:spPr>
          <a:xfrm>
            <a:off x="6321600" y="433872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3" name="TextBox 9"/>
          <p:cNvSpPr/>
          <p:nvPr/>
        </p:nvSpPr>
        <p:spPr>
          <a:xfrm>
            <a:off x="6789600" y="433872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4" name="TextBox 10"/>
          <p:cNvSpPr/>
          <p:nvPr/>
        </p:nvSpPr>
        <p:spPr>
          <a:xfrm>
            <a:off x="7699320" y="526104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5" name="TextBox 11"/>
          <p:cNvSpPr/>
          <p:nvPr/>
        </p:nvSpPr>
        <p:spPr>
          <a:xfrm>
            <a:off x="8190000" y="52610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74320"/>
            <a:ext cx="109728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4472c4"/>
                </a:solidFill>
                <a:latin typeface="Calibri Light"/>
              </a:rPr>
              <a:t>Concluzii</a:t>
            </a:r>
            <a:r>
              <a:rPr b="0" lang="ro-RO" sz="3700" spc="-1" strike="noStrike">
                <a:solidFill>
                  <a:srgbClr val="595959"/>
                </a:solidFill>
                <a:latin typeface="Calibri Light"/>
              </a:rPr>
              <a:t> </a:t>
            </a:r>
            <a:endParaRPr b="0" lang="en-US" sz="3700" spc="-1" strike="noStrike">
              <a:solidFill>
                <a:srgbClr val="000000"/>
              </a:solidFill>
              <a:latin typeface="Calibri Light"/>
            </a:endParaRPr>
          </a:p>
        </p:txBody>
      </p:sp>
      <p:grpSp>
        <p:nvGrpSpPr>
          <p:cNvPr id="1027" name="Oval 26"/>
          <p:cNvGrpSpPr/>
          <p:nvPr/>
        </p:nvGrpSpPr>
        <p:grpSpPr>
          <a:xfrm>
            <a:off x="969840" y="2425680"/>
            <a:ext cx="2590920" cy="2590920"/>
            <a:chOff x="969840" y="2425680"/>
            <a:chExt cx="2590920" cy="2590920"/>
          </a:xfrm>
        </p:grpSpPr>
        <p:pic>
          <p:nvPicPr>
            <p:cNvPr id="1028" name="Oval 26" descr=""/>
            <p:cNvPicPr/>
            <p:nvPr/>
          </p:nvPicPr>
          <p:blipFill>
            <a:blip r:embed="rId1"/>
            <a:stretch/>
          </p:blipFill>
          <p:spPr>
            <a:xfrm>
              <a:off x="969840" y="2425680"/>
              <a:ext cx="2590920" cy="2590920"/>
            </a:xfrm>
            <a:prstGeom prst="rect">
              <a:avLst/>
            </a:prstGeom>
            <a:ln w="0">
              <a:noFill/>
            </a:ln>
          </p:spPr>
        </p:pic>
        <p:sp>
          <p:nvSpPr>
            <p:cNvPr id="1029" name=""/>
            <p:cNvSpPr/>
            <p:nvPr/>
          </p:nvSpPr>
          <p:spPr>
            <a:xfrm>
              <a:off x="1357200" y="2813040"/>
              <a:ext cx="1811520" cy="18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0" name="Group 4"/>
          <p:cNvGrpSpPr/>
          <p:nvPr/>
        </p:nvGrpSpPr>
        <p:grpSpPr>
          <a:xfrm>
            <a:off x="1438200" y="2438280"/>
            <a:ext cx="2086200" cy="2479680"/>
            <a:chOff x="1438200" y="2438280"/>
            <a:chExt cx="2086200" cy="2479680"/>
          </a:xfrm>
        </p:grpSpPr>
        <p:grpSp>
          <p:nvGrpSpPr>
            <p:cNvPr id="1031" name="Freeform 105"/>
            <p:cNvGrpSpPr/>
            <p:nvPr/>
          </p:nvGrpSpPr>
          <p:grpSpPr>
            <a:xfrm>
              <a:off x="2463120" y="2499120"/>
              <a:ext cx="24120" cy="11880"/>
              <a:chOff x="2463120" y="2499120"/>
              <a:chExt cx="24120" cy="11880"/>
            </a:xfrm>
          </p:grpSpPr>
          <p:pic>
            <p:nvPicPr>
              <p:cNvPr id="1032" name="Freeform 105" descr=""/>
              <p:cNvPicPr/>
              <p:nvPr/>
            </p:nvPicPr>
            <p:blipFill>
              <a:blip r:embed="rId2"/>
              <a:stretch/>
            </p:blipFill>
            <p:spPr>
              <a:xfrm>
                <a:off x="2463120" y="2500200"/>
                <a:ext cx="21600" cy="10800"/>
              </a:xfrm>
              <a:prstGeom prst="rect">
                <a:avLst/>
              </a:prstGeom>
              <a:ln w="0">
                <a:noFill/>
              </a:ln>
            </p:spPr>
          </p:pic>
          <p:sp>
            <p:nvSpPr>
              <p:cNvPr id="1033" name=""/>
              <p:cNvSpPr/>
              <p:nvPr/>
            </p:nvSpPr>
            <p:spPr>
              <a:xfrm>
                <a:off x="2463120" y="249912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4" name="Freeform 106"/>
            <p:cNvGrpSpPr/>
            <p:nvPr/>
          </p:nvGrpSpPr>
          <p:grpSpPr>
            <a:xfrm>
              <a:off x="2243520" y="2620800"/>
              <a:ext cx="54720" cy="42480"/>
              <a:chOff x="2243520" y="2620800"/>
              <a:chExt cx="54720" cy="42480"/>
            </a:xfrm>
          </p:grpSpPr>
          <p:pic>
            <p:nvPicPr>
              <p:cNvPr id="1035" name="Freeform 106" descr=""/>
              <p:cNvPicPr/>
              <p:nvPr/>
            </p:nvPicPr>
            <p:blipFill>
              <a:blip r:embed="rId3"/>
              <a:stretch/>
            </p:blipFill>
            <p:spPr>
              <a:xfrm>
                <a:off x="2245680" y="2621160"/>
                <a:ext cx="52560" cy="41760"/>
              </a:xfrm>
              <a:prstGeom prst="rect">
                <a:avLst/>
              </a:prstGeom>
              <a:ln w="0">
                <a:noFill/>
              </a:ln>
            </p:spPr>
          </p:pic>
          <p:sp>
            <p:nvSpPr>
              <p:cNvPr id="1036" name=""/>
              <p:cNvSpPr/>
              <p:nvPr/>
            </p:nvSpPr>
            <p:spPr>
              <a:xfrm>
                <a:off x="2243520" y="2620800"/>
                <a:ext cx="5400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7" name="Freeform 107"/>
            <p:cNvGrpSpPr/>
            <p:nvPr/>
          </p:nvGrpSpPr>
          <p:grpSpPr>
            <a:xfrm>
              <a:off x="2261520" y="2590560"/>
              <a:ext cx="103680" cy="103320"/>
              <a:chOff x="2261520" y="2590560"/>
              <a:chExt cx="103680" cy="103320"/>
            </a:xfrm>
          </p:grpSpPr>
          <p:pic>
            <p:nvPicPr>
              <p:cNvPr id="1038" name="Freeform 107" descr=""/>
              <p:cNvPicPr/>
              <p:nvPr/>
            </p:nvPicPr>
            <p:blipFill>
              <a:blip r:embed="rId4"/>
              <a:stretch/>
            </p:blipFill>
            <p:spPr>
              <a:xfrm>
                <a:off x="2263320" y="2590560"/>
                <a:ext cx="101880" cy="103320"/>
              </a:xfrm>
              <a:prstGeom prst="rect">
                <a:avLst/>
              </a:prstGeom>
              <a:ln w="0">
                <a:noFill/>
              </a:ln>
            </p:spPr>
          </p:pic>
          <p:sp>
            <p:nvSpPr>
              <p:cNvPr id="1039" name=""/>
              <p:cNvSpPr/>
              <p:nvPr/>
            </p:nvSpPr>
            <p:spPr>
              <a:xfrm>
                <a:off x="2261520" y="2590560"/>
                <a:ext cx="102600" cy="1022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0" name="Freeform 108"/>
            <p:cNvGrpSpPr/>
            <p:nvPr/>
          </p:nvGrpSpPr>
          <p:grpSpPr>
            <a:xfrm>
              <a:off x="2194560" y="2645280"/>
              <a:ext cx="24120" cy="24120"/>
              <a:chOff x="2194560" y="2645280"/>
              <a:chExt cx="24120" cy="24120"/>
            </a:xfrm>
          </p:grpSpPr>
          <p:pic>
            <p:nvPicPr>
              <p:cNvPr id="1041" name="Freeform 108" descr=""/>
              <p:cNvPicPr/>
              <p:nvPr/>
            </p:nvPicPr>
            <p:blipFill>
              <a:blip r:embed="rId5"/>
              <a:stretch/>
            </p:blipFill>
            <p:spPr>
              <a:xfrm>
                <a:off x="2195640" y="2645280"/>
                <a:ext cx="20520" cy="22680"/>
              </a:xfrm>
              <a:prstGeom prst="rect">
                <a:avLst/>
              </a:prstGeom>
              <a:ln w="0">
                <a:noFill/>
              </a:ln>
            </p:spPr>
          </p:pic>
          <p:sp>
            <p:nvSpPr>
              <p:cNvPr id="1042" name=""/>
              <p:cNvSpPr/>
              <p:nvPr/>
            </p:nvSpPr>
            <p:spPr>
              <a:xfrm>
                <a:off x="2194560" y="2645280"/>
                <a:ext cx="24120" cy="24120"/>
              </a:xfrm>
              <a:prstGeom prst="rect">
                <a:avLst/>
              </a:prstGeom>
              <a:noFill/>
              <a:ln w="0">
                <a:noFill/>
              </a:ln>
            </p:spPr>
            <p:style>
              <a:lnRef idx="0"/>
              <a:fillRef idx="0"/>
              <a:effectRef idx="0"/>
              <a:fontRef idx="minor"/>
            </p:style>
            <p:txBody>
              <a:bodyPr tIns="-21600" bIns="-21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3" name="Freeform 109"/>
            <p:cNvGrpSpPr/>
            <p:nvPr/>
          </p:nvGrpSpPr>
          <p:grpSpPr>
            <a:xfrm>
              <a:off x="2145600" y="2651400"/>
              <a:ext cx="18000" cy="5760"/>
              <a:chOff x="2145600" y="2651400"/>
              <a:chExt cx="18000" cy="5760"/>
            </a:xfrm>
          </p:grpSpPr>
          <p:pic>
            <p:nvPicPr>
              <p:cNvPr id="1044" name="Freeform 109" descr=""/>
              <p:cNvPicPr/>
              <p:nvPr/>
            </p:nvPicPr>
            <p:blipFill>
              <a:blip r:embed="rId6"/>
              <a:stretch/>
            </p:blipFill>
            <p:spPr>
              <a:xfrm>
                <a:off x="2145600" y="2651760"/>
                <a:ext cx="16920" cy="5400"/>
              </a:xfrm>
              <a:prstGeom prst="rect">
                <a:avLst/>
              </a:prstGeom>
              <a:ln w="0">
                <a:noFill/>
              </a:ln>
            </p:spPr>
          </p:pic>
          <p:sp>
            <p:nvSpPr>
              <p:cNvPr id="1045" name=""/>
              <p:cNvSpPr/>
              <p:nvPr/>
            </p:nvSpPr>
            <p:spPr>
              <a:xfrm>
                <a:off x="2147400" y="2651400"/>
                <a:ext cx="1620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6" name="Freeform 110"/>
            <p:cNvGrpSpPr/>
            <p:nvPr/>
          </p:nvGrpSpPr>
          <p:grpSpPr>
            <a:xfrm>
              <a:off x="2487240" y="2505240"/>
              <a:ext cx="60840" cy="18000"/>
              <a:chOff x="2487240" y="2505240"/>
              <a:chExt cx="60840" cy="18000"/>
            </a:xfrm>
          </p:grpSpPr>
          <p:pic>
            <p:nvPicPr>
              <p:cNvPr id="1047" name="Freeform 110" descr=""/>
              <p:cNvPicPr/>
              <p:nvPr/>
            </p:nvPicPr>
            <p:blipFill>
              <a:blip r:embed="rId7"/>
              <a:stretch/>
            </p:blipFill>
            <p:spPr>
              <a:xfrm>
                <a:off x="2489760" y="2505600"/>
                <a:ext cx="58320" cy="17640"/>
              </a:xfrm>
              <a:prstGeom prst="rect">
                <a:avLst/>
              </a:prstGeom>
              <a:ln w="0">
                <a:noFill/>
              </a:ln>
            </p:spPr>
          </p:pic>
          <p:sp>
            <p:nvSpPr>
              <p:cNvPr id="1048" name=""/>
              <p:cNvSpPr/>
              <p:nvPr/>
            </p:nvSpPr>
            <p:spPr>
              <a:xfrm>
                <a:off x="2487240" y="2505240"/>
                <a:ext cx="59400" cy="15480"/>
              </a:xfrm>
              <a:prstGeom prst="rect">
                <a:avLst/>
              </a:prstGeom>
              <a:noFill/>
              <a:ln w="0">
                <a:noFill/>
              </a:ln>
            </p:spPr>
            <p:style>
              <a:lnRef idx="0"/>
              <a:fillRef idx="0"/>
              <a:effectRef idx="0"/>
              <a:fontRef idx="minor"/>
            </p:style>
            <p:txBody>
              <a:bodyPr tIns="-30240" bIns="-30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49" name="Freeform 111"/>
            <p:cNvSpPr/>
            <p:nvPr/>
          </p:nvSpPr>
          <p:spPr>
            <a:xfrm>
              <a:off x="2374920" y="2666520"/>
              <a:ext cx="4680" cy="1440"/>
            </a:xfrm>
            <a:custGeom>
              <a:avLst/>
              <a:gdLst/>
              <a:ahLst/>
              <a:rect l="l" t="t" r="r" b="b"/>
              <a:pathLst>
                <a:path w="3" h="1">
                  <a:moveTo>
                    <a:pt x="1" y="0"/>
                  </a:moveTo>
                  <a:lnTo>
                    <a:pt x="2" y="0"/>
                  </a:lnTo>
                  <a:lnTo>
                    <a:pt x="3" y="0"/>
                  </a:lnTo>
                  <a:lnTo>
                    <a:pt x="3" y="1"/>
                  </a:lnTo>
                  <a:lnTo>
                    <a:pt x="3" y="1"/>
                  </a:lnTo>
                  <a:lnTo>
                    <a:pt x="1" y="1"/>
                  </a:lnTo>
                  <a:lnTo>
                    <a:pt x="0" y="1"/>
                  </a:lnTo>
                  <a:lnTo>
                    <a:pt x="0" y="0"/>
                  </a:lnTo>
                  <a:lnTo>
                    <a:pt x="1"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50" name="Freeform 112"/>
            <p:cNvGrpSpPr/>
            <p:nvPr/>
          </p:nvGrpSpPr>
          <p:grpSpPr>
            <a:xfrm>
              <a:off x="2072520" y="2663640"/>
              <a:ext cx="36360" cy="24120"/>
              <a:chOff x="2072520" y="2663640"/>
              <a:chExt cx="36360" cy="24120"/>
            </a:xfrm>
          </p:grpSpPr>
          <p:pic>
            <p:nvPicPr>
              <p:cNvPr id="1051" name="Freeform 112" descr=""/>
              <p:cNvPicPr/>
              <p:nvPr/>
            </p:nvPicPr>
            <p:blipFill>
              <a:blip r:embed="rId8"/>
              <a:stretch/>
            </p:blipFill>
            <p:spPr>
              <a:xfrm>
                <a:off x="2075040" y="2663640"/>
                <a:ext cx="33840" cy="24120"/>
              </a:xfrm>
              <a:prstGeom prst="rect">
                <a:avLst/>
              </a:prstGeom>
              <a:ln w="0">
                <a:noFill/>
              </a:ln>
            </p:spPr>
          </p:pic>
          <p:sp>
            <p:nvSpPr>
              <p:cNvPr id="1052" name=""/>
              <p:cNvSpPr/>
              <p:nvPr/>
            </p:nvSpPr>
            <p:spPr>
              <a:xfrm>
                <a:off x="2072520" y="2665440"/>
                <a:ext cx="363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3" name="Freeform 113"/>
            <p:cNvGrpSpPr/>
            <p:nvPr/>
          </p:nvGrpSpPr>
          <p:grpSpPr>
            <a:xfrm>
              <a:off x="2200680" y="2687760"/>
              <a:ext cx="24120" cy="30240"/>
              <a:chOff x="2200680" y="2687760"/>
              <a:chExt cx="24120" cy="30240"/>
            </a:xfrm>
          </p:grpSpPr>
          <p:pic>
            <p:nvPicPr>
              <p:cNvPr id="1054" name="Freeform 113" descr=""/>
              <p:cNvPicPr/>
              <p:nvPr/>
            </p:nvPicPr>
            <p:blipFill>
              <a:blip r:embed="rId9"/>
              <a:stretch/>
            </p:blipFill>
            <p:spPr>
              <a:xfrm>
                <a:off x="2201040" y="2687760"/>
                <a:ext cx="22680" cy="30240"/>
              </a:xfrm>
              <a:prstGeom prst="rect">
                <a:avLst/>
              </a:prstGeom>
              <a:ln w="0">
                <a:noFill/>
              </a:ln>
            </p:spPr>
          </p:pic>
          <p:sp>
            <p:nvSpPr>
              <p:cNvPr id="1055" name=""/>
              <p:cNvSpPr/>
              <p:nvPr/>
            </p:nvSpPr>
            <p:spPr>
              <a:xfrm>
                <a:off x="2200680" y="2688120"/>
                <a:ext cx="24120" cy="28800"/>
              </a:xfrm>
              <a:prstGeom prst="rect">
                <a:avLst/>
              </a:prstGeom>
              <a:noFill/>
              <a:ln w="0">
                <a:noFill/>
              </a:ln>
            </p:spPr>
            <p:style>
              <a:lnRef idx="0"/>
              <a:fillRef idx="0"/>
              <a:effectRef idx="0"/>
              <a:fontRef idx="minor"/>
            </p:style>
            <p:txBody>
              <a:bodyPr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6" name="Freeform 114"/>
            <p:cNvGrpSpPr/>
            <p:nvPr/>
          </p:nvGrpSpPr>
          <p:grpSpPr>
            <a:xfrm>
              <a:off x="2231280" y="2682000"/>
              <a:ext cx="121680" cy="42480"/>
              <a:chOff x="2231280" y="2682000"/>
              <a:chExt cx="121680" cy="42480"/>
            </a:xfrm>
          </p:grpSpPr>
          <p:pic>
            <p:nvPicPr>
              <p:cNvPr id="1057" name="Freeform 114" descr=""/>
              <p:cNvPicPr/>
              <p:nvPr/>
            </p:nvPicPr>
            <p:blipFill>
              <a:blip r:embed="rId10"/>
              <a:stretch/>
            </p:blipFill>
            <p:spPr>
              <a:xfrm>
                <a:off x="2231280" y="2682000"/>
                <a:ext cx="121680" cy="42480"/>
              </a:xfrm>
              <a:prstGeom prst="rect">
                <a:avLst/>
              </a:prstGeom>
              <a:ln w="0">
                <a:noFill/>
              </a:ln>
            </p:spPr>
          </p:pic>
          <p:sp>
            <p:nvSpPr>
              <p:cNvPr id="1058" name=""/>
              <p:cNvSpPr/>
              <p:nvPr/>
            </p:nvSpPr>
            <p:spPr>
              <a:xfrm>
                <a:off x="2232000" y="2682720"/>
                <a:ext cx="120240" cy="40680"/>
              </a:xfrm>
              <a:prstGeom prst="rect">
                <a:avLst/>
              </a:prstGeom>
              <a:noFill/>
              <a:ln w="0">
                <a:noFill/>
              </a:ln>
            </p:spPr>
            <p:style>
              <a:lnRef idx="0"/>
              <a:fillRef idx="0"/>
              <a:effectRef idx="0"/>
              <a:fontRef idx="minor"/>
            </p:style>
            <p:txBody>
              <a:bodyPr tIns="-5040" bIns="-5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59" name="Freeform 115"/>
            <p:cNvSpPr/>
            <p:nvPr/>
          </p:nvSpPr>
          <p:spPr>
            <a:xfrm>
              <a:off x="2155680" y="2685600"/>
              <a:ext cx="2880" cy="7920"/>
            </a:xfrm>
            <a:custGeom>
              <a:avLst/>
              <a:gdLst/>
              <a:ahLst/>
              <a:rect l="l" t="t" r="r" b="b"/>
              <a:pathLst>
                <a:path w="2" h="5">
                  <a:moveTo>
                    <a:pt x="1" y="3"/>
                  </a:moveTo>
                  <a:lnTo>
                    <a:pt x="0" y="5"/>
                  </a:lnTo>
                  <a:lnTo>
                    <a:pt x="0" y="4"/>
                  </a:lnTo>
                  <a:lnTo>
                    <a:pt x="1" y="3"/>
                  </a:lnTo>
                  <a:close/>
                  <a:moveTo>
                    <a:pt x="2" y="0"/>
                  </a:moveTo>
                  <a:lnTo>
                    <a:pt x="1" y="3"/>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sp>
          <p:nvSpPr>
            <p:cNvPr id="1060" name="Freeform 116"/>
            <p:cNvSpPr/>
            <p:nvPr/>
          </p:nvSpPr>
          <p:spPr>
            <a:xfrm>
              <a:off x="2158920" y="2679120"/>
              <a:ext cx="1440" cy="4680"/>
            </a:xfrm>
            <a:custGeom>
              <a:avLst/>
              <a:gdLst/>
              <a:ahLst/>
              <a:rect l="l" t="t" r="r" b="b"/>
              <a:pathLst>
                <a:path w="2" h="3">
                  <a:moveTo>
                    <a:pt x="1" y="1"/>
                  </a:moveTo>
                  <a:lnTo>
                    <a:pt x="1" y="2"/>
                  </a:lnTo>
                  <a:lnTo>
                    <a:pt x="0" y="3"/>
                  </a:lnTo>
                  <a:lnTo>
                    <a:pt x="1" y="1"/>
                  </a:lnTo>
                  <a:close/>
                  <a:moveTo>
                    <a:pt x="2" y="0"/>
                  </a:moveTo>
                  <a:lnTo>
                    <a:pt x="2" y="1"/>
                  </a:lnTo>
                  <a:lnTo>
                    <a:pt x="1" y="1"/>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61" name="Freeform 117"/>
            <p:cNvGrpSpPr/>
            <p:nvPr/>
          </p:nvGrpSpPr>
          <p:grpSpPr>
            <a:xfrm>
              <a:off x="2109240" y="2687760"/>
              <a:ext cx="66960" cy="30240"/>
              <a:chOff x="2109240" y="2687760"/>
              <a:chExt cx="66960" cy="30240"/>
            </a:xfrm>
          </p:grpSpPr>
          <p:pic>
            <p:nvPicPr>
              <p:cNvPr id="1062" name="Freeform 117" descr=""/>
              <p:cNvPicPr/>
              <p:nvPr/>
            </p:nvPicPr>
            <p:blipFill>
              <a:blip r:embed="rId11"/>
              <a:stretch/>
            </p:blipFill>
            <p:spPr>
              <a:xfrm>
                <a:off x="2109240" y="2687760"/>
                <a:ext cx="66960" cy="29880"/>
              </a:xfrm>
              <a:prstGeom prst="rect">
                <a:avLst/>
              </a:prstGeom>
              <a:ln w="0">
                <a:noFill/>
              </a:ln>
            </p:spPr>
          </p:pic>
          <p:sp>
            <p:nvSpPr>
              <p:cNvPr id="1063" name=""/>
              <p:cNvSpPr/>
              <p:nvPr/>
            </p:nvSpPr>
            <p:spPr>
              <a:xfrm>
                <a:off x="2111760" y="2688120"/>
                <a:ext cx="62280" cy="29880"/>
              </a:xfrm>
              <a:prstGeom prst="rect">
                <a:avLst/>
              </a:prstGeom>
              <a:noFill/>
              <a:ln w="0">
                <a:noFill/>
              </a:ln>
            </p:spPr>
            <p:style>
              <a:lnRef idx="0"/>
              <a:fillRef idx="0"/>
              <a:effectRef idx="0"/>
              <a:fontRef idx="minor"/>
            </p:style>
            <p:txBody>
              <a:bodyPr tIns="-15840" bIns="-15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4" name="Freeform 118"/>
            <p:cNvGrpSpPr/>
            <p:nvPr/>
          </p:nvGrpSpPr>
          <p:grpSpPr>
            <a:xfrm>
              <a:off x="1944360" y="2486880"/>
              <a:ext cx="42480" cy="11880"/>
              <a:chOff x="1944360" y="2486880"/>
              <a:chExt cx="42480" cy="11880"/>
            </a:xfrm>
          </p:grpSpPr>
          <p:pic>
            <p:nvPicPr>
              <p:cNvPr id="1065" name="Freeform 118" descr=""/>
              <p:cNvPicPr/>
              <p:nvPr/>
            </p:nvPicPr>
            <p:blipFill>
              <a:blip r:embed="rId12"/>
              <a:stretch/>
            </p:blipFill>
            <p:spPr>
              <a:xfrm>
                <a:off x="1946160" y="2486880"/>
                <a:ext cx="40680" cy="10800"/>
              </a:xfrm>
              <a:prstGeom prst="rect">
                <a:avLst/>
              </a:prstGeom>
              <a:ln w="0">
                <a:noFill/>
              </a:ln>
            </p:spPr>
          </p:pic>
          <p:sp>
            <p:nvSpPr>
              <p:cNvPr id="1066" name=""/>
              <p:cNvSpPr/>
              <p:nvPr/>
            </p:nvSpPr>
            <p:spPr>
              <a:xfrm>
                <a:off x="1944360" y="2488320"/>
                <a:ext cx="41400" cy="10440"/>
              </a:xfrm>
              <a:prstGeom prst="rect">
                <a:avLst/>
              </a:prstGeom>
              <a:noFill/>
              <a:ln w="0">
                <a:noFill/>
              </a:ln>
            </p:spPr>
            <p:style>
              <a:lnRef idx="0"/>
              <a:fillRef idx="0"/>
              <a:effectRef idx="0"/>
              <a:fontRef idx="minor"/>
            </p:style>
            <p:txBody>
              <a:bodyPr tIns="-35280" bIns="-35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7" name="Freeform 119"/>
            <p:cNvGrpSpPr/>
            <p:nvPr/>
          </p:nvGrpSpPr>
          <p:grpSpPr>
            <a:xfrm>
              <a:off x="1919880" y="2505240"/>
              <a:ext cx="24120" cy="5760"/>
              <a:chOff x="1919880" y="2505240"/>
              <a:chExt cx="24120" cy="5760"/>
            </a:xfrm>
          </p:grpSpPr>
          <p:pic>
            <p:nvPicPr>
              <p:cNvPr id="1068" name="Freeform 119" descr=""/>
              <p:cNvPicPr/>
              <p:nvPr/>
            </p:nvPicPr>
            <p:blipFill>
              <a:blip r:embed="rId13"/>
              <a:stretch/>
            </p:blipFill>
            <p:spPr>
              <a:xfrm>
                <a:off x="1922040" y="2506320"/>
                <a:ext cx="21600" cy="3960"/>
              </a:xfrm>
              <a:prstGeom prst="rect">
                <a:avLst/>
              </a:prstGeom>
              <a:ln w="0">
                <a:noFill/>
              </a:ln>
            </p:spPr>
          </p:pic>
          <p:sp>
            <p:nvSpPr>
              <p:cNvPr id="1069" name=""/>
              <p:cNvSpPr/>
              <p:nvPr/>
            </p:nvSpPr>
            <p:spPr>
              <a:xfrm>
                <a:off x="1919880" y="2505240"/>
                <a:ext cx="24120" cy="5760"/>
              </a:xfrm>
              <a:prstGeom prst="rect">
                <a:avLst/>
              </a:prstGeom>
              <a:noFill/>
              <a:ln w="0">
                <a:noFill/>
              </a:ln>
            </p:spPr>
            <p:style>
              <a:lnRef idx="0"/>
              <a:fillRef idx="0"/>
              <a:effectRef idx="0"/>
              <a:fontRef idx="minor"/>
            </p:style>
            <p:txBody>
              <a:bodyPr tIns="-39960" bIns="-399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70" name="Freeform 120"/>
            <p:cNvSpPr/>
            <p:nvPr/>
          </p:nvSpPr>
          <p:spPr>
            <a:xfrm>
              <a:off x="1977840" y="2472840"/>
              <a:ext cx="2880" cy="1440"/>
            </a:xfrm>
            <a:custGeom>
              <a:avLst/>
              <a:gdLst/>
              <a:ahLst/>
              <a:rect l="l" t="t" r="r" b="b"/>
              <a:pathLst>
                <a:path w="2" h="1">
                  <a:moveTo>
                    <a:pt x="1" y="0"/>
                  </a:moveTo>
                  <a:lnTo>
                    <a:pt x="1" y="1"/>
                  </a:lnTo>
                  <a:lnTo>
                    <a:pt x="0" y="1"/>
                  </a:lnTo>
                  <a:lnTo>
                    <a:pt x="1" y="0"/>
                  </a:lnTo>
                  <a:close/>
                  <a:moveTo>
                    <a:pt x="2" y="0"/>
                  </a:moveTo>
                  <a:lnTo>
                    <a:pt x="2" y="0"/>
                  </a:lnTo>
                  <a:lnTo>
                    <a:pt x="1" y="0"/>
                  </a:lnTo>
                  <a:lnTo>
                    <a:pt x="1" y="0"/>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71" name="Freeform 121"/>
            <p:cNvGrpSpPr/>
            <p:nvPr/>
          </p:nvGrpSpPr>
          <p:grpSpPr>
            <a:xfrm>
              <a:off x="1987200" y="2706120"/>
              <a:ext cx="103680" cy="60840"/>
              <a:chOff x="1987200" y="2706120"/>
              <a:chExt cx="103680" cy="60840"/>
            </a:xfrm>
          </p:grpSpPr>
          <p:pic>
            <p:nvPicPr>
              <p:cNvPr id="1072" name="Freeform 121" descr=""/>
              <p:cNvPicPr/>
              <p:nvPr/>
            </p:nvPicPr>
            <p:blipFill>
              <a:blip r:embed="rId14"/>
              <a:stretch/>
            </p:blipFill>
            <p:spPr>
              <a:xfrm>
                <a:off x="1987200" y="2707560"/>
                <a:ext cx="103680" cy="59400"/>
              </a:xfrm>
              <a:prstGeom prst="rect">
                <a:avLst/>
              </a:prstGeom>
              <a:ln w="0">
                <a:noFill/>
              </a:ln>
            </p:spPr>
          </p:pic>
          <p:sp>
            <p:nvSpPr>
              <p:cNvPr id="1073" name=""/>
              <p:cNvSpPr/>
              <p:nvPr/>
            </p:nvSpPr>
            <p:spPr>
              <a:xfrm>
                <a:off x="1988640" y="2706120"/>
                <a:ext cx="100080" cy="59040"/>
              </a:xfrm>
              <a:prstGeom prst="rect">
                <a:avLst/>
              </a:prstGeom>
              <a:noFill/>
              <a:ln w="0">
                <a:noFill/>
              </a:ln>
            </p:spPr>
            <p:style>
              <a:lnRef idx="0"/>
              <a:fillRef idx="0"/>
              <a:effectRef idx="0"/>
              <a:fontRef idx="minor"/>
            </p:style>
            <p:txBody>
              <a:bodyPr tIns="13320" bIns="13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4" name="Freeform 122"/>
            <p:cNvGrpSpPr/>
            <p:nvPr/>
          </p:nvGrpSpPr>
          <p:grpSpPr>
            <a:xfrm>
              <a:off x="2176200" y="2730600"/>
              <a:ext cx="54720" cy="48600"/>
              <a:chOff x="2176200" y="2730600"/>
              <a:chExt cx="54720" cy="48600"/>
            </a:xfrm>
          </p:grpSpPr>
          <p:pic>
            <p:nvPicPr>
              <p:cNvPr id="1075" name="Freeform 122" descr=""/>
              <p:cNvPicPr/>
              <p:nvPr/>
            </p:nvPicPr>
            <p:blipFill>
              <a:blip r:embed="rId15"/>
              <a:stretch/>
            </p:blipFill>
            <p:spPr>
              <a:xfrm>
                <a:off x="2176200" y="2730600"/>
                <a:ext cx="54720" cy="48600"/>
              </a:xfrm>
              <a:prstGeom prst="rect">
                <a:avLst/>
              </a:prstGeom>
              <a:ln w="0">
                <a:noFill/>
              </a:ln>
            </p:spPr>
          </p:pic>
          <p:sp>
            <p:nvSpPr>
              <p:cNvPr id="1076" name=""/>
              <p:cNvSpPr/>
              <p:nvPr/>
            </p:nvSpPr>
            <p:spPr>
              <a:xfrm>
                <a:off x="2178360" y="2733120"/>
                <a:ext cx="52200" cy="45000"/>
              </a:xfrm>
              <a:prstGeom prst="rect">
                <a:avLst/>
              </a:prstGeom>
              <a:noFill/>
              <a:ln w="0">
                <a:noFill/>
              </a:ln>
            </p:spPr>
            <p:style>
              <a:lnRef idx="0"/>
              <a:fillRef idx="0"/>
              <a:effectRef idx="0"/>
              <a:fontRef idx="minor"/>
            </p:style>
            <p:txBody>
              <a:bodyPr tIns="-720" bIns="-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7" name="Freeform 123"/>
            <p:cNvGrpSpPr/>
            <p:nvPr/>
          </p:nvGrpSpPr>
          <p:grpSpPr>
            <a:xfrm>
              <a:off x="2652120" y="2785320"/>
              <a:ext cx="5760" cy="5760"/>
              <a:chOff x="2652120" y="2785320"/>
              <a:chExt cx="5760" cy="5760"/>
            </a:xfrm>
          </p:grpSpPr>
          <p:pic>
            <p:nvPicPr>
              <p:cNvPr id="1078" name="Freeform 123" descr=""/>
              <p:cNvPicPr/>
              <p:nvPr/>
            </p:nvPicPr>
            <p:blipFill>
              <a:blip r:embed="rId16"/>
              <a:stretch/>
            </p:blipFill>
            <p:spPr>
              <a:xfrm>
                <a:off x="2652480" y="2785320"/>
                <a:ext cx="5400" cy="5760"/>
              </a:xfrm>
              <a:prstGeom prst="rect">
                <a:avLst/>
              </a:prstGeom>
              <a:ln w="0">
                <a:noFill/>
              </a:ln>
            </p:spPr>
          </p:pic>
          <p:sp>
            <p:nvSpPr>
              <p:cNvPr id="1079" name=""/>
              <p:cNvSpPr/>
              <p:nvPr/>
            </p:nvSpPr>
            <p:spPr>
              <a:xfrm>
                <a:off x="2652120" y="27853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0" name="Freeform 124"/>
            <p:cNvGrpSpPr/>
            <p:nvPr/>
          </p:nvGrpSpPr>
          <p:grpSpPr>
            <a:xfrm>
              <a:off x="2365200" y="2547720"/>
              <a:ext cx="493920" cy="359280"/>
              <a:chOff x="2365200" y="2547720"/>
              <a:chExt cx="493920" cy="359280"/>
            </a:xfrm>
          </p:grpSpPr>
          <p:pic>
            <p:nvPicPr>
              <p:cNvPr id="1081" name="Freeform 124" descr=""/>
              <p:cNvPicPr/>
              <p:nvPr/>
            </p:nvPicPr>
            <p:blipFill>
              <a:blip r:embed="rId17"/>
              <a:stretch/>
            </p:blipFill>
            <p:spPr>
              <a:xfrm>
                <a:off x="2366280" y="2548800"/>
                <a:ext cx="492480" cy="357120"/>
              </a:xfrm>
              <a:prstGeom prst="rect">
                <a:avLst/>
              </a:prstGeom>
              <a:ln w="0">
                <a:noFill/>
              </a:ln>
            </p:spPr>
          </p:pic>
          <p:sp>
            <p:nvSpPr>
              <p:cNvPr id="1082" name=""/>
              <p:cNvSpPr/>
              <p:nvPr/>
            </p:nvSpPr>
            <p:spPr>
              <a:xfrm>
                <a:off x="2365200" y="2547720"/>
                <a:ext cx="493920" cy="35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3" name="Freeform 125"/>
            <p:cNvGrpSpPr/>
            <p:nvPr/>
          </p:nvGrpSpPr>
          <p:grpSpPr>
            <a:xfrm>
              <a:off x="2633760" y="2785320"/>
              <a:ext cx="18000" cy="11880"/>
              <a:chOff x="2633760" y="2785320"/>
              <a:chExt cx="18000" cy="11880"/>
            </a:xfrm>
          </p:grpSpPr>
          <p:pic>
            <p:nvPicPr>
              <p:cNvPr id="1084" name="Freeform 125" descr=""/>
              <p:cNvPicPr/>
              <p:nvPr/>
            </p:nvPicPr>
            <p:blipFill>
              <a:blip r:embed="rId18"/>
              <a:stretch/>
            </p:blipFill>
            <p:spPr>
              <a:xfrm>
                <a:off x="2633760" y="2785320"/>
                <a:ext cx="18000" cy="10080"/>
              </a:xfrm>
              <a:prstGeom prst="rect">
                <a:avLst/>
              </a:prstGeom>
              <a:ln w="0">
                <a:noFill/>
              </a:ln>
            </p:spPr>
          </p:pic>
          <p:sp>
            <p:nvSpPr>
              <p:cNvPr id="1085" name=""/>
              <p:cNvSpPr/>
              <p:nvPr/>
            </p:nvSpPr>
            <p:spPr>
              <a:xfrm>
                <a:off x="2636280" y="2786400"/>
                <a:ext cx="14400" cy="10800"/>
              </a:xfrm>
              <a:prstGeom prst="rect">
                <a:avLst/>
              </a:prstGeom>
              <a:noFill/>
              <a:ln w="0">
                <a:noFill/>
              </a:ln>
            </p:spPr>
            <p:style>
              <a:lnRef idx="0"/>
              <a:fillRef idx="0"/>
              <a:effectRef idx="0"/>
              <a:fontRef idx="minor"/>
            </p:style>
            <p:txBody>
              <a:bodyPr tIns="-34920" bIns="-34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6" name="Freeform 126"/>
            <p:cNvGrpSpPr/>
            <p:nvPr/>
          </p:nvGrpSpPr>
          <p:grpSpPr>
            <a:xfrm>
              <a:off x="2023560" y="2736720"/>
              <a:ext cx="164520" cy="97200"/>
              <a:chOff x="2023560" y="2736720"/>
              <a:chExt cx="164520" cy="97200"/>
            </a:xfrm>
          </p:grpSpPr>
          <p:pic>
            <p:nvPicPr>
              <p:cNvPr id="1087" name="Freeform 126" descr=""/>
              <p:cNvPicPr/>
              <p:nvPr/>
            </p:nvPicPr>
            <p:blipFill>
              <a:blip r:embed="rId19"/>
              <a:stretch/>
            </p:blipFill>
            <p:spPr>
              <a:xfrm>
                <a:off x="2023560" y="2736720"/>
                <a:ext cx="164520" cy="97200"/>
              </a:xfrm>
              <a:prstGeom prst="rect">
                <a:avLst/>
              </a:prstGeom>
              <a:ln w="0">
                <a:noFill/>
              </a:ln>
            </p:spPr>
          </p:pic>
          <p:sp>
            <p:nvSpPr>
              <p:cNvPr id="1088" name=""/>
              <p:cNvSpPr/>
              <p:nvPr/>
            </p:nvSpPr>
            <p:spPr>
              <a:xfrm>
                <a:off x="2026080" y="2737800"/>
                <a:ext cx="160920" cy="939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9" name="Freeform 127"/>
            <p:cNvGrpSpPr/>
            <p:nvPr/>
          </p:nvGrpSpPr>
          <p:grpSpPr>
            <a:xfrm>
              <a:off x="2591280" y="2755080"/>
              <a:ext cx="24120" cy="18000"/>
              <a:chOff x="2591280" y="2755080"/>
              <a:chExt cx="24120" cy="18000"/>
            </a:xfrm>
          </p:grpSpPr>
          <p:pic>
            <p:nvPicPr>
              <p:cNvPr id="1090" name="Freeform 127" descr=""/>
              <p:cNvPicPr/>
              <p:nvPr/>
            </p:nvPicPr>
            <p:blipFill>
              <a:blip r:embed="rId20"/>
              <a:stretch/>
            </p:blipFill>
            <p:spPr>
              <a:xfrm>
                <a:off x="2592000" y="2756160"/>
                <a:ext cx="23400" cy="16920"/>
              </a:xfrm>
              <a:prstGeom prst="rect">
                <a:avLst/>
              </a:prstGeom>
              <a:ln w="0">
                <a:noFill/>
              </a:ln>
            </p:spPr>
          </p:pic>
          <p:sp>
            <p:nvSpPr>
              <p:cNvPr id="1091" name=""/>
              <p:cNvSpPr/>
              <p:nvPr/>
            </p:nvSpPr>
            <p:spPr>
              <a:xfrm>
                <a:off x="2591280" y="2755080"/>
                <a:ext cx="23760" cy="16200"/>
              </a:xfrm>
              <a:prstGeom prst="rect">
                <a:avLst/>
              </a:prstGeom>
              <a:noFill/>
              <a:ln w="0">
                <a:noFill/>
              </a:ln>
            </p:spPr>
            <p:style>
              <a:lnRef idx="0"/>
              <a:fillRef idx="0"/>
              <a:effectRef idx="0"/>
              <a:fontRef idx="minor"/>
            </p:style>
            <p:txBody>
              <a:bodyPr tIns="-29520" bIns="-29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2" name="Freeform 128"/>
            <p:cNvGrpSpPr/>
            <p:nvPr/>
          </p:nvGrpSpPr>
          <p:grpSpPr>
            <a:xfrm>
              <a:off x="2194560" y="2809800"/>
              <a:ext cx="42480" cy="30240"/>
              <a:chOff x="2194560" y="2809800"/>
              <a:chExt cx="42480" cy="30240"/>
            </a:xfrm>
          </p:grpSpPr>
          <p:pic>
            <p:nvPicPr>
              <p:cNvPr id="1093" name="Freeform 128" descr=""/>
              <p:cNvPicPr/>
              <p:nvPr/>
            </p:nvPicPr>
            <p:blipFill>
              <a:blip r:embed="rId21"/>
              <a:stretch/>
            </p:blipFill>
            <p:spPr>
              <a:xfrm>
                <a:off x="2194560" y="2809800"/>
                <a:ext cx="42480" cy="30240"/>
              </a:xfrm>
              <a:prstGeom prst="rect">
                <a:avLst/>
              </a:prstGeom>
              <a:ln w="0">
                <a:noFill/>
              </a:ln>
            </p:spPr>
          </p:pic>
          <p:sp>
            <p:nvSpPr>
              <p:cNvPr id="1094" name=""/>
              <p:cNvSpPr/>
              <p:nvPr/>
            </p:nvSpPr>
            <p:spPr>
              <a:xfrm>
                <a:off x="2195640" y="2811600"/>
                <a:ext cx="39240" cy="28440"/>
              </a:xfrm>
              <a:prstGeom prst="rect">
                <a:avLst/>
              </a:prstGeom>
              <a:noFill/>
              <a:ln w="0">
                <a:noFill/>
              </a:ln>
            </p:spPr>
            <p:style>
              <a:lnRef idx="0"/>
              <a:fillRef idx="0"/>
              <a:effectRef idx="0"/>
              <a:fontRef idx="minor"/>
            </p:style>
            <p:txBody>
              <a:bodyPr tIns="-17280" bIns="-17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95" name="Freeform 129"/>
            <p:cNvSpPr/>
            <p:nvPr/>
          </p:nvSpPr>
          <p:spPr>
            <a:xfrm>
              <a:off x="2324160" y="2844360"/>
              <a:ext cx="6120" cy="4680"/>
            </a:xfrm>
            <a:custGeom>
              <a:avLst/>
              <a:gdLst/>
              <a:ahLst/>
              <a:rect l="l" t="t" r="r" b="b"/>
              <a:pathLst>
                <a:path w="4" h="3">
                  <a:moveTo>
                    <a:pt x="1" y="0"/>
                  </a:moveTo>
                  <a:lnTo>
                    <a:pt x="4" y="0"/>
                  </a:lnTo>
                  <a:lnTo>
                    <a:pt x="4" y="0"/>
                  </a:lnTo>
                  <a:lnTo>
                    <a:pt x="3" y="2"/>
                  </a:lnTo>
                  <a:lnTo>
                    <a:pt x="2" y="3"/>
                  </a:lnTo>
                  <a:lnTo>
                    <a:pt x="1" y="3"/>
                  </a:lnTo>
                  <a:lnTo>
                    <a:pt x="0" y="3"/>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96" name="Freeform 130"/>
            <p:cNvGrpSpPr/>
            <p:nvPr/>
          </p:nvGrpSpPr>
          <p:grpSpPr>
            <a:xfrm>
              <a:off x="2286000" y="2730600"/>
              <a:ext cx="329400" cy="219240"/>
              <a:chOff x="2286000" y="2730600"/>
              <a:chExt cx="329400" cy="219240"/>
            </a:xfrm>
          </p:grpSpPr>
          <p:pic>
            <p:nvPicPr>
              <p:cNvPr id="1097" name="Freeform 130" descr=""/>
              <p:cNvPicPr/>
              <p:nvPr/>
            </p:nvPicPr>
            <p:blipFill>
              <a:blip r:embed="rId22"/>
              <a:stretch/>
            </p:blipFill>
            <p:spPr>
              <a:xfrm>
                <a:off x="2286000" y="2730600"/>
                <a:ext cx="329400" cy="217440"/>
              </a:xfrm>
              <a:prstGeom prst="rect">
                <a:avLst/>
              </a:prstGeom>
              <a:ln w="0">
                <a:noFill/>
              </a:ln>
            </p:spPr>
          </p:pic>
          <p:sp>
            <p:nvSpPr>
              <p:cNvPr id="1098" name=""/>
              <p:cNvSpPr/>
              <p:nvPr/>
            </p:nvSpPr>
            <p:spPr>
              <a:xfrm>
                <a:off x="2286000" y="2733120"/>
                <a:ext cx="329040" cy="2167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9" name="Freeform 131"/>
            <p:cNvGrpSpPr/>
            <p:nvPr/>
          </p:nvGrpSpPr>
          <p:grpSpPr>
            <a:xfrm>
              <a:off x="2469240" y="2901240"/>
              <a:ext cx="5760" cy="5760"/>
              <a:chOff x="2469240" y="2901240"/>
              <a:chExt cx="5760" cy="5760"/>
            </a:xfrm>
          </p:grpSpPr>
          <p:pic>
            <p:nvPicPr>
              <p:cNvPr id="1100" name="Freeform 131" descr=""/>
              <p:cNvPicPr/>
              <p:nvPr/>
            </p:nvPicPr>
            <p:blipFill>
              <a:blip r:embed="rId23"/>
              <a:stretch/>
            </p:blipFill>
            <p:spPr>
              <a:xfrm>
                <a:off x="2469240" y="2901240"/>
                <a:ext cx="4320" cy="5760"/>
              </a:xfrm>
              <a:prstGeom prst="rect">
                <a:avLst/>
              </a:prstGeom>
              <a:ln w="0">
                <a:noFill/>
              </a:ln>
            </p:spPr>
          </p:pic>
          <p:sp>
            <p:nvSpPr>
              <p:cNvPr id="1101" name=""/>
              <p:cNvSpPr/>
              <p:nvPr/>
            </p:nvSpPr>
            <p:spPr>
              <a:xfrm>
                <a:off x="2469600" y="2902680"/>
                <a:ext cx="540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2" name="Freeform 132"/>
            <p:cNvGrpSpPr/>
            <p:nvPr/>
          </p:nvGrpSpPr>
          <p:grpSpPr>
            <a:xfrm>
              <a:off x="2444760" y="2889000"/>
              <a:ext cx="24120" cy="11880"/>
              <a:chOff x="2444760" y="2889000"/>
              <a:chExt cx="24120" cy="11880"/>
            </a:xfrm>
          </p:grpSpPr>
          <p:pic>
            <p:nvPicPr>
              <p:cNvPr id="1103" name="Freeform 132" descr=""/>
              <p:cNvPicPr/>
              <p:nvPr/>
            </p:nvPicPr>
            <p:blipFill>
              <a:blip r:embed="rId24"/>
              <a:stretch/>
            </p:blipFill>
            <p:spPr>
              <a:xfrm>
                <a:off x="2445480" y="2889000"/>
                <a:ext cx="22680" cy="10440"/>
              </a:xfrm>
              <a:prstGeom prst="rect">
                <a:avLst/>
              </a:prstGeom>
              <a:ln w="0">
                <a:noFill/>
              </a:ln>
            </p:spPr>
          </p:pic>
          <p:sp>
            <p:nvSpPr>
              <p:cNvPr id="1104" name=""/>
              <p:cNvSpPr/>
              <p:nvPr/>
            </p:nvSpPr>
            <p:spPr>
              <a:xfrm>
                <a:off x="2444760" y="289080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5" name="Freeform 133"/>
            <p:cNvGrpSpPr/>
            <p:nvPr/>
          </p:nvGrpSpPr>
          <p:grpSpPr>
            <a:xfrm>
              <a:off x="2817000" y="2682000"/>
              <a:ext cx="79200" cy="54720"/>
              <a:chOff x="2817000" y="2682000"/>
              <a:chExt cx="79200" cy="54720"/>
            </a:xfrm>
          </p:grpSpPr>
          <p:pic>
            <p:nvPicPr>
              <p:cNvPr id="1106" name="Freeform 133" descr=""/>
              <p:cNvPicPr/>
              <p:nvPr/>
            </p:nvPicPr>
            <p:blipFill>
              <a:blip r:embed="rId25"/>
              <a:stretch/>
            </p:blipFill>
            <p:spPr>
              <a:xfrm>
                <a:off x="2817000" y="2682000"/>
                <a:ext cx="79200" cy="52560"/>
              </a:xfrm>
              <a:prstGeom prst="rect">
                <a:avLst/>
              </a:prstGeom>
              <a:ln w="0">
                <a:noFill/>
              </a:ln>
            </p:spPr>
          </p:pic>
          <p:sp>
            <p:nvSpPr>
              <p:cNvPr id="1107" name=""/>
              <p:cNvSpPr/>
              <p:nvPr/>
            </p:nvSpPr>
            <p:spPr>
              <a:xfrm>
                <a:off x="2819160" y="2682720"/>
                <a:ext cx="77040" cy="54000"/>
              </a:xfrm>
              <a:prstGeom prst="rect">
                <a:avLst/>
              </a:prstGeom>
              <a:noFill/>
              <a:ln w="0">
                <a:noFill/>
              </a:ln>
            </p:spPr>
            <p:style>
              <a:lnRef idx="0"/>
              <a:fillRef idx="0"/>
              <a:effectRef idx="0"/>
              <a:fontRef idx="minor"/>
            </p:style>
            <p:txBody>
              <a:bodyPr tIns="8280" bIns="8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8" name="Freeform 134"/>
            <p:cNvGrpSpPr/>
            <p:nvPr/>
          </p:nvGrpSpPr>
          <p:grpSpPr>
            <a:xfrm>
              <a:off x="2341080" y="2901240"/>
              <a:ext cx="79200" cy="54720"/>
              <a:chOff x="2341080" y="2901240"/>
              <a:chExt cx="79200" cy="54720"/>
            </a:xfrm>
          </p:grpSpPr>
          <p:pic>
            <p:nvPicPr>
              <p:cNvPr id="1109" name="Freeform 134" descr=""/>
              <p:cNvPicPr/>
              <p:nvPr/>
            </p:nvPicPr>
            <p:blipFill>
              <a:blip r:embed="rId26"/>
              <a:stretch/>
            </p:blipFill>
            <p:spPr>
              <a:xfrm>
                <a:off x="2343960" y="2902320"/>
                <a:ext cx="76320" cy="53640"/>
              </a:xfrm>
              <a:prstGeom prst="rect">
                <a:avLst/>
              </a:prstGeom>
              <a:ln w="0">
                <a:noFill/>
              </a:ln>
            </p:spPr>
          </p:pic>
          <p:sp>
            <p:nvSpPr>
              <p:cNvPr id="1110" name=""/>
              <p:cNvSpPr/>
              <p:nvPr/>
            </p:nvSpPr>
            <p:spPr>
              <a:xfrm>
                <a:off x="2341080" y="2901240"/>
                <a:ext cx="77040" cy="52560"/>
              </a:xfrm>
              <a:prstGeom prst="rect">
                <a:avLst/>
              </a:prstGeom>
              <a:noFill/>
              <a:ln w="0">
                <a:noFill/>
              </a:ln>
            </p:spPr>
            <p:style>
              <a:lnRef idx="0"/>
              <a:fillRef idx="0"/>
              <a:effectRef idx="0"/>
              <a:fontRef idx="minor"/>
            </p:style>
            <p:txBody>
              <a:bodyPr tIns="6840" bIns="6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1" name="Freeform 135"/>
            <p:cNvGrpSpPr/>
            <p:nvPr/>
          </p:nvGrpSpPr>
          <p:grpSpPr>
            <a:xfrm>
              <a:off x="2457000" y="2931840"/>
              <a:ext cx="11880" cy="5760"/>
              <a:chOff x="2457000" y="2931840"/>
              <a:chExt cx="11880" cy="5760"/>
            </a:xfrm>
          </p:grpSpPr>
          <p:pic>
            <p:nvPicPr>
              <p:cNvPr id="1112" name="Freeform 135" descr=""/>
              <p:cNvPicPr/>
              <p:nvPr/>
            </p:nvPicPr>
            <p:blipFill>
              <a:blip r:embed="rId27"/>
              <a:stretch/>
            </p:blipFill>
            <p:spPr>
              <a:xfrm>
                <a:off x="2457000" y="2931840"/>
                <a:ext cx="9720" cy="5760"/>
              </a:xfrm>
              <a:prstGeom prst="rect">
                <a:avLst/>
              </a:prstGeom>
              <a:ln w="0">
                <a:noFill/>
              </a:ln>
            </p:spPr>
          </p:pic>
          <p:sp>
            <p:nvSpPr>
              <p:cNvPr id="1113" name=""/>
              <p:cNvSpPr/>
              <p:nvPr/>
            </p:nvSpPr>
            <p:spPr>
              <a:xfrm>
                <a:off x="2458800" y="2931840"/>
                <a:ext cx="1008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4" name="Freeform 136"/>
            <p:cNvGrpSpPr/>
            <p:nvPr/>
          </p:nvGrpSpPr>
          <p:grpSpPr>
            <a:xfrm>
              <a:off x="1663920" y="2992680"/>
              <a:ext cx="18000" cy="36360"/>
              <a:chOff x="1663920" y="2992680"/>
              <a:chExt cx="18000" cy="36360"/>
            </a:xfrm>
          </p:grpSpPr>
          <p:pic>
            <p:nvPicPr>
              <p:cNvPr id="1115" name="Freeform 136" descr=""/>
              <p:cNvPicPr/>
              <p:nvPr/>
            </p:nvPicPr>
            <p:blipFill>
              <a:blip r:embed="rId28"/>
              <a:stretch/>
            </p:blipFill>
            <p:spPr>
              <a:xfrm>
                <a:off x="1663920" y="2992680"/>
                <a:ext cx="18000" cy="36360"/>
              </a:xfrm>
              <a:prstGeom prst="rect">
                <a:avLst/>
              </a:prstGeom>
              <a:ln w="0">
                <a:noFill/>
              </a:ln>
            </p:spPr>
          </p:pic>
          <p:sp>
            <p:nvSpPr>
              <p:cNvPr id="1116" name=""/>
              <p:cNvSpPr/>
              <p:nvPr/>
            </p:nvSpPr>
            <p:spPr>
              <a:xfrm>
                <a:off x="1663920" y="2995560"/>
                <a:ext cx="17280" cy="33120"/>
              </a:xfrm>
              <a:prstGeom prst="rect">
                <a:avLst/>
              </a:prstGeom>
              <a:noFill/>
              <a:ln w="0">
                <a:noFill/>
              </a:ln>
            </p:spPr>
            <p:style>
              <a:lnRef idx="0"/>
              <a:fillRef idx="0"/>
              <a:effectRef idx="0"/>
              <a:fontRef idx="minor"/>
            </p:style>
            <p:txBody>
              <a:bodyPr tIns="-12600" bIns="-12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7" name="Freeform 137"/>
            <p:cNvGrpSpPr/>
            <p:nvPr/>
          </p:nvGrpSpPr>
          <p:grpSpPr>
            <a:xfrm>
              <a:off x="3042720" y="2761200"/>
              <a:ext cx="5760" cy="5760"/>
              <a:chOff x="3042720" y="2761200"/>
              <a:chExt cx="5760" cy="5760"/>
            </a:xfrm>
          </p:grpSpPr>
          <p:pic>
            <p:nvPicPr>
              <p:cNvPr id="1118" name="Freeform 137" descr=""/>
              <p:cNvPicPr/>
              <p:nvPr/>
            </p:nvPicPr>
            <p:blipFill>
              <a:blip r:embed="rId29"/>
              <a:stretch/>
            </p:blipFill>
            <p:spPr>
              <a:xfrm>
                <a:off x="3043800" y="2761200"/>
                <a:ext cx="4680" cy="5760"/>
              </a:xfrm>
              <a:prstGeom prst="rect">
                <a:avLst/>
              </a:prstGeom>
              <a:ln w="0">
                <a:noFill/>
              </a:ln>
            </p:spPr>
          </p:pic>
          <p:sp>
            <p:nvSpPr>
              <p:cNvPr id="1119" name=""/>
              <p:cNvSpPr/>
              <p:nvPr/>
            </p:nvSpPr>
            <p:spPr>
              <a:xfrm>
                <a:off x="3042720" y="27637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20" name="Freeform 138"/>
            <p:cNvSpPr/>
            <p:nvPr/>
          </p:nvSpPr>
          <p:spPr>
            <a:xfrm>
              <a:off x="3037680" y="2760120"/>
              <a:ext cx="2880" cy="2880"/>
            </a:xfrm>
            <a:custGeom>
              <a:avLst/>
              <a:gdLst/>
              <a:ahLst/>
              <a:rect l="l" t="t" r="r" b="b"/>
              <a:pathLst>
                <a:path w="2" h="2">
                  <a:moveTo>
                    <a:pt x="0" y="0"/>
                  </a:moveTo>
                  <a:lnTo>
                    <a:pt x="1" y="1"/>
                  </a:lnTo>
                  <a:lnTo>
                    <a:pt x="2" y="2"/>
                  </a:lnTo>
                  <a:lnTo>
                    <a:pt x="2"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21" name="Freeform 139"/>
            <p:cNvGrpSpPr/>
            <p:nvPr/>
          </p:nvGrpSpPr>
          <p:grpSpPr>
            <a:xfrm>
              <a:off x="1670040" y="3029040"/>
              <a:ext cx="11880" cy="42480"/>
              <a:chOff x="1670040" y="3029040"/>
              <a:chExt cx="11880" cy="42480"/>
            </a:xfrm>
          </p:grpSpPr>
          <p:pic>
            <p:nvPicPr>
              <p:cNvPr id="1122" name="Freeform 139" descr=""/>
              <p:cNvPicPr/>
              <p:nvPr/>
            </p:nvPicPr>
            <p:blipFill>
              <a:blip r:embed="rId30"/>
              <a:stretch/>
            </p:blipFill>
            <p:spPr>
              <a:xfrm>
                <a:off x="1670040" y="3029040"/>
                <a:ext cx="11880" cy="40680"/>
              </a:xfrm>
              <a:prstGeom prst="rect">
                <a:avLst/>
              </a:prstGeom>
              <a:ln w="0">
                <a:noFill/>
              </a:ln>
            </p:spPr>
          </p:pic>
          <p:sp>
            <p:nvSpPr>
              <p:cNvPr id="1123" name=""/>
              <p:cNvSpPr/>
              <p:nvPr/>
            </p:nvSpPr>
            <p:spPr>
              <a:xfrm>
                <a:off x="1670040" y="3029040"/>
                <a:ext cx="1116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4" name="Freeform 140"/>
            <p:cNvGrpSpPr/>
            <p:nvPr/>
          </p:nvGrpSpPr>
          <p:grpSpPr>
            <a:xfrm>
              <a:off x="3048840" y="2761200"/>
              <a:ext cx="18000" cy="18000"/>
              <a:chOff x="3048840" y="2761200"/>
              <a:chExt cx="18000" cy="18000"/>
            </a:xfrm>
          </p:grpSpPr>
          <p:pic>
            <p:nvPicPr>
              <p:cNvPr id="1125" name="Freeform 140" descr=""/>
              <p:cNvPicPr/>
              <p:nvPr/>
            </p:nvPicPr>
            <p:blipFill>
              <a:blip r:embed="rId31"/>
              <a:stretch/>
            </p:blipFill>
            <p:spPr>
              <a:xfrm>
                <a:off x="3050280" y="2761200"/>
                <a:ext cx="16560" cy="18000"/>
              </a:xfrm>
              <a:prstGeom prst="rect">
                <a:avLst/>
              </a:prstGeom>
              <a:ln w="0">
                <a:noFill/>
              </a:ln>
            </p:spPr>
          </p:pic>
          <p:sp>
            <p:nvSpPr>
              <p:cNvPr id="1126" name=""/>
              <p:cNvSpPr/>
              <p:nvPr/>
            </p:nvSpPr>
            <p:spPr>
              <a:xfrm>
                <a:off x="3048840" y="2763720"/>
                <a:ext cx="15840" cy="12960"/>
              </a:xfrm>
              <a:prstGeom prst="rect">
                <a:avLst/>
              </a:prstGeom>
              <a:noFill/>
              <a:ln w="0">
                <a:noFill/>
              </a:ln>
            </p:spPr>
            <p:style>
              <a:lnRef idx="0"/>
              <a:fillRef idx="0"/>
              <a:effectRef idx="0"/>
              <a:fontRef idx="minor"/>
            </p:style>
            <p:txBody>
              <a:bodyPr tIns="-32760" bIns="-32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7" name="Freeform 141"/>
            <p:cNvGrpSpPr/>
            <p:nvPr/>
          </p:nvGrpSpPr>
          <p:grpSpPr>
            <a:xfrm>
              <a:off x="2999880" y="2724480"/>
              <a:ext cx="146160" cy="115560"/>
              <a:chOff x="2999880" y="2724480"/>
              <a:chExt cx="146160" cy="115560"/>
            </a:xfrm>
          </p:grpSpPr>
          <p:pic>
            <p:nvPicPr>
              <p:cNvPr id="1128" name="Freeform 141" descr=""/>
              <p:cNvPicPr/>
              <p:nvPr/>
            </p:nvPicPr>
            <p:blipFill>
              <a:blip r:embed="rId32"/>
              <a:stretch/>
            </p:blipFill>
            <p:spPr>
              <a:xfrm>
                <a:off x="3002040" y="2724480"/>
                <a:ext cx="143640" cy="115560"/>
              </a:xfrm>
              <a:prstGeom prst="rect">
                <a:avLst/>
              </a:prstGeom>
              <a:ln w="0">
                <a:noFill/>
              </a:ln>
            </p:spPr>
          </p:pic>
          <p:sp>
            <p:nvSpPr>
              <p:cNvPr id="1129" name=""/>
              <p:cNvSpPr/>
              <p:nvPr/>
            </p:nvSpPr>
            <p:spPr>
              <a:xfrm>
                <a:off x="2999880" y="2725920"/>
                <a:ext cx="146160" cy="1130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0" name="Freeform 142"/>
            <p:cNvGrpSpPr/>
            <p:nvPr/>
          </p:nvGrpSpPr>
          <p:grpSpPr>
            <a:xfrm>
              <a:off x="1639440" y="3090240"/>
              <a:ext cx="30240" cy="18000"/>
              <a:chOff x="1639440" y="3090240"/>
              <a:chExt cx="30240" cy="18000"/>
            </a:xfrm>
          </p:grpSpPr>
          <p:pic>
            <p:nvPicPr>
              <p:cNvPr id="1131" name="Freeform 142" descr=""/>
              <p:cNvPicPr/>
              <p:nvPr/>
            </p:nvPicPr>
            <p:blipFill>
              <a:blip r:embed="rId33"/>
              <a:stretch/>
            </p:blipFill>
            <p:spPr>
              <a:xfrm>
                <a:off x="1639440" y="3091680"/>
                <a:ext cx="30240" cy="16200"/>
              </a:xfrm>
              <a:prstGeom prst="rect">
                <a:avLst/>
              </a:prstGeom>
              <a:ln w="0">
                <a:noFill/>
              </a:ln>
            </p:spPr>
          </p:pic>
          <p:sp>
            <p:nvSpPr>
              <p:cNvPr id="1132" name=""/>
              <p:cNvSpPr/>
              <p:nvPr/>
            </p:nvSpPr>
            <p:spPr>
              <a:xfrm>
                <a:off x="1641960" y="3090240"/>
                <a:ext cx="2592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3" name="Freeform 143"/>
            <p:cNvGrpSpPr/>
            <p:nvPr/>
          </p:nvGrpSpPr>
          <p:grpSpPr>
            <a:xfrm>
              <a:off x="3072960" y="2785320"/>
              <a:ext cx="66960" cy="73080"/>
              <a:chOff x="3072960" y="2785320"/>
              <a:chExt cx="66960" cy="73080"/>
            </a:xfrm>
          </p:grpSpPr>
          <p:pic>
            <p:nvPicPr>
              <p:cNvPr id="1134" name="Freeform 143" descr=""/>
              <p:cNvPicPr/>
              <p:nvPr/>
            </p:nvPicPr>
            <p:blipFill>
              <a:blip r:embed="rId34"/>
              <a:stretch/>
            </p:blipFill>
            <p:spPr>
              <a:xfrm>
                <a:off x="3074400" y="2785320"/>
                <a:ext cx="63360" cy="73080"/>
              </a:xfrm>
              <a:prstGeom prst="rect">
                <a:avLst/>
              </a:prstGeom>
              <a:ln w="0">
                <a:noFill/>
              </a:ln>
            </p:spPr>
          </p:pic>
          <p:sp>
            <p:nvSpPr>
              <p:cNvPr id="1135" name=""/>
              <p:cNvSpPr/>
              <p:nvPr/>
            </p:nvSpPr>
            <p:spPr>
              <a:xfrm>
                <a:off x="3072960" y="2788200"/>
                <a:ext cx="66960" cy="69480"/>
              </a:xfrm>
              <a:prstGeom prst="rect">
                <a:avLst/>
              </a:prstGeom>
              <a:noFill/>
              <a:ln w="0">
                <a:noFill/>
              </a:ln>
            </p:spPr>
            <p:style>
              <a:lnRef idx="0"/>
              <a:fillRef idx="0"/>
              <a:effectRef idx="0"/>
              <a:fontRef idx="minor"/>
            </p:style>
            <p:txBody>
              <a:bodyPr tIns="23760" bIns="23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6" name="Freeform 144"/>
            <p:cNvGrpSpPr/>
            <p:nvPr/>
          </p:nvGrpSpPr>
          <p:grpSpPr>
            <a:xfrm>
              <a:off x="1670040" y="3193560"/>
              <a:ext cx="42480" cy="79200"/>
              <a:chOff x="1670040" y="3193560"/>
              <a:chExt cx="42480" cy="79200"/>
            </a:xfrm>
          </p:grpSpPr>
          <p:pic>
            <p:nvPicPr>
              <p:cNvPr id="1137" name="Freeform 144" descr=""/>
              <p:cNvPicPr/>
              <p:nvPr/>
            </p:nvPicPr>
            <p:blipFill>
              <a:blip r:embed="rId35"/>
              <a:stretch/>
            </p:blipFill>
            <p:spPr>
              <a:xfrm>
                <a:off x="1670040" y="3194640"/>
                <a:ext cx="42480" cy="78120"/>
              </a:xfrm>
              <a:prstGeom prst="rect">
                <a:avLst/>
              </a:prstGeom>
              <a:ln w="0">
                <a:noFill/>
              </a:ln>
            </p:spPr>
          </p:pic>
          <p:sp>
            <p:nvSpPr>
              <p:cNvPr id="1138" name=""/>
              <p:cNvSpPr/>
              <p:nvPr/>
            </p:nvSpPr>
            <p:spPr>
              <a:xfrm>
                <a:off x="1670040" y="3193560"/>
                <a:ext cx="4176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9" name="Freeform 145"/>
            <p:cNvGrpSpPr/>
            <p:nvPr/>
          </p:nvGrpSpPr>
          <p:grpSpPr>
            <a:xfrm>
              <a:off x="2792520" y="3230280"/>
              <a:ext cx="36360" cy="11880"/>
              <a:chOff x="2792520" y="3230280"/>
              <a:chExt cx="36360" cy="11880"/>
            </a:xfrm>
          </p:grpSpPr>
          <p:pic>
            <p:nvPicPr>
              <p:cNvPr id="1140" name="Freeform 145" descr=""/>
              <p:cNvPicPr/>
              <p:nvPr/>
            </p:nvPicPr>
            <p:blipFill>
              <a:blip r:embed="rId36"/>
              <a:stretch/>
            </p:blipFill>
            <p:spPr>
              <a:xfrm>
                <a:off x="2792520" y="3231360"/>
                <a:ext cx="34920" cy="10080"/>
              </a:xfrm>
              <a:prstGeom prst="rect">
                <a:avLst/>
              </a:prstGeom>
              <a:ln w="0">
                <a:noFill/>
              </a:ln>
            </p:spPr>
          </p:pic>
          <p:sp>
            <p:nvSpPr>
              <p:cNvPr id="1141" name=""/>
              <p:cNvSpPr/>
              <p:nvPr/>
            </p:nvSpPr>
            <p:spPr>
              <a:xfrm>
                <a:off x="2794320" y="3230280"/>
                <a:ext cx="34560" cy="11880"/>
              </a:xfrm>
              <a:prstGeom prst="rect">
                <a:avLst/>
              </a:prstGeom>
              <a:noFill/>
              <a:ln w="0">
                <a:noFill/>
              </a:ln>
            </p:spPr>
            <p:style>
              <a:lnRef idx="0"/>
              <a:fillRef idx="0"/>
              <a:effectRef idx="0"/>
              <a:fontRef idx="minor"/>
            </p:style>
            <p:txBody>
              <a:bodyPr tIns="-33840" bIns="-33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2" name="Freeform 146"/>
            <p:cNvGrpSpPr/>
            <p:nvPr/>
          </p:nvGrpSpPr>
          <p:grpSpPr>
            <a:xfrm>
              <a:off x="2963160" y="3199680"/>
              <a:ext cx="18000" cy="54720"/>
              <a:chOff x="2963160" y="3199680"/>
              <a:chExt cx="18000" cy="54720"/>
            </a:xfrm>
          </p:grpSpPr>
          <p:pic>
            <p:nvPicPr>
              <p:cNvPr id="1143" name="Freeform 146" descr=""/>
              <p:cNvPicPr/>
              <p:nvPr/>
            </p:nvPicPr>
            <p:blipFill>
              <a:blip r:embed="rId37"/>
              <a:stretch/>
            </p:blipFill>
            <p:spPr>
              <a:xfrm>
                <a:off x="2963160" y="3202200"/>
                <a:ext cx="16920" cy="50760"/>
              </a:xfrm>
              <a:prstGeom prst="rect">
                <a:avLst/>
              </a:prstGeom>
              <a:ln w="0">
                <a:noFill/>
              </a:ln>
            </p:spPr>
          </p:pic>
          <p:sp>
            <p:nvSpPr>
              <p:cNvPr id="1144" name=""/>
              <p:cNvSpPr/>
              <p:nvPr/>
            </p:nvSpPr>
            <p:spPr>
              <a:xfrm>
                <a:off x="2963880" y="3199680"/>
                <a:ext cx="17280" cy="54720"/>
              </a:xfrm>
              <a:prstGeom prst="rect">
                <a:avLst/>
              </a:prstGeom>
              <a:noFill/>
              <a:ln w="0">
                <a:noFill/>
              </a:ln>
            </p:spPr>
            <p:style>
              <a:lnRef idx="0"/>
              <a:fillRef idx="0"/>
              <a:effectRef idx="0"/>
              <a:fontRef idx="minor"/>
            </p:style>
            <p:txBody>
              <a:bodyPr tIns="9000" bIns="9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5" name="Freeform 147"/>
            <p:cNvGrpSpPr/>
            <p:nvPr/>
          </p:nvGrpSpPr>
          <p:grpSpPr>
            <a:xfrm>
              <a:off x="2871720" y="3144960"/>
              <a:ext cx="85320" cy="121680"/>
              <a:chOff x="2871720" y="3144960"/>
              <a:chExt cx="85320" cy="121680"/>
            </a:xfrm>
          </p:grpSpPr>
          <p:pic>
            <p:nvPicPr>
              <p:cNvPr id="1146" name="Freeform 147" descr=""/>
              <p:cNvPicPr/>
              <p:nvPr/>
            </p:nvPicPr>
            <p:blipFill>
              <a:blip r:embed="rId38"/>
              <a:stretch/>
            </p:blipFill>
            <p:spPr>
              <a:xfrm>
                <a:off x="2871720" y="3144960"/>
                <a:ext cx="83880" cy="121680"/>
              </a:xfrm>
              <a:prstGeom prst="rect">
                <a:avLst/>
              </a:prstGeom>
              <a:ln w="0">
                <a:noFill/>
              </a:ln>
            </p:spPr>
          </p:pic>
          <p:sp>
            <p:nvSpPr>
              <p:cNvPr id="1147" name=""/>
              <p:cNvSpPr/>
              <p:nvPr/>
            </p:nvSpPr>
            <p:spPr>
              <a:xfrm>
                <a:off x="2871720" y="3144960"/>
                <a:ext cx="85320" cy="1198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48" name="Freeform 148"/>
            <p:cNvSpPr/>
            <p:nvPr/>
          </p:nvSpPr>
          <p:spPr>
            <a:xfrm>
              <a:off x="2953440" y="3228480"/>
              <a:ext cx="10800" cy="4680"/>
            </a:xfrm>
            <a:custGeom>
              <a:avLst/>
              <a:gdLst/>
              <a:ahLst/>
              <a:rect l="l" t="t" r="r" b="b"/>
              <a:pathLst>
                <a:path w="7" h="3">
                  <a:moveTo>
                    <a:pt x="0" y="0"/>
                  </a:moveTo>
                  <a:lnTo>
                    <a:pt x="3" y="0"/>
                  </a:lnTo>
                  <a:lnTo>
                    <a:pt x="5" y="1"/>
                  </a:lnTo>
                  <a:lnTo>
                    <a:pt x="6" y="1"/>
                  </a:lnTo>
                  <a:lnTo>
                    <a:pt x="7" y="2"/>
                  </a:lnTo>
                  <a:lnTo>
                    <a:pt x="7" y="3"/>
                  </a:lnTo>
                  <a:lnTo>
                    <a:pt x="7" y="3"/>
                  </a:lnTo>
                  <a:lnTo>
                    <a:pt x="5" y="3"/>
                  </a:lnTo>
                  <a:lnTo>
                    <a:pt x="3" y="3"/>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149" name="Freeform 149"/>
            <p:cNvGrpSpPr/>
            <p:nvPr/>
          </p:nvGrpSpPr>
          <p:grpSpPr>
            <a:xfrm>
              <a:off x="2694960" y="3510720"/>
              <a:ext cx="36360" cy="18000"/>
              <a:chOff x="2694960" y="3510720"/>
              <a:chExt cx="36360" cy="18000"/>
            </a:xfrm>
          </p:grpSpPr>
          <p:pic>
            <p:nvPicPr>
              <p:cNvPr id="1150" name="Freeform 149" descr=""/>
              <p:cNvPicPr/>
              <p:nvPr/>
            </p:nvPicPr>
            <p:blipFill>
              <a:blip r:embed="rId39"/>
              <a:stretch/>
            </p:blipFill>
            <p:spPr>
              <a:xfrm>
                <a:off x="2696400" y="3512520"/>
                <a:ext cx="34200" cy="14400"/>
              </a:xfrm>
              <a:prstGeom prst="rect">
                <a:avLst/>
              </a:prstGeom>
              <a:ln w="0">
                <a:noFill/>
              </a:ln>
            </p:spPr>
          </p:pic>
          <p:sp>
            <p:nvSpPr>
              <p:cNvPr id="1151" name=""/>
              <p:cNvSpPr/>
              <p:nvPr/>
            </p:nvSpPr>
            <p:spPr>
              <a:xfrm>
                <a:off x="2694960" y="3510720"/>
                <a:ext cx="363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2" name="Freeform 150"/>
            <p:cNvGrpSpPr/>
            <p:nvPr/>
          </p:nvGrpSpPr>
          <p:grpSpPr>
            <a:xfrm>
              <a:off x="1755360" y="3851640"/>
              <a:ext cx="5760" cy="18000"/>
              <a:chOff x="1755360" y="3851640"/>
              <a:chExt cx="5760" cy="18000"/>
            </a:xfrm>
          </p:grpSpPr>
          <p:pic>
            <p:nvPicPr>
              <p:cNvPr id="1153" name="Freeform 150" descr=""/>
              <p:cNvPicPr/>
              <p:nvPr/>
            </p:nvPicPr>
            <p:blipFill>
              <a:blip r:embed="rId40"/>
              <a:stretch/>
            </p:blipFill>
            <p:spPr>
              <a:xfrm>
                <a:off x="1755360" y="3851640"/>
                <a:ext cx="4320" cy="18000"/>
              </a:xfrm>
              <a:prstGeom prst="rect">
                <a:avLst/>
              </a:prstGeom>
              <a:ln w="0">
                <a:noFill/>
              </a:ln>
            </p:spPr>
          </p:pic>
          <p:sp>
            <p:nvSpPr>
              <p:cNvPr id="1154" name=""/>
              <p:cNvSpPr/>
              <p:nvPr/>
            </p:nvSpPr>
            <p:spPr>
              <a:xfrm>
                <a:off x="1756080" y="3852360"/>
                <a:ext cx="5040" cy="1440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5" name="Freeform 151"/>
            <p:cNvGrpSpPr/>
            <p:nvPr/>
          </p:nvGrpSpPr>
          <p:grpSpPr>
            <a:xfrm>
              <a:off x="2688840" y="3949200"/>
              <a:ext cx="5760" cy="24120"/>
              <a:chOff x="2688840" y="3949200"/>
              <a:chExt cx="5760" cy="24120"/>
            </a:xfrm>
          </p:grpSpPr>
          <p:pic>
            <p:nvPicPr>
              <p:cNvPr id="1156" name="Freeform 151" descr=""/>
              <p:cNvPicPr/>
              <p:nvPr/>
            </p:nvPicPr>
            <p:blipFill>
              <a:blip r:embed="rId41"/>
              <a:stretch/>
            </p:blipFill>
            <p:spPr>
              <a:xfrm>
                <a:off x="2689560" y="3949200"/>
                <a:ext cx="3600" cy="24120"/>
              </a:xfrm>
              <a:prstGeom prst="rect">
                <a:avLst/>
              </a:prstGeom>
              <a:ln w="0">
                <a:noFill/>
              </a:ln>
            </p:spPr>
          </p:pic>
          <p:sp>
            <p:nvSpPr>
              <p:cNvPr id="1157" name=""/>
              <p:cNvSpPr/>
              <p:nvPr/>
            </p:nvSpPr>
            <p:spPr>
              <a:xfrm>
                <a:off x="2688840" y="3950640"/>
                <a:ext cx="57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58" name="Freeform 152"/>
            <p:cNvSpPr/>
            <p:nvPr/>
          </p:nvSpPr>
          <p:spPr>
            <a:xfrm>
              <a:off x="2672280" y="3947040"/>
              <a:ext cx="17280" cy="2880"/>
            </a:xfrm>
            <a:custGeom>
              <a:avLst/>
              <a:gdLst/>
              <a:ahLst/>
              <a:rect l="l" t="t" r="r" b="b"/>
              <a:pathLst>
                <a:path w="13" h="3">
                  <a:moveTo>
                    <a:pt x="0" y="0"/>
                  </a:moveTo>
                  <a:lnTo>
                    <a:pt x="1" y="0"/>
                  </a:lnTo>
                  <a:lnTo>
                    <a:pt x="5" y="1"/>
                  </a:lnTo>
                  <a:lnTo>
                    <a:pt x="9" y="2"/>
                  </a:lnTo>
                  <a:lnTo>
                    <a:pt x="13" y="3"/>
                  </a:lnTo>
                  <a:lnTo>
                    <a:pt x="7"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59" name="Freeform 153"/>
            <p:cNvGrpSpPr/>
            <p:nvPr/>
          </p:nvGrpSpPr>
          <p:grpSpPr>
            <a:xfrm>
              <a:off x="2499480" y="4065120"/>
              <a:ext cx="268200" cy="79200"/>
              <a:chOff x="2499480" y="4065120"/>
              <a:chExt cx="268200" cy="79200"/>
            </a:xfrm>
          </p:grpSpPr>
          <p:pic>
            <p:nvPicPr>
              <p:cNvPr id="1160" name="Freeform 153" descr=""/>
              <p:cNvPicPr/>
              <p:nvPr/>
            </p:nvPicPr>
            <p:blipFill>
              <a:blip r:embed="rId42"/>
              <a:stretch/>
            </p:blipFill>
            <p:spPr>
              <a:xfrm>
                <a:off x="2499480" y="4065120"/>
                <a:ext cx="266400" cy="79200"/>
              </a:xfrm>
              <a:prstGeom prst="rect">
                <a:avLst/>
              </a:prstGeom>
              <a:ln w="0">
                <a:noFill/>
              </a:ln>
            </p:spPr>
          </p:pic>
          <p:sp>
            <p:nvSpPr>
              <p:cNvPr id="1161" name=""/>
              <p:cNvSpPr/>
              <p:nvPr/>
            </p:nvSpPr>
            <p:spPr>
              <a:xfrm>
                <a:off x="2501640" y="4066920"/>
                <a:ext cx="26604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2" name="Freeform 154"/>
            <p:cNvGrpSpPr/>
            <p:nvPr/>
          </p:nvGrpSpPr>
          <p:grpSpPr>
            <a:xfrm>
              <a:off x="2890080" y="2608560"/>
              <a:ext cx="5760" cy="5760"/>
              <a:chOff x="2890080" y="2608560"/>
              <a:chExt cx="5760" cy="5760"/>
            </a:xfrm>
          </p:grpSpPr>
          <p:pic>
            <p:nvPicPr>
              <p:cNvPr id="1163" name="Freeform 154" descr=""/>
              <p:cNvPicPr/>
              <p:nvPr/>
            </p:nvPicPr>
            <p:blipFill>
              <a:blip r:embed="rId43"/>
              <a:stretch/>
            </p:blipFill>
            <p:spPr>
              <a:xfrm>
                <a:off x="2890080" y="2608560"/>
                <a:ext cx="5760" cy="5760"/>
              </a:xfrm>
              <a:prstGeom prst="rect">
                <a:avLst/>
              </a:prstGeom>
              <a:ln w="0">
                <a:noFill/>
              </a:ln>
            </p:spPr>
          </p:pic>
          <p:sp>
            <p:nvSpPr>
              <p:cNvPr id="1164" name=""/>
              <p:cNvSpPr/>
              <p:nvPr/>
            </p:nvSpPr>
            <p:spPr>
              <a:xfrm>
                <a:off x="2890080" y="261000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5" name="Freeform 155"/>
            <p:cNvGrpSpPr/>
            <p:nvPr/>
          </p:nvGrpSpPr>
          <p:grpSpPr>
            <a:xfrm>
              <a:off x="2896200" y="2614680"/>
              <a:ext cx="30240" cy="18000"/>
              <a:chOff x="2896200" y="2614680"/>
              <a:chExt cx="30240" cy="18000"/>
            </a:xfrm>
          </p:grpSpPr>
          <p:pic>
            <p:nvPicPr>
              <p:cNvPr id="1166" name="Freeform 155" descr=""/>
              <p:cNvPicPr/>
              <p:nvPr/>
            </p:nvPicPr>
            <p:blipFill>
              <a:blip r:embed="rId44"/>
              <a:stretch/>
            </p:blipFill>
            <p:spPr>
              <a:xfrm>
                <a:off x="2896200" y="2615760"/>
                <a:ext cx="30240" cy="16920"/>
              </a:xfrm>
              <a:prstGeom prst="rect">
                <a:avLst/>
              </a:prstGeom>
              <a:ln w="0">
                <a:noFill/>
              </a:ln>
            </p:spPr>
          </p:pic>
          <p:sp>
            <p:nvSpPr>
              <p:cNvPr id="1167" name=""/>
              <p:cNvSpPr/>
              <p:nvPr/>
            </p:nvSpPr>
            <p:spPr>
              <a:xfrm>
                <a:off x="2896200" y="2614680"/>
                <a:ext cx="28800" cy="15840"/>
              </a:xfrm>
              <a:prstGeom prst="rect">
                <a:avLst/>
              </a:prstGeom>
              <a:noFill/>
              <a:ln w="0">
                <a:noFill/>
              </a:ln>
            </p:spPr>
            <p:style>
              <a:lnRef idx="0"/>
              <a:fillRef idx="0"/>
              <a:effectRef idx="0"/>
              <a:fontRef idx="minor"/>
            </p:style>
            <p:txBody>
              <a:bodyPr tIns="-29880" bIns="-29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8" name="Freeform 156"/>
            <p:cNvGrpSpPr/>
            <p:nvPr/>
          </p:nvGrpSpPr>
          <p:grpSpPr>
            <a:xfrm>
              <a:off x="2835000" y="2578320"/>
              <a:ext cx="5760" cy="5760"/>
              <a:chOff x="2835000" y="2578320"/>
              <a:chExt cx="5760" cy="5760"/>
            </a:xfrm>
          </p:grpSpPr>
          <p:pic>
            <p:nvPicPr>
              <p:cNvPr id="1169" name="Freeform 156" descr=""/>
              <p:cNvPicPr/>
              <p:nvPr/>
            </p:nvPicPr>
            <p:blipFill>
              <a:blip r:embed="rId45"/>
              <a:stretch/>
            </p:blipFill>
            <p:spPr>
              <a:xfrm>
                <a:off x="2836080" y="2578320"/>
                <a:ext cx="4680" cy="5760"/>
              </a:xfrm>
              <a:prstGeom prst="rect">
                <a:avLst/>
              </a:prstGeom>
              <a:ln w="0">
                <a:noFill/>
              </a:ln>
            </p:spPr>
          </p:pic>
          <p:sp>
            <p:nvSpPr>
              <p:cNvPr id="1170" name=""/>
              <p:cNvSpPr/>
              <p:nvPr/>
            </p:nvSpPr>
            <p:spPr>
              <a:xfrm>
                <a:off x="2835000" y="257976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1" name="Freeform 157"/>
            <p:cNvGrpSpPr/>
            <p:nvPr/>
          </p:nvGrpSpPr>
          <p:grpSpPr>
            <a:xfrm>
              <a:off x="2841120" y="2584440"/>
              <a:ext cx="24120" cy="11880"/>
              <a:chOff x="2841120" y="2584440"/>
              <a:chExt cx="24120" cy="11880"/>
            </a:xfrm>
          </p:grpSpPr>
          <p:pic>
            <p:nvPicPr>
              <p:cNvPr id="1172" name="Freeform 157" descr=""/>
              <p:cNvPicPr/>
              <p:nvPr/>
            </p:nvPicPr>
            <p:blipFill>
              <a:blip r:embed="rId46"/>
              <a:stretch/>
            </p:blipFill>
            <p:spPr>
              <a:xfrm>
                <a:off x="2841120" y="2585520"/>
                <a:ext cx="22680" cy="10800"/>
              </a:xfrm>
              <a:prstGeom prst="rect">
                <a:avLst/>
              </a:prstGeom>
              <a:ln w="0">
                <a:noFill/>
              </a:ln>
            </p:spPr>
          </p:pic>
          <p:sp>
            <p:nvSpPr>
              <p:cNvPr id="1173" name=""/>
              <p:cNvSpPr/>
              <p:nvPr/>
            </p:nvSpPr>
            <p:spPr>
              <a:xfrm>
                <a:off x="2841120" y="2584440"/>
                <a:ext cx="24120" cy="11520"/>
              </a:xfrm>
              <a:prstGeom prst="rect">
                <a:avLst/>
              </a:prstGeom>
              <a:noFill/>
              <a:ln w="0">
                <a:noFill/>
              </a:ln>
            </p:spPr>
            <p:style>
              <a:lnRef idx="0"/>
              <a:fillRef idx="0"/>
              <a:effectRef idx="0"/>
              <a:fontRef idx="minor"/>
            </p:style>
            <p:txBody>
              <a:bodyPr tIns="-34200" bIns="-34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74" name="Freeform 158"/>
            <p:cNvSpPr/>
            <p:nvPr/>
          </p:nvSpPr>
          <p:spPr>
            <a:xfrm>
              <a:off x="2670480" y="2509560"/>
              <a:ext cx="14040" cy="2880"/>
            </a:xfrm>
            <a:custGeom>
              <a:avLst/>
              <a:gdLst/>
              <a:ahLst/>
              <a:rect l="l" t="t" r="r" b="b"/>
              <a:pathLst>
                <a:path w="10" h="3">
                  <a:moveTo>
                    <a:pt x="0" y="0"/>
                  </a:moveTo>
                  <a:lnTo>
                    <a:pt x="10" y="3"/>
                  </a:lnTo>
                  <a:lnTo>
                    <a:pt x="0" y="0"/>
                  </a:lnTo>
                  <a:lnTo>
                    <a:pt x="0" y="0"/>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75" name="Freeform 159"/>
            <p:cNvGrpSpPr/>
            <p:nvPr/>
          </p:nvGrpSpPr>
          <p:grpSpPr>
            <a:xfrm>
              <a:off x="2780280" y="4101480"/>
              <a:ext cx="146160" cy="66960"/>
              <a:chOff x="2780280" y="4101480"/>
              <a:chExt cx="146160" cy="66960"/>
            </a:xfrm>
          </p:grpSpPr>
          <p:pic>
            <p:nvPicPr>
              <p:cNvPr id="1176" name="Freeform 159" descr=""/>
              <p:cNvPicPr/>
              <p:nvPr/>
            </p:nvPicPr>
            <p:blipFill>
              <a:blip r:embed="rId47"/>
              <a:stretch/>
            </p:blipFill>
            <p:spPr>
              <a:xfrm>
                <a:off x="2780280" y="4101480"/>
                <a:ext cx="143640" cy="66240"/>
              </a:xfrm>
              <a:prstGeom prst="rect">
                <a:avLst/>
              </a:prstGeom>
              <a:ln w="0">
                <a:noFill/>
              </a:ln>
            </p:spPr>
          </p:pic>
          <p:sp>
            <p:nvSpPr>
              <p:cNvPr id="1177" name=""/>
              <p:cNvSpPr/>
              <p:nvPr/>
            </p:nvSpPr>
            <p:spPr>
              <a:xfrm>
                <a:off x="2780280" y="4102920"/>
                <a:ext cx="146160" cy="65520"/>
              </a:xfrm>
              <a:prstGeom prst="rect">
                <a:avLst/>
              </a:prstGeom>
              <a:noFill/>
              <a:ln w="0">
                <a:noFill/>
              </a:ln>
            </p:spPr>
            <p:style>
              <a:lnRef idx="0"/>
              <a:fillRef idx="0"/>
              <a:effectRef idx="0"/>
              <a:fontRef idx="minor"/>
            </p:style>
            <p:txBody>
              <a:bodyPr tIns="19800" bIns="19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8" name="Freeform 160"/>
            <p:cNvGrpSpPr/>
            <p:nvPr/>
          </p:nvGrpSpPr>
          <p:grpSpPr>
            <a:xfrm>
              <a:off x="2950920" y="4101480"/>
              <a:ext cx="30240" cy="24120"/>
              <a:chOff x="2950920" y="4101480"/>
              <a:chExt cx="30240" cy="24120"/>
            </a:xfrm>
          </p:grpSpPr>
          <p:pic>
            <p:nvPicPr>
              <p:cNvPr id="1179" name="Freeform 160" descr=""/>
              <p:cNvPicPr/>
              <p:nvPr/>
            </p:nvPicPr>
            <p:blipFill>
              <a:blip r:embed="rId48"/>
              <a:stretch/>
            </p:blipFill>
            <p:spPr>
              <a:xfrm>
                <a:off x="2950920" y="4101480"/>
                <a:ext cx="30240" cy="24120"/>
              </a:xfrm>
              <a:prstGeom prst="rect">
                <a:avLst/>
              </a:prstGeom>
              <a:ln w="0">
                <a:noFill/>
              </a:ln>
            </p:spPr>
          </p:pic>
          <p:sp>
            <p:nvSpPr>
              <p:cNvPr id="1180" name=""/>
              <p:cNvSpPr/>
              <p:nvPr/>
            </p:nvSpPr>
            <p:spPr>
              <a:xfrm>
                <a:off x="2952360" y="4101480"/>
                <a:ext cx="288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1" name="Freeform 161"/>
            <p:cNvGrpSpPr/>
            <p:nvPr/>
          </p:nvGrpSpPr>
          <p:grpSpPr>
            <a:xfrm>
              <a:off x="2322720" y="4650120"/>
              <a:ext cx="18000" cy="24120"/>
              <a:chOff x="2322720" y="4650120"/>
              <a:chExt cx="18000" cy="24120"/>
            </a:xfrm>
          </p:grpSpPr>
          <p:pic>
            <p:nvPicPr>
              <p:cNvPr id="1182" name="Freeform 161" descr=""/>
              <p:cNvPicPr/>
              <p:nvPr/>
            </p:nvPicPr>
            <p:blipFill>
              <a:blip r:embed="rId49"/>
              <a:stretch/>
            </p:blipFill>
            <p:spPr>
              <a:xfrm>
                <a:off x="2324520" y="4650120"/>
                <a:ext cx="16200" cy="24120"/>
              </a:xfrm>
              <a:prstGeom prst="rect">
                <a:avLst/>
              </a:prstGeom>
              <a:ln w="0">
                <a:noFill/>
              </a:ln>
            </p:spPr>
          </p:pic>
          <p:sp>
            <p:nvSpPr>
              <p:cNvPr id="1183" name=""/>
              <p:cNvSpPr/>
              <p:nvPr/>
            </p:nvSpPr>
            <p:spPr>
              <a:xfrm>
                <a:off x="2322720" y="4651560"/>
                <a:ext cx="180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4" name="Freeform 162"/>
            <p:cNvGrpSpPr/>
            <p:nvPr/>
          </p:nvGrpSpPr>
          <p:grpSpPr>
            <a:xfrm>
              <a:off x="1438200" y="2675880"/>
              <a:ext cx="1976400" cy="2242080"/>
              <a:chOff x="1438200" y="2675880"/>
              <a:chExt cx="1976400" cy="2242080"/>
            </a:xfrm>
          </p:grpSpPr>
          <p:pic>
            <p:nvPicPr>
              <p:cNvPr id="1185" name="Freeform 162" descr=""/>
              <p:cNvPicPr/>
              <p:nvPr/>
            </p:nvPicPr>
            <p:blipFill>
              <a:blip r:embed="rId50"/>
              <a:stretch/>
            </p:blipFill>
            <p:spPr>
              <a:xfrm>
                <a:off x="1438560" y="2677320"/>
                <a:ext cx="1976040" cy="2240640"/>
              </a:xfrm>
              <a:prstGeom prst="rect">
                <a:avLst/>
              </a:prstGeom>
              <a:ln w="0">
                <a:noFill/>
              </a:ln>
            </p:spPr>
          </p:pic>
          <p:sp>
            <p:nvSpPr>
              <p:cNvPr id="1186" name=""/>
              <p:cNvSpPr/>
              <p:nvPr/>
            </p:nvSpPr>
            <p:spPr>
              <a:xfrm>
                <a:off x="1438200" y="2675880"/>
                <a:ext cx="1975680" cy="22410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87" name="Freeform 163"/>
            <p:cNvSpPr/>
            <p:nvPr/>
          </p:nvSpPr>
          <p:spPr>
            <a:xfrm>
              <a:off x="3031200" y="4273920"/>
              <a:ext cx="1440" cy="1440"/>
            </a:xfrm>
            <a:custGeom>
              <a:avLst/>
              <a:gdLst/>
              <a:ahLst/>
              <a:rect l="l" t="t" r="r" b="b"/>
              <a:pathLst>
                <a:path w="1" h="1587">
                  <a:moveTo>
                    <a:pt x="1" y="0"/>
                  </a:moveTo>
                  <a:lnTo>
                    <a:pt x="1" y="0"/>
                  </a:lnTo>
                  <a:lnTo>
                    <a:pt x="1" y="0"/>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188" name="Freeform 164"/>
            <p:cNvGrpSpPr/>
            <p:nvPr/>
          </p:nvGrpSpPr>
          <p:grpSpPr>
            <a:xfrm>
              <a:off x="2810880" y="3291120"/>
              <a:ext cx="85320" cy="115560"/>
              <a:chOff x="2810880" y="3291120"/>
              <a:chExt cx="85320" cy="115560"/>
            </a:xfrm>
          </p:grpSpPr>
          <p:pic>
            <p:nvPicPr>
              <p:cNvPr id="1189" name="Freeform 164" descr=""/>
              <p:cNvPicPr/>
              <p:nvPr/>
            </p:nvPicPr>
            <p:blipFill>
              <a:blip r:embed="rId51"/>
              <a:stretch/>
            </p:blipFill>
            <p:spPr>
              <a:xfrm>
                <a:off x="2810880" y="3292560"/>
                <a:ext cx="83880" cy="111600"/>
              </a:xfrm>
              <a:prstGeom prst="rect">
                <a:avLst/>
              </a:prstGeom>
              <a:ln w="0">
                <a:noFill/>
              </a:ln>
            </p:spPr>
          </p:pic>
          <p:sp>
            <p:nvSpPr>
              <p:cNvPr id="1190" name=""/>
              <p:cNvSpPr/>
              <p:nvPr/>
            </p:nvSpPr>
            <p:spPr>
              <a:xfrm>
                <a:off x="2810880" y="3291120"/>
                <a:ext cx="85320" cy="1155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1" name="Freeform 165"/>
            <p:cNvGrpSpPr/>
            <p:nvPr/>
          </p:nvGrpSpPr>
          <p:grpSpPr>
            <a:xfrm>
              <a:off x="1712520" y="3230280"/>
              <a:ext cx="5760" cy="11880"/>
              <a:chOff x="1712520" y="3230280"/>
              <a:chExt cx="5760" cy="11880"/>
            </a:xfrm>
          </p:grpSpPr>
          <p:pic>
            <p:nvPicPr>
              <p:cNvPr id="1192" name="Freeform 165" descr=""/>
              <p:cNvPicPr/>
              <p:nvPr/>
            </p:nvPicPr>
            <p:blipFill>
              <a:blip r:embed="rId52"/>
              <a:stretch/>
            </p:blipFill>
            <p:spPr>
              <a:xfrm>
                <a:off x="1712520" y="3230280"/>
                <a:ext cx="5760" cy="11880"/>
              </a:xfrm>
              <a:prstGeom prst="rect">
                <a:avLst/>
              </a:prstGeom>
              <a:ln w="0">
                <a:noFill/>
              </a:ln>
            </p:spPr>
          </p:pic>
          <p:sp>
            <p:nvSpPr>
              <p:cNvPr id="1193" name=""/>
              <p:cNvSpPr/>
              <p:nvPr/>
            </p:nvSpPr>
            <p:spPr>
              <a:xfrm>
                <a:off x="1712880" y="3232800"/>
                <a:ext cx="5400" cy="7200"/>
              </a:xfrm>
              <a:prstGeom prst="rect">
                <a:avLst/>
              </a:prstGeom>
              <a:noFill/>
              <a:ln w="0">
                <a:noFill/>
              </a:ln>
            </p:spPr>
            <p:style>
              <a:lnRef idx="0"/>
              <a:fillRef idx="0"/>
              <a:effectRef idx="0"/>
              <a:fontRef idx="minor"/>
            </p:style>
            <p:txBody>
              <a:bodyPr tIns="-38520" bIns="-38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94" name="Freeform 166"/>
            <p:cNvSpPr/>
            <p:nvPr/>
          </p:nvSpPr>
          <p:spPr>
            <a:xfrm>
              <a:off x="2824560" y="3331440"/>
              <a:ext cx="9360" cy="2880"/>
            </a:xfrm>
            <a:custGeom>
              <a:avLst/>
              <a:gdLst/>
              <a:ahLst/>
              <a:rect l="l" t="t" r="r" b="b"/>
              <a:pathLst>
                <a:path w="6" h="2">
                  <a:moveTo>
                    <a:pt x="0" y="0"/>
                  </a:moveTo>
                  <a:lnTo>
                    <a:pt x="3" y="1"/>
                  </a:lnTo>
                  <a:lnTo>
                    <a:pt x="6"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sp>
          <p:nvSpPr>
            <p:cNvPr id="1195" name="Freeform 167"/>
            <p:cNvSpPr/>
            <p:nvPr/>
          </p:nvSpPr>
          <p:spPr>
            <a:xfrm>
              <a:off x="2546640" y="4354920"/>
              <a:ext cx="1440" cy="7920"/>
            </a:xfrm>
            <a:custGeom>
              <a:avLst/>
              <a:gdLst/>
              <a:ahLst/>
              <a:rect l="l" t="t" r="r" b="b"/>
              <a:pathLst>
                <a:path w="1" h="6">
                  <a:moveTo>
                    <a:pt x="1" y="2"/>
                  </a:moveTo>
                  <a:lnTo>
                    <a:pt x="1" y="4"/>
                  </a:lnTo>
                  <a:lnTo>
                    <a:pt x="1" y="6"/>
                  </a:lnTo>
                  <a:lnTo>
                    <a:pt x="1" y="6"/>
                  </a:lnTo>
                  <a:lnTo>
                    <a:pt x="1" y="2"/>
                  </a:lnTo>
                  <a:close/>
                  <a:moveTo>
                    <a:pt x="0" y="0"/>
                  </a:moveTo>
                  <a:lnTo>
                    <a:pt x="1" y="1"/>
                  </a:lnTo>
                  <a:lnTo>
                    <a:pt x="1"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grpSp>
          <p:nvGrpSpPr>
            <p:cNvPr id="1196" name="Freeform 168"/>
            <p:cNvGrpSpPr/>
            <p:nvPr/>
          </p:nvGrpSpPr>
          <p:grpSpPr>
            <a:xfrm>
              <a:off x="2810880" y="3090240"/>
              <a:ext cx="5760" cy="5760"/>
              <a:chOff x="2810880" y="3090240"/>
              <a:chExt cx="5760" cy="5760"/>
            </a:xfrm>
          </p:grpSpPr>
          <p:pic>
            <p:nvPicPr>
              <p:cNvPr id="1197" name="Freeform 168" descr=""/>
              <p:cNvPicPr/>
              <p:nvPr/>
            </p:nvPicPr>
            <p:blipFill>
              <a:blip r:embed="rId53"/>
              <a:stretch/>
            </p:blipFill>
            <p:spPr>
              <a:xfrm>
                <a:off x="2810880" y="3090240"/>
                <a:ext cx="5040" cy="4320"/>
              </a:xfrm>
              <a:prstGeom prst="rect">
                <a:avLst/>
              </a:prstGeom>
              <a:ln w="0">
                <a:noFill/>
              </a:ln>
            </p:spPr>
          </p:pic>
          <p:sp>
            <p:nvSpPr>
              <p:cNvPr id="1198" name=""/>
              <p:cNvSpPr/>
              <p:nvPr/>
            </p:nvSpPr>
            <p:spPr>
              <a:xfrm>
                <a:off x="2813040" y="3091680"/>
                <a:ext cx="3600" cy="4320"/>
              </a:xfrm>
              <a:prstGeom prst="rect">
                <a:avLst/>
              </a:prstGeom>
              <a:noFill/>
              <a:ln w="0">
                <a:noFill/>
              </a:ln>
            </p:spPr>
            <p:style>
              <a:lnRef idx="0"/>
              <a:fillRef idx="0"/>
              <a:effectRef idx="0"/>
              <a:fontRef idx="minor"/>
            </p:style>
            <p:txBody>
              <a:bodyPr tIns="-41400" bIns="-41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9" name="Freeform 169"/>
            <p:cNvGrpSpPr/>
            <p:nvPr/>
          </p:nvGrpSpPr>
          <p:grpSpPr>
            <a:xfrm>
              <a:off x="2231280" y="3906720"/>
              <a:ext cx="5760" cy="5760"/>
              <a:chOff x="2231280" y="3906720"/>
              <a:chExt cx="5760" cy="5760"/>
            </a:xfrm>
          </p:grpSpPr>
          <p:pic>
            <p:nvPicPr>
              <p:cNvPr id="1200" name="Freeform 169" descr=""/>
              <p:cNvPicPr/>
              <p:nvPr/>
            </p:nvPicPr>
            <p:blipFill>
              <a:blip r:embed="rId54"/>
              <a:stretch/>
            </p:blipFill>
            <p:spPr>
              <a:xfrm>
                <a:off x="2231640" y="3907080"/>
                <a:ext cx="5040" cy="5400"/>
              </a:xfrm>
              <a:prstGeom prst="rect">
                <a:avLst/>
              </a:prstGeom>
              <a:ln w="0">
                <a:noFill/>
              </a:ln>
            </p:spPr>
          </p:pic>
          <p:sp>
            <p:nvSpPr>
              <p:cNvPr id="1201" name=""/>
              <p:cNvSpPr/>
              <p:nvPr/>
            </p:nvSpPr>
            <p:spPr>
              <a:xfrm>
                <a:off x="2231280" y="3906720"/>
                <a:ext cx="576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2" name="Freeform 170"/>
            <p:cNvGrpSpPr/>
            <p:nvPr/>
          </p:nvGrpSpPr>
          <p:grpSpPr>
            <a:xfrm>
              <a:off x="2682720" y="3656880"/>
              <a:ext cx="5760" cy="18000"/>
              <a:chOff x="2682720" y="3656880"/>
              <a:chExt cx="5760" cy="18000"/>
            </a:xfrm>
          </p:grpSpPr>
          <p:pic>
            <p:nvPicPr>
              <p:cNvPr id="1203" name="Freeform 170" descr=""/>
              <p:cNvPicPr/>
              <p:nvPr/>
            </p:nvPicPr>
            <p:blipFill>
              <a:blip r:embed="rId55"/>
              <a:stretch/>
            </p:blipFill>
            <p:spPr>
              <a:xfrm>
                <a:off x="2683440" y="3656880"/>
                <a:ext cx="3960" cy="17280"/>
              </a:xfrm>
              <a:prstGeom prst="rect">
                <a:avLst/>
              </a:prstGeom>
              <a:ln w="0">
                <a:noFill/>
              </a:ln>
            </p:spPr>
          </p:pic>
          <p:sp>
            <p:nvSpPr>
              <p:cNvPr id="1204" name=""/>
              <p:cNvSpPr/>
              <p:nvPr/>
            </p:nvSpPr>
            <p:spPr>
              <a:xfrm>
                <a:off x="2682720" y="3656880"/>
                <a:ext cx="57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5" name="Freeform 171"/>
            <p:cNvGrpSpPr/>
            <p:nvPr/>
          </p:nvGrpSpPr>
          <p:grpSpPr>
            <a:xfrm>
              <a:off x="2676600" y="3650760"/>
              <a:ext cx="5760" cy="5760"/>
              <a:chOff x="2676600" y="3650760"/>
              <a:chExt cx="5760" cy="5760"/>
            </a:xfrm>
          </p:grpSpPr>
          <p:pic>
            <p:nvPicPr>
              <p:cNvPr id="1206" name="Freeform 171" descr=""/>
              <p:cNvPicPr/>
              <p:nvPr/>
            </p:nvPicPr>
            <p:blipFill>
              <a:blip r:embed="rId56"/>
              <a:stretch/>
            </p:blipFill>
            <p:spPr>
              <a:xfrm>
                <a:off x="2676960" y="3650760"/>
                <a:ext cx="5400" cy="5760"/>
              </a:xfrm>
              <a:prstGeom prst="rect">
                <a:avLst/>
              </a:prstGeom>
              <a:ln w="0">
                <a:noFill/>
              </a:ln>
            </p:spPr>
          </p:pic>
          <p:sp>
            <p:nvSpPr>
              <p:cNvPr id="1207" name=""/>
              <p:cNvSpPr/>
              <p:nvPr/>
            </p:nvSpPr>
            <p:spPr>
              <a:xfrm>
                <a:off x="2676600" y="3651120"/>
                <a:ext cx="504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8" name="Freeform 172"/>
            <p:cNvGrpSpPr/>
            <p:nvPr/>
          </p:nvGrpSpPr>
          <p:grpSpPr>
            <a:xfrm>
              <a:off x="1462320" y="2438280"/>
              <a:ext cx="811080" cy="273960"/>
              <a:chOff x="1462320" y="2438280"/>
              <a:chExt cx="811080" cy="273960"/>
            </a:xfrm>
          </p:grpSpPr>
          <p:pic>
            <p:nvPicPr>
              <p:cNvPr id="1209" name="Freeform 172" descr=""/>
              <p:cNvPicPr/>
              <p:nvPr/>
            </p:nvPicPr>
            <p:blipFill>
              <a:blip r:embed="rId57"/>
              <a:stretch/>
            </p:blipFill>
            <p:spPr>
              <a:xfrm>
                <a:off x="1462320" y="2438280"/>
                <a:ext cx="811080" cy="273960"/>
              </a:xfrm>
              <a:prstGeom prst="rect">
                <a:avLst/>
              </a:prstGeom>
              <a:ln w="0">
                <a:noFill/>
              </a:ln>
            </p:spPr>
          </p:pic>
          <p:sp>
            <p:nvSpPr>
              <p:cNvPr id="1210" name=""/>
              <p:cNvSpPr/>
              <p:nvPr/>
            </p:nvSpPr>
            <p:spPr>
              <a:xfrm>
                <a:off x="1463400" y="2438280"/>
                <a:ext cx="807480" cy="273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1" name="Freeform 173"/>
            <p:cNvGrpSpPr/>
            <p:nvPr/>
          </p:nvGrpSpPr>
          <p:grpSpPr>
            <a:xfrm>
              <a:off x="2615400" y="2493000"/>
              <a:ext cx="371880" cy="182520"/>
              <a:chOff x="2615400" y="2493000"/>
              <a:chExt cx="371880" cy="182520"/>
            </a:xfrm>
          </p:grpSpPr>
          <p:pic>
            <p:nvPicPr>
              <p:cNvPr id="1212" name="Freeform 173" descr=""/>
              <p:cNvPicPr/>
              <p:nvPr/>
            </p:nvPicPr>
            <p:blipFill>
              <a:blip r:embed="rId58"/>
              <a:stretch/>
            </p:blipFill>
            <p:spPr>
              <a:xfrm>
                <a:off x="2615400" y="2495520"/>
                <a:ext cx="371880" cy="177480"/>
              </a:xfrm>
              <a:prstGeom prst="rect">
                <a:avLst/>
              </a:prstGeom>
              <a:ln w="0">
                <a:noFill/>
              </a:ln>
            </p:spPr>
          </p:pic>
          <p:sp>
            <p:nvSpPr>
              <p:cNvPr id="1213" name=""/>
              <p:cNvSpPr/>
              <p:nvPr/>
            </p:nvSpPr>
            <p:spPr>
              <a:xfrm>
                <a:off x="2616120" y="2493000"/>
                <a:ext cx="371160" cy="1825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4" name="Freeform 174"/>
            <p:cNvGrpSpPr/>
            <p:nvPr/>
          </p:nvGrpSpPr>
          <p:grpSpPr>
            <a:xfrm>
              <a:off x="2957040" y="2657520"/>
              <a:ext cx="396360" cy="420120"/>
              <a:chOff x="2957040" y="2657520"/>
              <a:chExt cx="396360" cy="420120"/>
            </a:xfrm>
          </p:grpSpPr>
          <p:pic>
            <p:nvPicPr>
              <p:cNvPr id="1215" name="Freeform 174" descr=""/>
              <p:cNvPicPr/>
              <p:nvPr/>
            </p:nvPicPr>
            <p:blipFill>
              <a:blip r:embed="rId59"/>
              <a:stretch/>
            </p:blipFill>
            <p:spPr>
              <a:xfrm>
                <a:off x="2957040" y="2659680"/>
                <a:ext cx="396000" cy="417960"/>
              </a:xfrm>
              <a:prstGeom prst="rect">
                <a:avLst/>
              </a:prstGeom>
              <a:ln w="0">
                <a:noFill/>
              </a:ln>
            </p:spPr>
          </p:pic>
          <p:sp>
            <p:nvSpPr>
              <p:cNvPr id="1216" name=""/>
              <p:cNvSpPr/>
              <p:nvPr/>
            </p:nvSpPr>
            <p:spPr>
              <a:xfrm>
                <a:off x="2958120" y="2657520"/>
                <a:ext cx="395280" cy="4201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7" name="Freeform 175"/>
            <p:cNvGrpSpPr/>
            <p:nvPr/>
          </p:nvGrpSpPr>
          <p:grpSpPr>
            <a:xfrm>
              <a:off x="3329280" y="3029040"/>
              <a:ext cx="195120" cy="590760"/>
              <a:chOff x="3329280" y="3029040"/>
              <a:chExt cx="195120" cy="590760"/>
            </a:xfrm>
          </p:grpSpPr>
          <p:pic>
            <p:nvPicPr>
              <p:cNvPr id="1218" name="Freeform 175" descr=""/>
              <p:cNvPicPr/>
              <p:nvPr/>
            </p:nvPicPr>
            <p:blipFill>
              <a:blip r:embed="rId60"/>
              <a:stretch/>
            </p:blipFill>
            <p:spPr>
              <a:xfrm>
                <a:off x="3331800" y="3029400"/>
                <a:ext cx="191880" cy="590400"/>
              </a:xfrm>
              <a:prstGeom prst="rect">
                <a:avLst/>
              </a:prstGeom>
              <a:ln w="0">
                <a:noFill/>
              </a:ln>
            </p:spPr>
          </p:pic>
          <p:sp>
            <p:nvSpPr>
              <p:cNvPr id="1219" name=""/>
              <p:cNvSpPr/>
              <p:nvPr/>
            </p:nvSpPr>
            <p:spPr>
              <a:xfrm>
                <a:off x="3329280" y="3029040"/>
                <a:ext cx="195120" cy="588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grpSp>
        <p:nvGrpSpPr>
          <p:cNvPr id="1220" name="Donut 2"/>
          <p:cNvGrpSpPr/>
          <p:nvPr/>
        </p:nvGrpSpPr>
        <p:grpSpPr>
          <a:xfrm>
            <a:off x="512640" y="1981080"/>
            <a:ext cx="3516480" cy="3517920"/>
            <a:chOff x="512640" y="1981080"/>
            <a:chExt cx="3516480" cy="3517920"/>
          </a:xfrm>
        </p:grpSpPr>
        <p:pic>
          <p:nvPicPr>
            <p:cNvPr id="1221" name="Donut 2" descr=""/>
            <p:cNvPicPr/>
            <p:nvPr/>
          </p:nvPicPr>
          <p:blipFill>
            <a:blip r:embed="rId61"/>
            <a:stretch/>
          </p:blipFill>
          <p:spPr>
            <a:xfrm>
              <a:off x="512640" y="1981080"/>
              <a:ext cx="3516480" cy="3517920"/>
            </a:xfrm>
            <a:prstGeom prst="rect">
              <a:avLst/>
            </a:prstGeom>
            <a:ln w="0">
              <a:noFill/>
            </a:ln>
          </p:spPr>
        </p:pic>
        <p:sp>
          <p:nvSpPr>
            <p:cNvPr id="1222" name=""/>
            <p:cNvSpPr/>
            <p:nvPr/>
          </p:nvSpPr>
          <p:spPr>
            <a:xfrm>
              <a:off x="1027080" y="2495520"/>
              <a:ext cx="2489400" cy="248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3" name="Donut 101"/>
          <p:cNvGrpSpPr/>
          <p:nvPr/>
        </p:nvGrpSpPr>
        <p:grpSpPr>
          <a:xfrm>
            <a:off x="317520" y="1805040"/>
            <a:ext cx="3876480" cy="3870360"/>
            <a:chOff x="317520" y="1805040"/>
            <a:chExt cx="3876480" cy="3870360"/>
          </a:xfrm>
        </p:grpSpPr>
        <p:pic>
          <p:nvPicPr>
            <p:cNvPr id="1224" name="Donut 101" descr=""/>
            <p:cNvPicPr/>
            <p:nvPr/>
          </p:nvPicPr>
          <p:blipFill>
            <a:blip r:embed="rId62"/>
            <a:stretch/>
          </p:blipFill>
          <p:spPr>
            <a:xfrm>
              <a:off x="317520" y="1805040"/>
              <a:ext cx="3876480" cy="3870360"/>
            </a:xfrm>
            <a:prstGeom prst="rect">
              <a:avLst/>
            </a:prstGeom>
            <a:ln w="0">
              <a:noFill/>
            </a:ln>
          </p:spPr>
        </p:pic>
        <p:sp>
          <p:nvSpPr>
            <p:cNvPr id="1225" name=""/>
            <p:cNvSpPr/>
            <p:nvPr/>
          </p:nvSpPr>
          <p:spPr>
            <a:xfrm>
              <a:off x="887400" y="2373480"/>
              <a:ext cx="273672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6" name="Group 106"/>
          <p:cNvGrpSpPr/>
          <p:nvPr/>
        </p:nvGrpSpPr>
        <p:grpSpPr>
          <a:xfrm>
            <a:off x="4375080" y="1190520"/>
            <a:ext cx="7207200" cy="1382760"/>
            <a:chOff x="4375080" y="1190520"/>
            <a:chExt cx="7207200" cy="1382760"/>
          </a:xfrm>
        </p:grpSpPr>
        <p:grpSp>
          <p:nvGrpSpPr>
            <p:cNvPr id="1227" name="Rectangle 3"/>
            <p:cNvGrpSpPr/>
            <p:nvPr/>
          </p:nvGrpSpPr>
          <p:grpSpPr>
            <a:xfrm>
              <a:off x="4961880" y="1200600"/>
              <a:ext cx="6553440" cy="1359720"/>
              <a:chOff x="4961880" y="1200600"/>
              <a:chExt cx="6553440" cy="1359720"/>
            </a:xfrm>
          </p:grpSpPr>
          <p:pic>
            <p:nvPicPr>
              <p:cNvPr id="1228" name="Rectangle 3" descr=""/>
              <p:cNvPicPr/>
              <p:nvPr/>
            </p:nvPicPr>
            <p:blipFill>
              <a:blip r:embed="rId63"/>
              <a:stretch/>
            </p:blipFill>
            <p:spPr>
              <a:xfrm>
                <a:off x="4963680" y="1200600"/>
                <a:ext cx="6551640" cy="1357560"/>
              </a:xfrm>
              <a:prstGeom prst="rect">
                <a:avLst/>
              </a:prstGeom>
              <a:ln w="0">
                <a:noFill/>
              </a:ln>
            </p:spPr>
          </p:pic>
          <p:sp>
            <p:nvSpPr>
              <p:cNvPr id="1229" name=""/>
              <p:cNvSpPr/>
              <p:nvPr/>
            </p:nvSpPr>
            <p:spPr>
              <a:xfrm>
                <a:off x="4961880" y="1200960"/>
                <a:ext cx="6553440" cy="135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0" name="TextBox 12"/>
            <p:cNvSpPr/>
            <p:nvPr/>
          </p:nvSpPr>
          <p:spPr>
            <a:xfrm>
              <a:off x="5767200" y="1307520"/>
              <a:ext cx="5815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000000"/>
                  </a:solidFill>
                  <a:latin typeface="Calibri"/>
                </a:rPr>
                <a:t>Strategia</a:t>
              </a:r>
              <a:r>
                <a:rPr b="0" lang="ro-MD" sz="1800" spc="-1" strike="noStrike">
                  <a:solidFill>
                    <a:srgbClr val="000000"/>
                  </a:solidFill>
                  <a:latin typeface="Calibri"/>
                </a:rPr>
                <a:t> reprezintă ansamblul obiectivelor majore ale organizaţiei pe termrn lung, principalele modalităţi de realizare, împreună cu resusele alocate, în vederea obţinerii avantajului competitiv potrivit misiunii organizaţiei</a:t>
              </a:r>
              <a:endParaRPr b="0" lang="en-US" sz="1800" spc="-1" strike="noStrike">
                <a:solidFill>
                  <a:srgbClr val="000000"/>
                </a:solidFill>
                <a:latin typeface="Gill Sans MT"/>
              </a:endParaRPr>
            </a:p>
          </p:txBody>
        </p:sp>
        <p:sp>
          <p:nvSpPr>
            <p:cNvPr id="1231" name="Oval 102"/>
            <p:cNvSpPr/>
            <p:nvPr/>
          </p:nvSpPr>
          <p:spPr>
            <a:xfrm>
              <a:off x="4375080" y="1190520"/>
              <a:ext cx="1137960" cy="13827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1</a:t>
              </a:r>
              <a:endParaRPr b="0" lang="en-US" sz="4300" spc="-1" strike="noStrike">
                <a:solidFill>
                  <a:srgbClr val="000000"/>
                </a:solidFill>
                <a:latin typeface="Gill Sans MT"/>
              </a:endParaRPr>
            </a:p>
          </p:txBody>
        </p:sp>
      </p:grpSp>
      <p:grpSp>
        <p:nvGrpSpPr>
          <p:cNvPr id="1232" name="Group 5"/>
          <p:cNvGrpSpPr/>
          <p:nvPr/>
        </p:nvGrpSpPr>
        <p:grpSpPr>
          <a:xfrm>
            <a:off x="4879800" y="2886120"/>
            <a:ext cx="7034400" cy="1487520"/>
            <a:chOff x="4879800" y="2886120"/>
            <a:chExt cx="7034400" cy="1487520"/>
          </a:xfrm>
        </p:grpSpPr>
        <p:grpSp>
          <p:nvGrpSpPr>
            <p:cNvPr id="1233" name="Rectangle 18"/>
            <p:cNvGrpSpPr/>
            <p:nvPr/>
          </p:nvGrpSpPr>
          <p:grpSpPr>
            <a:xfrm>
              <a:off x="5175360" y="2886120"/>
              <a:ext cx="6738840" cy="1487520"/>
              <a:chOff x="5175360" y="2886120"/>
              <a:chExt cx="6738840" cy="1487520"/>
            </a:xfrm>
          </p:grpSpPr>
          <p:pic>
            <p:nvPicPr>
              <p:cNvPr id="1234" name="Rectangle 18" descr=""/>
              <p:cNvPicPr/>
              <p:nvPr/>
            </p:nvPicPr>
            <p:blipFill>
              <a:blip r:embed="rId64"/>
              <a:stretch/>
            </p:blipFill>
            <p:spPr>
              <a:xfrm>
                <a:off x="5176080" y="2886120"/>
                <a:ext cx="6735600" cy="1485000"/>
              </a:xfrm>
              <a:prstGeom prst="rect">
                <a:avLst/>
              </a:prstGeom>
              <a:ln w="0">
                <a:noFill/>
              </a:ln>
            </p:spPr>
          </p:pic>
          <p:sp>
            <p:nvSpPr>
              <p:cNvPr id="1235" name=""/>
              <p:cNvSpPr/>
              <p:nvPr/>
            </p:nvSpPr>
            <p:spPr>
              <a:xfrm>
                <a:off x="5175360" y="2888640"/>
                <a:ext cx="6738840" cy="148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6" name="TextBox 20"/>
            <p:cNvSpPr/>
            <p:nvPr/>
          </p:nvSpPr>
          <p:spPr>
            <a:xfrm>
              <a:off x="6019200" y="2952360"/>
              <a:ext cx="5873040" cy="128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400" spc="-1" strike="noStrike">
                  <a:solidFill>
                    <a:srgbClr val="262626"/>
                  </a:solidFill>
                  <a:latin typeface="WorkSans-Regular"/>
                </a:rPr>
                <a:t>Unitatea strategică de afaceri</a:t>
              </a:r>
              <a:endParaRPr b="0" lang="en-US" sz="14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262626"/>
                  </a:solidFill>
                  <a:latin typeface="Calibri"/>
                </a:rPr>
                <a:t>Cea mai mică unitate dintr-o organizație care poate pune în practică, în mod independent, strategie.Unităţile srtrategice de afaceri, adesea cunoscute sub forma centrelor strategice, sunt apte pentru a fi lichidate sau conduse ca afaceri de sine stătătoare. </a:t>
              </a:r>
              <a:endParaRPr b="0" lang="en-US" sz="1600" spc="-1" strike="noStrike">
                <a:solidFill>
                  <a:srgbClr val="000000"/>
                </a:solidFill>
                <a:latin typeface="Gill Sans MT"/>
              </a:endParaRPr>
            </a:p>
          </p:txBody>
        </p:sp>
        <p:sp>
          <p:nvSpPr>
            <p:cNvPr id="1237" name="Oval 104"/>
            <p:cNvSpPr/>
            <p:nvPr/>
          </p:nvSpPr>
          <p:spPr>
            <a:xfrm>
              <a:off x="4879800" y="3245760"/>
              <a:ext cx="1122840" cy="112248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2</a:t>
              </a:r>
              <a:endParaRPr b="0" lang="en-US" sz="4300" spc="-1" strike="noStrike">
                <a:solidFill>
                  <a:srgbClr val="000000"/>
                </a:solidFill>
                <a:latin typeface="Gill Sans MT"/>
              </a:endParaRPr>
            </a:p>
          </p:txBody>
        </p:sp>
      </p:grpSp>
      <p:grpSp>
        <p:nvGrpSpPr>
          <p:cNvPr id="1238" name="Group 6"/>
          <p:cNvGrpSpPr/>
          <p:nvPr/>
        </p:nvGrpSpPr>
        <p:grpSpPr>
          <a:xfrm>
            <a:off x="4375080" y="5022720"/>
            <a:ext cx="7207200" cy="1297080"/>
            <a:chOff x="4375080" y="5022720"/>
            <a:chExt cx="7207200" cy="1297080"/>
          </a:xfrm>
        </p:grpSpPr>
        <p:grpSp>
          <p:nvGrpSpPr>
            <p:cNvPr id="1239" name="Rectangle 111"/>
            <p:cNvGrpSpPr/>
            <p:nvPr/>
          </p:nvGrpSpPr>
          <p:grpSpPr>
            <a:xfrm>
              <a:off x="4925520" y="5047200"/>
              <a:ext cx="6224040" cy="1272600"/>
              <a:chOff x="4925520" y="5047200"/>
              <a:chExt cx="6224040" cy="1272600"/>
            </a:xfrm>
          </p:grpSpPr>
          <p:pic>
            <p:nvPicPr>
              <p:cNvPr id="1240" name="Rectangle 111" descr=""/>
              <p:cNvPicPr/>
              <p:nvPr/>
            </p:nvPicPr>
            <p:blipFill>
              <a:blip r:embed="rId65"/>
              <a:stretch/>
            </p:blipFill>
            <p:spPr>
              <a:xfrm>
                <a:off x="4928040" y="5047200"/>
                <a:ext cx="6221520" cy="1272600"/>
              </a:xfrm>
              <a:prstGeom prst="rect">
                <a:avLst/>
              </a:prstGeom>
              <a:ln w="0">
                <a:noFill/>
              </a:ln>
            </p:spPr>
          </p:pic>
          <p:sp>
            <p:nvSpPr>
              <p:cNvPr id="1241" name=""/>
              <p:cNvSpPr/>
              <p:nvPr/>
            </p:nvSpPr>
            <p:spPr>
              <a:xfrm>
                <a:off x="4925520" y="5047200"/>
                <a:ext cx="6223320" cy="127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42" name="TextBox 112"/>
            <p:cNvSpPr/>
            <p:nvPr/>
          </p:nvSpPr>
          <p:spPr>
            <a:xfrm>
              <a:off x="5520960" y="5050800"/>
              <a:ext cx="6061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262626"/>
                  </a:solidFill>
                  <a:latin typeface="Calibri"/>
                </a:rPr>
                <a:t>Creativitatea joacă un rol important atunci când e vorba despre o afacere. Prin urmare proprietarul ține sub control toate aspectele afacerii sale, începând de la locație și finalizând cu modul în care urmează să funcționeze afacerea.</a:t>
              </a:r>
              <a:endParaRPr b="0" lang="en-US" sz="1800" spc="-1" strike="noStrike">
                <a:solidFill>
                  <a:srgbClr val="000000"/>
                </a:solidFill>
                <a:latin typeface="Gill Sans MT"/>
              </a:endParaRPr>
            </a:p>
          </p:txBody>
        </p:sp>
        <p:sp>
          <p:nvSpPr>
            <p:cNvPr id="1243" name="Oval 113"/>
            <p:cNvSpPr/>
            <p:nvPr/>
          </p:nvSpPr>
          <p:spPr>
            <a:xfrm>
              <a:off x="4375080" y="5022720"/>
              <a:ext cx="1081080" cy="12909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3</a:t>
              </a:r>
              <a:endParaRPr b="0" lang="en-US" sz="4300" spc="-1" strike="noStrike">
                <a:solidFill>
                  <a:srgbClr val="000000"/>
                </a:solidFill>
                <a:latin typeface="Gill Sans MT"/>
              </a:endParaRPr>
            </a:p>
          </p:txBody>
        </p:sp>
      </p:grpSp>
      <p:pic>
        <p:nvPicPr>
          <p:cNvPr id="1244" name="Imagine 13" descr=""/>
          <p:cNvPicPr/>
          <p:nvPr/>
        </p:nvPicPr>
        <p:blipFill>
          <a:blip r:embed="rId66"/>
          <a:stretch/>
        </p:blipFill>
        <p:spPr>
          <a:xfrm>
            <a:off x="320760" y="1638360"/>
            <a:ext cx="4054320" cy="444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remove" presetClass="emph" presetID="8" repeatCount="indefinite">
                                  <p:stCondLst>
                                    <p:cond delay="0"/>
                                  </p:stCondLst>
                                  <p:childTnLst>
                                    <p:animRot by="21600000">
                                      <p:cBhvr>
                                        <p:cTn id="79" dur="2000" fill="hold"/>
                                        <p:tgtEl>
                                          <p:spTgt spid="1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1246" name=""/>
          <p:cNvSpPr txBox="1"/>
          <p:nvPr/>
        </p:nvSpPr>
        <p:spPr>
          <a:xfrm>
            <a:off x="838080" y="1576080"/>
            <a:ext cx="10515600" cy="4351320"/>
          </a:xfrm>
          <a:prstGeom prst="rect">
            <a:avLst/>
          </a:prstGeom>
          <a:noFill/>
          <a:ln w="0">
            <a:noFill/>
          </a:ln>
        </p:spPr>
        <p:txBody>
          <a:bodyPr anchor="t">
            <a:normAutofit fontScale="92000"/>
          </a:bodyPr>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Ghid pentru afaceri.Surse de Finanțare. </a:t>
            </a:r>
            <a:r>
              <a:rPr b="0" lang="ro-MD" sz="2500" spc="-1" strike="noStrike">
                <a:solidFill>
                  <a:srgbClr val="000000"/>
                </a:solidFill>
                <a:latin typeface="Calibri Light"/>
              </a:rPr>
              <a:t>[Accesat 05.10.2020]. Disponibil</a:t>
            </a:r>
            <a:r>
              <a:rPr b="0" lang="ro-RO" sz="2500" spc="-1" strike="noStrike">
                <a:solidFill>
                  <a:srgbClr val="000000"/>
                </a:solidFill>
                <a:latin typeface="Calibri Light"/>
              </a:rPr>
              <a:t>: </a:t>
            </a:r>
            <a:r>
              <a:rPr b="0" lang="ro-RO" sz="2500" spc="-1" strike="noStrike" u="sng">
                <a:solidFill>
                  <a:srgbClr val="0563c1"/>
                </a:solidFill>
                <a:uFillTx/>
                <a:latin typeface="Calibri Light"/>
                <a:hlinkClick r:id="rId1"/>
              </a:rPr>
              <a:t>http://dcfta.md/uploads/0/images/large/surse-de-finantare.pd</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Allaire Y, Fîrşirotu M. Management Strategic. Strategiile succesului în afaceri. Editura Economică, Bucureşti,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Management strategic. Editura TEORA, Bucureşti, 1999.</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Tehnici de analiză în managementul strategic, Iaşi, 2007. </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Management strategic , Editura Polirom, Chişinău, 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Strategii de management. Iaşi, 1994.</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onstantinescu D. Management strategic, Colecţia Naţională,  Bucureşti, 2000.</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4"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1a3260"/>
                </a:solidFill>
                <a:latin typeface="Gill Sans MT"/>
              </a:rPr>
              <a:t>Comisia Europeană definește întreprinderile sociale ca o parte integrantă a economiei socia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800" spc="-1" strike="noStrike">
                <a:solidFill>
                  <a:srgbClr val="3d3d3d"/>
                </a:solidFill>
                <a:latin typeface="Gill Sans MT"/>
              </a:rPr>
              <a:t>„</a:t>
            </a:r>
            <a:r>
              <a:rPr b="0" lang="sr-Latn-RS" sz="1800" spc="-1" strike="noStrike">
                <a:solidFill>
                  <a:srgbClr val="3d3d3d"/>
                </a:solidFill>
                <a:latin typeface="Gill Sans MT"/>
              </a:rPr>
              <a:t>O întreprindere socială este un actor al economiei sociale, al cărui principal obiectiv este cel de a avea o incidență socială mai curând decât cel de a genera profit pentru proprietarii sau partenerii săi. Ea funcționează pe piață furnizând bunuri și servicii în mod antreprenorial și inovator și își utilizează excedentele, cu predilecție, în scopuri sociale. Aceasta face obiectul unei gestionări responsabile și transparente, îndeosebi prin asocierea angajaților săi, a clienților săi și a părților interesat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6"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Europa funcționează peste </a:t>
            </a:r>
            <a:r>
              <a:rPr b="1" lang="ro-MD" sz="1800" spc="-1" strike="noStrike" u="sng">
                <a:solidFill>
                  <a:srgbClr val="1a3260"/>
                </a:solidFill>
                <a:uFillTx/>
                <a:latin typeface="Gill Sans MT"/>
              </a:rPr>
              <a:t>2,8 milioane de întreprinderi în economia socială</a:t>
            </a:r>
            <a:r>
              <a:rPr b="0" lang="ro-MD" sz="1800" spc="-1" strike="noStrike">
                <a:solidFill>
                  <a:srgbClr val="3d3d3d"/>
                </a:solidFill>
                <a:latin typeface="Gill Sans MT"/>
              </a:rPr>
              <a:t>, reprezentând 10% din afacerile din UE, iar mai mult de 13,6 milioane de oameni lucrează pentru acestea, adică 6,3% din angajații din Uniune! Sectorul economiei sociale implică mai mult de 82,8 milioane de voluntari, echivalentul a 5,5 milioane de lucrători cu normă întreagă. De asemenea, din sector fac parte peste 232 milioane de membri ai cooperativelor și societăților mutu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pic>
        <p:nvPicPr>
          <p:cNvPr id="718" name="Content Placeholder 7" descr=""/>
          <p:cNvPicPr/>
          <p:nvPr/>
        </p:nvPicPr>
        <p:blipFill>
          <a:blip r:embed="rId1"/>
          <a:stretch/>
        </p:blipFill>
        <p:spPr>
          <a:xfrm>
            <a:off x="2271600" y="1895400"/>
            <a:ext cx="740736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8"/>
          <p:cNvSpPr/>
          <p:nvPr/>
        </p:nvSpPr>
        <p:spPr>
          <a:xfrm rot="5400000">
            <a:off x="5227560" y="-2455920"/>
            <a:ext cx="1736640" cy="12188880"/>
          </a:xfrm>
          <a:prstGeom prst="rect">
            <a:avLst/>
          </a:prstGeom>
          <a:solidFill>
            <a:srgbClr val="3d3d3d"/>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0" name="PlaceHolder 1"/>
          <p:cNvSpPr>
            <a:spLocks noGrp="1"/>
          </p:cNvSpPr>
          <p:nvPr>
            <p:ph type="title"/>
          </p:nvPr>
        </p:nvSpPr>
        <p:spPr>
          <a:xfrm>
            <a:off x="947880" y="3060360"/>
            <a:ext cx="10361520" cy="1361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MANAGEMENT STRATEGIC ORIENTAT CĂTRE IMPACT IN CADRUL ANTREPRENORIALULUI SOCIAL.</a:t>
            </a:r>
            <a:endParaRPr b="0" lang="en-US" sz="3600" spc="-1" strike="noStrike">
              <a:solidFill>
                <a:srgbClr val="ffffff"/>
              </a:solidFill>
              <a:latin typeface="Gill Sans MT"/>
            </a:endParaRPr>
          </a:p>
        </p:txBody>
      </p:sp>
      <p:grpSp>
        <p:nvGrpSpPr>
          <p:cNvPr id="721" name="Group 90"/>
          <p:cNvGrpSpPr/>
          <p:nvPr/>
        </p:nvGrpSpPr>
        <p:grpSpPr>
          <a:xfrm>
            <a:off x="9080640" y="1054080"/>
            <a:ext cx="1751040" cy="1285920"/>
            <a:chOff x="9080640" y="1054080"/>
            <a:chExt cx="1751040" cy="1285920"/>
          </a:xfrm>
        </p:grpSpPr>
        <p:sp>
          <p:nvSpPr>
            <p:cNvPr id="722" name="Freeform 1377"/>
            <p:cNvSpPr/>
            <p:nvPr/>
          </p:nvSpPr>
          <p:spPr>
            <a:xfrm>
              <a:off x="10265760" y="1847880"/>
              <a:ext cx="340920" cy="377640"/>
            </a:xfrm>
            <a:custGeom>
              <a:avLst/>
              <a:gdLst/>
              <a:ahLst/>
              <a:rect l="l" t="t" r="r" b="b"/>
              <a:pathLst>
                <a:path w="612" h="679">
                  <a:moveTo>
                    <a:pt x="579" y="0"/>
                  </a:moveTo>
                  <a:lnTo>
                    <a:pt x="591" y="2"/>
                  </a:lnTo>
                  <a:lnTo>
                    <a:pt x="602" y="8"/>
                  </a:lnTo>
                  <a:lnTo>
                    <a:pt x="610" y="19"/>
                  </a:lnTo>
                  <a:lnTo>
                    <a:pt x="612" y="30"/>
                  </a:lnTo>
                  <a:lnTo>
                    <a:pt x="611" y="43"/>
                  </a:lnTo>
                  <a:lnTo>
                    <a:pt x="604" y="54"/>
                  </a:lnTo>
                  <a:lnTo>
                    <a:pt x="55" y="668"/>
                  </a:lnTo>
                  <a:lnTo>
                    <a:pt x="45" y="677"/>
                  </a:lnTo>
                  <a:lnTo>
                    <a:pt x="33" y="679"/>
                  </a:lnTo>
                  <a:lnTo>
                    <a:pt x="21" y="678"/>
                  </a:lnTo>
                  <a:lnTo>
                    <a:pt x="10" y="672"/>
                  </a:lnTo>
                  <a:lnTo>
                    <a:pt x="2" y="661"/>
                  </a:lnTo>
                  <a:lnTo>
                    <a:pt x="0" y="649"/>
                  </a:lnTo>
                  <a:lnTo>
                    <a:pt x="1" y="637"/>
                  </a:lnTo>
                  <a:lnTo>
                    <a:pt x="8" y="627"/>
                  </a:lnTo>
                  <a:lnTo>
                    <a:pt x="557" y="11"/>
                  </a:lnTo>
                  <a:lnTo>
                    <a:pt x="567" y="3"/>
                  </a:lnTo>
                  <a:lnTo>
                    <a:pt x="579" y="0"/>
                  </a:lnTo>
                  <a:close/>
                </a:path>
              </a:pathLst>
            </a:custGeom>
            <a:solidFill>
              <a:srgbClr val="ffffff">
                <a:alpha val="26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3" name="Freeform 1379"/>
            <p:cNvSpPr/>
            <p:nvPr/>
          </p:nvSpPr>
          <p:spPr>
            <a:xfrm>
              <a:off x="9305640" y="1253880"/>
              <a:ext cx="1299600" cy="855720"/>
            </a:xfrm>
            <a:custGeom>
              <a:avLst/>
              <a:gdLst/>
              <a:ahLst/>
              <a:rect l="l" t="t" r="r" b="b"/>
              <a:pathLst>
                <a:path w="2334" h="1536">
                  <a:moveTo>
                    <a:pt x="80" y="0"/>
                  </a:moveTo>
                  <a:lnTo>
                    <a:pt x="2253" y="0"/>
                  </a:lnTo>
                  <a:lnTo>
                    <a:pt x="2274" y="2"/>
                  </a:lnTo>
                  <a:lnTo>
                    <a:pt x="2293" y="11"/>
                  </a:lnTo>
                  <a:lnTo>
                    <a:pt x="2310" y="24"/>
                  </a:lnTo>
                  <a:lnTo>
                    <a:pt x="2322" y="40"/>
                  </a:lnTo>
                  <a:lnTo>
                    <a:pt x="2330" y="60"/>
                  </a:lnTo>
                  <a:lnTo>
                    <a:pt x="2334" y="81"/>
                  </a:lnTo>
                  <a:lnTo>
                    <a:pt x="2334" y="1456"/>
                  </a:lnTo>
                  <a:lnTo>
                    <a:pt x="2330" y="1476"/>
                  </a:lnTo>
                  <a:lnTo>
                    <a:pt x="2322" y="1496"/>
                  </a:lnTo>
                  <a:lnTo>
                    <a:pt x="2310" y="1512"/>
                  </a:lnTo>
                  <a:lnTo>
                    <a:pt x="2293" y="1525"/>
                  </a:lnTo>
                  <a:lnTo>
                    <a:pt x="2274" y="1533"/>
                  </a:lnTo>
                  <a:lnTo>
                    <a:pt x="2253" y="1536"/>
                  </a:lnTo>
                  <a:lnTo>
                    <a:pt x="80" y="1536"/>
                  </a:lnTo>
                  <a:lnTo>
                    <a:pt x="60" y="1533"/>
                  </a:lnTo>
                  <a:lnTo>
                    <a:pt x="39" y="1525"/>
                  </a:lnTo>
                  <a:lnTo>
                    <a:pt x="24" y="1512"/>
                  </a:lnTo>
                  <a:lnTo>
                    <a:pt x="11" y="1496"/>
                  </a:lnTo>
                  <a:lnTo>
                    <a:pt x="2" y="1476"/>
                  </a:lnTo>
                  <a:lnTo>
                    <a:pt x="0" y="1456"/>
                  </a:lnTo>
                  <a:lnTo>
                    <a:pt x="0" y="81"/>
                  </a:lnTo>
                  <a:lnTo>
                    <a:pt x="2" y="60"/>
                  </a:lnTo>
                  <a:lnTo>
                    <a:pt x="11" y="40"/>
                  </a:lnTo>
                  <a:lnTo>
                    <a:pt x="24" y="24"/>
                  </a:lnTo>
                  <a:lnTo>
                    <a:pt x="39" y="11"/>
                  </a:lnTo>
                  <a:lnTo>
                    <a:pt x="60" y="2"/>
                  </a:lnTo>
                  <a:lnTo>
                    <a:pt x="80" y="0"/>
                  </a:lnTo>
                  <a:close/>
                </a:path>
              </a:pathLst>
            </a:custGeom>
            <a:solidFill>
              <a:srgbClr val="00431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4" name="Rectangle 1380"/>
            <p:cNvSpPr/>
            <p:nvPr/>
          </p:nvSpPr>
          <p:spPr>
            <a:xfrm>
              <a:off x="9374040" y="1342800"/>
              <a:ext cx="1163160" cy="627120"/>
            </a:xfrm>
            <a:prstGeom prst="rect">
              <a:avLst/>
            </a:prstGeom>
            <a:solidFill>
              <a:srgbClr val="ff4a45"/>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5" name="Rectangle 1382"/>
            <p:cNvSpPr/>
            <p:nvPr/>
          </p:nvSpPr>
          <p:spPr>
            <a:xfrm>
              <a:off x="9927720" y="2008440"/>
              <a:ext cx="55440" cy="55440"/>
            </a:xfrm>
            <a:prstGeom prst="rect">
              <a:avLst/>
            </a:prstGeom>
            <a:solidFill>
              <a:srgbClr val="defff3"/>
            </a:solidFill>
            <a:ln w="0">
              <a:noFill/>
            </a:ln>
          </p:spPr>
          <p:style>
            <a:lnRef idx="0"/>
            <a:fillRef idx="0"/>
            <a:effectRef idx="0"/>
            <a:fontRef idx="minor"/>
          </p:style>
          <p:txBody>
            <a:bodyPr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6" name="Freeform 1384"/>
            <p:cNvSpPr/>
            <p:nvPr/>
          </p:nvSpPr>
          <p:spPr>
            <a:xfrm>
              <a:off x="9080640" y="2257560"/>
              <a:ext cx="1750320" cy="82440"/>
            </a:xfrm>
            <a:custGeom>
              <a:avLst/>
              <a:gdLst/>
              <a:ahLst/>
              <a:rect l="l" t="t" r="r" b="b"/>
              <a:pathLst>
                <a:path w="3145" h="149">
                  <a:moveTo>
                    <a:pt x="0" y="0"/>
                  </a:moveTo>
                  <a:lnTo>
                    <a:pt x="3145" y="0"/>
                  </a:lnTo>
                  <a:lnTo>
                    <a:pt x="3145" y="90"/>
                  </a:lnTo>
                  <a:lnTo>
                    <a:pt x="3143" y="109"/>
                  </a:lnTo>
                  <a:lnTo>
                    <a:pt x="3134" y="125"/>
                  </a:lnTo>
                  <a:lnTo>
                    <a:pt x="3121" y="138"/>
                  </a:lnTo>
                  <a:lnTo>
                    <a:pt x="3106" y="146"/>
                  </a:lnTo>
                  <a:lnTo>
                    <a:pt x="3086" y="149"/>
                  </a:lnTo>
                  <a:lnTo>
                    <a:pt x="58" y="149"/>
                  </a:lnTo>
                  <a:lnTo>
                    <a:pt x="40" y="146"/>
                  </a:lnTo>
                  <a:lnTo>
                    <a:pt x="25" y="138"/>
                  </a:lnTo>
                  <a:lnTo>
                    <a:pt x="12" y="125"/>
                  </a:lnTo>
                  <a:lnTo>
                    <a:pt x="3" y="109"/>
                  </a:lnTo>
                  <a:lnTo>
                    <a:pt x="0" y="90"/>
                  </a:lnTo>
                  <a:lnTo>
                    <a:pt x="0" y="0"/>
                  </a:lnTo>
                  <a:close/>
                </a:path>
              </a:pathLst>
            </a:custGeom>
            <a:solidFill>
              <a:srgbClr val="45cbe8"/>
            </a:solidFill>
            <a:ln w="0">
              <a:noFill/>
            </a:ln>
          </p:spPr>
          <p:style>
            <a:lnRef idx="0"/>
            <a:fillRef idx="0"/>
            <a:effectRef idx="0"/>
            <a:fontRef idx="minor"/>
          </p:style>
          <p:txBody>
            <a:bodyPr lIns="91080" rIns="91080" tIns="37080" bIns="37080" anchor="t">
              <a:noAutofit/>
            </a:bodyPr>
            <a:p>
              <a:endParaRPr b="0" lang="en-US" sz="1800" spc="-1" strike="noStrike">
                <a:solidFill>
                  <a:srgbClr val="000000"/>
                </a:solidFill>
                <a:latin typeface="Gill Sans MT"/>
              </a:endParaRPr>
            </a:p>
          </p:txBody>
        </p:sp>
        <p:sp>
          <p:nvSpPr>
            <p:cNvPr id="727" name="Rectangle 1385"/>
            <p:cNvSpPr/>
            <p:nvPr/>
          </p:nvSpPr>
          <p:spPr>
            <a:xfrm>
              <a:off x="9778680" y="2300400"/>
              <a:ext cx="353520" cy="21960"/>
            </a:xfrm>
            <a:prstGeom prst="rect">
              <a:avLst/>
            </a:prstGeom>
            <a:solidFill>
              <a:srgbClr val="ffffff"/>
            </a:solidFill>
            <a:ln w="0">
              <a:noFill/>
            </a:ln>
          </p:spPr>
          <p:style>
            <a:lnRef idx="0"/>
            <a:fillRef idx="0"/>
            <a:effectRef idx="0"/>
            <a:fontRef idx="minor"/>
          </p:style>
          <p:txBody>
            <a:bodyPr tIns="-23760" bIns="-2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728" name="Group 100" descr=""/>
            <p:cNvPicPr/>
            <p:nvPr/>
          </p:nvPicPr>
          <p:blipFill>
            <a:blip r:embed="rId1"/>
            <a:stretch/>
          </p:blipFill>
          <p:spPr>
            <a:xfrm>
              <a:off x="9083160" y="2109240"/>
              <a:ext cx="1748520" cy="170640"/>
            </a:xfrm>
            <a:prstGeom prst="rect">
              <a:avLst/>
            </a:prstGeom>
            <a:ln w="0">
              <a:noFill/>
            </a:ln>
          </p:spPr>
        </p:pic>
        <p:sp>
          <p:nvSpPr>
            <p:cNvPr id="729" name="Freeform 1387"/>
            <p:cNvSpPr/>
            <p:nvPr/>
          </p:nvSpPr>
          <p:spPr>
            <a:xfrm>
              <a:off x="9305640" y="1247760"/>
              <a:ext cx="1299600" cy="862200"/>
            </a:xfrm>
            <a:custGeom>
              <a:avLst/>
              <a:gdLst/>
              <a:ahLst/>
              <a:rect l="l" t="t" r="r" b="b"/>
              <a:pathLst>
                <a:path w="2334" h="1549">
                  <a:moveTo>
                    <a:pt x="80" y="0"/>
                  </a:moveTo>
                  <a:lnTo>
                    <a:pt x="2253" y="0"/>
                  </a:lnTo>
                  <a:lnTo>
                    <a:pt x="2274" y="3"/>
                  </a:lnTo>
                  <a:lnTo>
                    <a:pt x="2293" y="10"/>
                  </a:lnTo>
                  <a:lnTo>
                    <a:pt x="2310" y="24"/>
                  </a:lnTo>
                  <a:lnTo>
                    <a:pt x="2322" y="40"/>
                  </a:lnTo>
                  <a:lnTo>
                    <a:pt x="2330" y="59"/>
                  </a:lnTo>
                  <a:lnTo>
                    <a:pt x="2334" y="81"/>
                  </a:lnTo>
                  <a:lnTo>
                    <a:pt x="2334" y="1469"/>
                  </a:lnTo>
                  <a:lnTo>
                    <a:pt x="2330" y="1489"/>
                  </a:lnTo>
                  <a:lnTo>
                    <a:pt x="2322" y="1509"/>
                  </a:lnTo>
                  <a:lnTo>
                    <a:pt x="2310" y="1525"/>
                  </a:lnTo>
                  <a:lnTo>
                    <a:pt x="2293" y="1538"/>
                  </a:lnTo>
                  <a:lnTo>
                    <a:pt x="2274" y="1546"/>
                  </a:lnTo>
                  <a:lnTo>
                    <a:pt x="2253" y="1549"/>
                  </a:lnTo>
                  <a:lnTo>
                    <a:pt x="80" y="1549"/>
                  </a:lnTo>
                  <a:lnTo>
                    <a:pt x="60" y="1546"/>
                  </a:lnTo>
                  <a:lnTo>
                    <a:pt x="39" y="1538"/>
                  </a:lnTo>
                  <a:lnTo>
                    <a:pt x="24" y="1525"/>
                  </a:lnTo>
                  <a:lnTo>
                    <a:pt x="11" y="1509"/>
                  </a:lnTo>
                  <a:lnTo>
                    <a:pt x="2" y="1489"/>
                  </a:lnTo>
                  <a:lnTo>
                    <a:pt x="0" y="1469"/>
                  </a:lnTo>
                  <a:lnTo>
                    <a:pt x="0" y="81"/>
                  </a:lnTo>
                  <a:lnTo>
                    <a:pt x="2" y="59"/>
                  </a:lnTo>
                  <a:lnTo>
                    <a:pt x="11" y="40"/>
                  </a:lnTo>
                  <a:lnTo>
                    <a:pt x="24" y="24"/>
                  </a:lnTo>
                  <a:lnTo>
                    <a:pt x="39" y="10"/>
                  </a:lnTo>
                  <a:lnTo>
                    <a:pt x="60" y="3"/>
                  </a:lnTo>
                  <a:lnTo>
                    <a:pt x="8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0" name="Freeform 1389"/>
            <p:cNvSpPr/>
            <p:nvPr/>
          </p:nvSpPr>
          <p:spPr>
            <a:xfrm>
              <a:off x="9761400" y="1054080"/>
              <a:ext cx="388440" cy="236520"/>
            </a:xfrm>
            <a:custGeom>
              <a:avLst/>
              <a:gdLst/>
              <a:ahLst/>
              <a:rect l="l" t="t" r="r" b="b"/>
              <a:pathLst>
                <a:path w="697" h="424">
                  <a:moveTo>
                    <a:pt x="65" y="0"/>
                  </a:moveTo>
                  <a:lnTo>
                    <a:pt x="633" y="0"/>
                  </a:lnTo>
                  <a:lnTo>
                    <a:pt x="654" y="3"/>
                  </a:lnTo>
                  <a:lnTo>
                    <a:pt x="670" y="12"/>
                  </a:lnTo>
                  <a:lnTo>
                    <a:pt x="685" y="26"/>
                  </a:lnTo>
                  <a:lnTo>
                    <a:pt x="694" y="43"/>
                  </a:lnTo>
                  <a:lnTo>
                    <a:pt x="697" y="63"/>
                  </a:lnTo>
                  <a:lnTo>
                    <a:pt x="697" y="361"/>
                  </a:lnTo>
                  <a:lnTo>
                    <a:pt x="694" y="380"/>
                  </a:lnTo>
                  <a:lnTo>
                    <a:pt x="685" y="398"/>
                  </a:lnTo>
                  <a:lnTo>
                    <a:pt x="670" y="412"/>
                  </a:lnTo>
                  <a:lnTo>
                    <a:pt x="654" y="421"/>
                  </a:lnTo>
                  <a:lnTo>
                    <a:pt x="633" y="424"/>
                  </a:lnTo>
                  <a:lnTo>
                    <a:pt x="614" y="424"/>
                  </a:lnTo>
                  <a:lnTo>
                    <a:pt x="614" y="136"/>
                  </a:lnTo>
                  <a:lnTo>
                    <a:pt x="611" y="121"/>
                  </a:lnTo>
                  <a:lnTo>
                    <a:pt x="602" y="109"/>
                  </a:lnTo>
                  <a:lnTo>
                    <a:pt x="590" y="100"/>
                  </a:lnTo>
                  <a:lnTo>
                    <a:pt x="575" y="98"/>
                  </a:lnTo>
                  <a:lnTo>
                    <a:pt x="123" y="98"/>
                  </a:lnTo>
                  <a:lnTo>
                    <a:pt x="108" y="100"/>
                  </a:lnTo>
                  <a:lnTo>
                    <a:pt x="96" y="109"/>
                  </a:lnTo>
                  <a:lnTo>
                    <a:pt x="86" y="121"/>
                  </a:lnTo>
                  <a:lnTo>
                    <a:pt x="84" y="136"/>
                  </a:lnTo>
                  <a:lnTo>
                    <a:pt x="84" y="424"/>
                  </a:lnTo>
                  <a:lnTo>
                    <a:pt x="65" y="424"/>
                  </a:lnTo>
                  <a:lnTo>
                    <a:pt x="44" y="421"/>
                  </a:lnTo>
                  <a:lnTo>
                    <a:pt x="26" y="412"/>
                  </a:lnTo>
                  <a:lnTo>
                    <a:pt x="12" y="398"/>
                  </a:lnTo>
                  <a:lnTo>
                    <a:pt x="4" y="380"/>
                  </a:lnTo>
                  <a:lnTo>
                    <a:pt x="0" y="361"/>
                  </a:lnTo>
                  <a:lnTo>
                    <a:pt x="0" y="63"/>
                  </a:lnTo>
                  <a:lnTo>
                    <a:pt x="4" y="43"/>
                  </a:lnTo>
                  <a:lnTo>
                    <a:pt x="12" y="26"/>
                  </a:lnTo>
                  <a:lnTo>
                    <a:pt x="26" y="12"/>
                  </a:lnTo>
                  <a:lnTo>
                    <a:pt x="44" y="3"/>
                  </a:lnTo>
                  <a:lnTo>
                    <a:pt x="6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1" name="Freeform 1395"/>
            <p:cNvSpPr/>
            <p:nvPr/>
          </p:nvSpPr>
          <p:spPr>
            <a:xfrm>
              <a:off x="9190080" y="2133720"/>
              <a:ext cx="1535760" cy="98280"/>
            </a:xfrm>
            <a:custGeom>
              <a:avLst/>
              <a:gdLst/>
              <a:ahLst/>
              <a:rect l="l" t="t" r="r" b="b"/>
              <a:pathLst>
                <a:path w="2759" h="178">
                  <a:moveTo>
                    <a:pt x="272" y="0"/>
                  </a:moveTo>
                  <a:lnTo>
                    <a:pt x="2487" y="0"/>
                  </a:lnTo>
                  <a:lnTo>
                    <a:pt x="2759" y="178"/>
                  </a:lnTo>
                  <a:lnTo>
                    <a:pt x="0" y="178"/>
                  </a:lnTo>
                  <a:lnTo>
                    <a:pt x="272"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2" name="Rectangle 1396"/>
            <p:cNvSpPr/>
            <p:nvPr/>
          </p:nvSpPr>
          <p:spPr>
            <a:xfrm>
              <a:off x="9946800" y="2124360"/>
              <a:ext cx="17280" cy="1173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3" name="Freeform 1397"/>
            <p:cNvSpPr/>
            <p:nvPr/>
          </p:nvSpPr>
          <p:spPr>
            <a:xfrm>
              <a:off x="10105560" y="2121120"/>
              <a:ext cx="45720" cy="123840"/>
            </a:xfrm>
            <a:custGeom>
              <a:avLst/>
              <a:gdLst/>
              <a:ahLst/>
              <a:rect l="l" t="t" r="r" b="b"/>
              <a:pathLst>
                <a:path w="83" h="222">
                  <a:moveTo>
                    <a:pt x="30" y="0"/>
                  </a:moveTo>
                  <a:lnTo>
                    <a:pt x="83" y="213"/>
                  </a:lnTo>
                  <a:lnTo>
                    <a:pt x="53" y="222"/>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4" name="Freeform 1398"/>
            <p:cNvSpPr/>
            <p:nvPr/>
          </p:nvSpPr>
          <p:spPr>
            <a:xfrm>
              <a:off x="10254600" y="2121120"/>
              <a:ext cx="74520" cy="125280"/>
            </a:xfrm>
            <a:custGeom>
              <a:avLst/>
              <a:gdLst/>
              <a:ahLst/>
              <a:rect l="l" t="t" r="r" b="b"/>
              <a:pathLst>
                <a:path w="133" h="226">
                  <a:moveTo>
                    <a:pt x="27" y="0"/>
                  </a:moveTo>
                  <a:lnTo>
                    <a:pt x="133" y="213"/>
                  </a:lnTo>
                  <a:lnTo>
                    <a:pt x="107" y="226"/>
                  </a:lnTo>
                  <a:lnTo>
                    <a:pt x="0" y="13"/>
                  </a:lnTo>
                  <a:lnTo>
                    <a:pt x="2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5" name="Freeform 1399"/>
            <p:cNvSpPr/>
            <p:nvPr/>
          </p:nvSpPr>
          <p:spPr>
            <a:xfrm>
              <a:off x="10404000" y="2117880"/>
              <a:ext cx="106200" cy="129960"/>
            </a:xfrm>
            <a:custGeom>
              <a:avLst/>
              <a:gdLst/>
              <a:ahLst/>
              <a:rect l="l" t="t" r="r" b="b"/>
              <a:pathLst>
                <a:path w="191" h="233">
                  <a:moveTo>
                    <a:pt x="24" y="0"/>
                  </a:moveTo>
                  <a:lnTo>
                    <a:pt x="191" y="215"/>
                  </a:lnTo>
                  <a:lnTo>
                    <a:pt x="167" y="233"/>
                  </a:lnTo>
                  <a:lnTo>
                    <a:pt x="0" y="20"/>
                  </a:lnTo>
                  <a:lnTo>
                    <a:pt x="2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6" name="Rectangle 1400"/>
            <p:cNvSpPr/>
            <p:nvPr/>
          </p:nvSpPr>
          <p:spPr>
            <a:xfrm>
              <a:off x="9261360" y="2151360"/>
              <a:ext cx="1388160" cy="15840"/>
            </a:xfrm>
            <a:prstGeom prst="rect">
              <a:avLst/>
            </a:prstGeom>
            <a:solidFill>
              <a:srgbClr val="ffffff"/>
            </a:solidFill>
            <a:ln w="0">
              <a:noFill/>
            </a:ln>
          </p:spPr>
          <p:style>
            <a:lnRef idx="0"/>
            <a:fillRef idx="0"/>
            <a:effectRef idx="0"/>
            <a:fontRef idx="minor"/>
          </p:style>
          <p:txBody>
            <a:bodyPr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7" name="Freeform 1401"/>
            <p:cNvSpPr/>
            <p:nvPr/>
          </p:nvSpPr>
          <p:spPr>
            <a:xfrm>
              <a:off x="9759600" y="2121120"/>
              <a:ext cx="45720" cy="123840"/>
            </a:xfrm>
            <a:custGeom>
              <a:avLst/>
              <a:gdLst/>
              <a:ahLst/>
              <a:rect l="l" t="t" r="r" b="b"/>
              <a:pathLst>
                <a:path w="82" h="222">
                  <a:moveTo>
                    <a:pt x="53" y="0"/>
                  </a:moveTo>
                  <a:lnTo>
                    <a:pt x="82" y="8"/>
                  </a:lnTo>
                  <a:lnTo>
                    <a:pt x="28" y="222"/>
                  </a:lnTo>
                  <a:lnTo>
                    <a:pt x="0" y="213"/>
                  </a:lnTo>
                  <a:lnTo>
                    <a:pt x="53"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8" name="Freeform 1402"/>
            <p:cNvSpPr/>
            <p:nvPr/>
          </p:nvSpPr>
          <p:spPr>
            <a:xfrm>
              <a:off x="9581760" y="2121120"/>
              <a:ext cx="74520" cy="125280"/>
            </a:xfrm>
            <a:custGeom>
              <a:avLst/>
              <a:gdLst/>
              <a:ahLst/>
              <a:rect l="l" t="t" r="r" b="b"/>
              <a:pathLst>
                <a:path w="134" h="226">
                  <a:moveTo>
                    <a:pt x="108" y="0"/>
                  </a:moveTo>
                  <a:lnTo>
                    <a:pt x="134" y="13"/>
                  </a:lnTo>
                  <a:lnTo>
                    <a:pt x="28" y="226"/>
                  </a:lnTo>
                  <a:lnTo>
                    <a:pt x="0" y="213"/>
                  </a:lnTo>
                  <a:lnTo>
                    <a:pt x="10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9" name="Freeform 1403"/>
            <p:cNvSpPr/>
            <p:nvPr/>
          </p:nvSpPr>
          <p:spPr>
            <a:xfrm>
              <a:off x="9401040" y="2117880"/>
              <a:ext cx="106200" cy="129960"/>
            </a:xfrm>
            <a:custGeom>
              <a:avLst/>
              <a:gdLst/>
              <a:ahLst/>
              <a:rect l="l" t="t" r="r" b="b"/>
              <a:pathLst>
                <a:path w="191" h="233">
                  <a:moveTo>
                    <a:pt x="167" y="0"/>
                  </a:moveTo>
                  <a:lnTo>
                    <a:pt x="191" y="20"/>
                  </a:lnTo>
                  <a:lnTo>
                    <a:pt x="24" y="233"/>
                  </a:lnTo>
                  <a:lnTo>
                    <a:pt x="0" y="215"/>
                  </a:lnTo>
                  <a:lnTo>
                    <a:pt x="16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0" name="Rectangle 1404"/>
            <p:cNvSpPr/>
            <p:nvPr/>
          </p:nvSpPr>
          <p:spPr>
            <a:xfrm>
              <a:off x="9210600" y="2190960"/>
              <a:ext cx="1512000" cy="17280"/>
            </a:xfrm>
            <a:prstGeom prst="rect">
              <a:avLst/>
            </a:prstGeom>
            <a:solidFill>
              <a:srgbClr val="ffffff"/>
            </a:solidFill>
            <a:ln w="0">
              <a:noFill/>
            </a:ln>
          </p:spPr>
          <p:style>
            <a:lnRef idx="0"/>
            <a:fillRef idx="0"/>
            <a:effectRef idx="0"/>
            <a:fontRef idx="minor"/>
          </p:style>
          <p:txBody>
            <a:bodyPr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41" name="Group 113"/>
            <p:cNvGrpSpPr/>
            <p:nvPr/>
          </p:nvGrpSpPr>
          <p:grpSpPr>
            <a:xfrm>
              <a:off x="9381960" y="1247040"/>
              <a:ext cx="1146960" cy="668880"/>
              <a:chOff x="9381960" y="1247040"/>
              <a:chExt cx="1146960" cy="668880"/>
            </a:xfrm>
          </p:grpSpPr>
          <p:sp>
            <p:nvSpPr>
              <p:cNvPr id="742" name="Freeform 1388"/>
              <p:cNvSpPr/>
              <p:nvPr/>
            </p:nvSpPr>
            <p:spPr>
              <a:xfrm>
                <a:off x="9381960" y="1247040"/>
                <a:ext cx="1146960" cy="565920"/>
              </a:xfrm>
              <a:custGeom>
                <a:avLst/>
                <a:gdLst/>
                <a:ahLst/>
                <a:rect l="l" t="t" r="r" b="b"/>
                <a:pathLst>
                  <a:path w="2061" h="1016">
                    <a:moveTo>
                      <a:pt x="98" y="0"/>
                    </a:moveTo>
                    <a:lnTo>
                      <a:pt x="1964" y="0"/>
                    </a:lnTo>
                    <a:lnTo>
                      <a:pt x="1997" y="2"/>
                    </a:lnTo>
                    <a:lnTo>
                      <a:pt x="2031" y="9"/>
                    </a:lnTo>
                    <a:lnTo>
                      <a:pt x="2061" y="21"/>
                    </a:lnTo>
                    <a:lnTo>
                      <a:pt x="2061" y="811"/>
                    </a:lnTo>
                    <a:lnTo>
                      <a:pt x="2058" y="848"/>
                    </a:lnTo>
                    <a:lnTo>
                      <a:pt x="2048" y="882"/>
                    </a:lnTo>
                    <a:lnTo>
                      <a:pt x="2033" y="915"/>
                    </a:lnTo>
                    <a:lnTo>
                      <a:pt x="2013" y="943"/>
                    </a:lnTo>
                    <a:lnTo>
                      <a:pt x="1988" y="967"/>
                    </a:lnTo>
                    <a:lnTo>
                      <a:pt x="1958" y="988"/>
                    </a:lnTo>
                    <a:lnTo>
                      <a:pt x="1927" y="1003"/>
                    </a:lnTo>
                    <a:lnTo>
                      <a:pt x="1891" y="1013"/>
                    </a:lnTo>
                    <a:lnTo>
                      <a:pt x="1854" y="1016"/>
                    </a:lnTo>
                    <a:lnTo>
                      <a:pt x="207" y="1016"/>
                    </a:lnTo>
                    <a:lnTo>
                      <a:pt x="170" y="1013"/>
                    </a:lnTo>
                    <a:lnTo>
                      <a:pt x="135" y="1003"/>
                    </a:lnTo>
                    <a:lnTo>
                      <a:pt x="103" y="988"/>
                    </a:lnTo>
                    <a:lnTo>
                      <a:pt x="74" y="967"/>
                    </a:lnTo>
                    <a:lnTo>
                      <a:pt x="49" y="943"/>
                    </a:lnTo>
                    <a:lnTo>
                      <a:pt x="29" y="915"/>
                    </a:lnTo>
                    <a:lnTo>
                      <a:pt x="13" y="882"/>
                    </a:lnTo>
                    <a:lnTo>
                      <a:pt x="4" y="848"/>
                    </a:lnTo>
                    <a:lnTo>
                      <a:pt x="0" y="811"/>
                    </a:lnTo>
                    <a:lnTo>
                      <a:pt x="0" y="21"/>
                    </a:lnTo>
                    <a:lnTo>
                      <a:pt x="31" y="9"/>
                    </a:lnTo>
                    <a:lnTo>
                      <a:pt x="63" y="2"/>
                    </a:lnTo>
                    <a:lnTo>
                      <a:pt x="9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743" name="Group 115"/>
              <p:cNvGrpSpPr/>
              <p:nvPr/>
            </p:nvGrpSpPr>
            <p:grpSpPr>
              <a:xfrm>
                <a:off x="9613440" y="1709280"/>
                <a:ext cx="683640" cy="206640"/>
                <a:chOff x="9613440" y="1709280"/>
                <a:chExt cx="683640" cy="206640"/>
              </a:xfrm>
            </p:grpSpPr>
            <p:sp>
              <p:nvSpPr>
                <p:cNvPr id="744" name="Freeform 1391"/>
                <p:cNvSpPr/>
                <p:nvPr/>
              </p:nvSpPr>
              <p:spPr>
                <a:xfrm>
                  <a:off x="9613440" y="1709280"/>
                  <a:ext cx="134640" cy="206640"/>
                </a:xfrm>
                <a:custGeom>
                  <a:avLst/>
                  <a:gdLst/>
                  <a:ahLst/>
                  <a:rect l="l" t="t" r="r" b="b"/>
                  <a:pathLst>
                    <a:path w="241" h="371">
                      <a:moveTo>
                        <a:pt x="134" y="0"/>
                      </a:moveTo>
                      <a:lnTo>
                        <a:pt x="157" y="2"/>
                      </a:lnTo>
                      <a:lnTo>
                        <a:pt x="181" y="6"/>
                      </a:lnTo>
                      <a:lnTo>
                        <a:pt x="202" y="12"/>
                      </a:lnTo>
                      <a:lnTo>
                        <a:pt x="220"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3" y="368"/>
                      </a:lnTo>
                      <a:lnTo>
                        <a:pt x="85" y="365"/>
                      </a:lnTo>
                      <a:lnTo>
                        <a:pt x="69" y="358"/>
                      </a:lnTo>
                      <a:lnTo>
                        <a:pt x="56" y="348"/>
                      </a:lnTo>
                      <a:lnTo>
                        <a:pt x="46" y="336"/>
                      </a:lnTo>
                      <a:lnTo>
                        <a:pt x="42" y="323"/>
                      </a:lnTo>
                      <a:lnTo>
                        <a:pt x="0" y="55"/>
                      </a:lnTo>
                      <a:lnTo>
                        <a:pt x="1" y="42"/>
                      </a:lnTo>
                      <a:lnTo>
                        <a:pt x="9" y="30"/>
                      </a:lnTo>
                      <a:lnTo>
                        <a:pt x="21" y="20"/>
                      </a:lnTo>
                      <a:lnTo>
                        <a:pt x="39" y="12"/>
                      </a:lnTo>
                      <a:lnTo>
                        <a:pt x="60" y="6"/>
                      </a:lnTo>
                      <a:lnTo>
                        <a:pt x="83" y="2"/>
                      </a:lnTo>
                      <a:lnTo>
                        <a:pt x="108" y="0"/>
                      </a:lnTo>
                      <a:lnTo>
                        <a:pt x="134"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5" name="Freeform 1392"/>
                <p:cNvSpPr/>
                <p:nvPr/>
              </p:nvSpPr>
              <p:spPr>
                <a:xfrm>
                  <a:off x="10162440" y="1709280"/>
                  <a:ext cx="134640" cy="206640"/>
                </a:xfrm>
                <a:custGeom>
                  <a:avLst/>
                  <a:gdLst/>
                  <a:ahLst/>
                  <a:rect l="l" t="t" r="r" b="b"/>
                  <a:pathLst>
                    <a:path w="241" h="371">
                      <a:moveTo>
                        <a:pt x="133" y="0"/>
                      </a:moveTo>
                      <a:lnTo>
                        <a:pt x="159" y="2"/>
                      </a:lnTo>
                      <a:lnTo>
                        <a:pt x="181" y="6"/>
                      </a:lnTo>
                      <a:lnTo>
                        <a:pt x="203" y="12"/>
                      </a:lnTo>
                      <a:lnTo>
                        <a:pt x="219"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2" y="368"/>
                      </a:lnTo>
                      <a:lnTo>
                        <a:pt x="84" y="365"/>
                      </a:lnTo>
                      <a:lnTo>
                        <a:pt x="69" y="358"/>
                      </a:lnTo>
                      <a:lnTo>
                        <a:pt x="56" y="348"/>
                      </a:lnTo>
                      <a:lnTo>
                        <a:pt x="47" y="336"/>
                      </a:lnTo>
                      <a:lnTo>
                        <a:pt x="41" y="323"/>
                      </a:lnTo>
                      <a:lnTo>
                        <a:pt x="0" y="55"/>
                      </a:lnTo>
                      <a:lnTo>
                        <a:pt x="1" y="42"/>
                      </a:lnTo>
                      <a:lnTo>
                        <a:pt x="9" y="30"/>
                      </a:lnTo>
                      <a:lnTo>
                        <a:pt x="22" y="20"/>
                      </a:lnTo>
                      <a:lnTo>
                        <a:pt x="39" y="12"/>
                      </a:lnTo>
                      <a:lnTo>
                        <a:pt x="61" y="6"/>
                      </a:lnTo>
                      <a:lnTo>
                        <a:pt x="83" y="2"/>
                      </a:lnTo>
                      <a:lnTo>
                        <a:pt x="108" y="0"/>
                      </a:lnTo>
                      <a:lnTo>
                        <a:pt x="133"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6" name="Freeform 1393"/>
                <p:cNvSpPr/>
                <p:nvPr/>
              </p:nvSpPr>
              <p:spPr>
                <a:xfrm>
                  <a:off x="9641880" y="1733040"/>
                  <a:ext cx="77760" cy="149400"/>
                </a:xfrm>
                <a:custGeom>
                  <a:avLst/>
                  <a:gdLst/>
                  <a:ahLst/>
                  <a:rect l="l" t="t" r="r" b="b"/>
                  <a:pathLst>
                    <a:path w="140" h="267">
                      <a:moveTo>
                        <a:pt x="69" y="0"/>
                      </a:moveTo>
                      <a:lnTo>
                        <a:pt x="87" y="1"/>
                      </a:lnTo>
                      <a:lnTo>
                        <a:pt x="105" y="5"/>
                      </a:lnTo>
                      <a:lnTo>
                        <a:pt x="120" y="10"/>
                      </a:lnTo>
                      <a:lnTo>
                        <a:pt x="132" y="18"/>
                      </a:lnTo>
                      <a:lnTo>
                        <a:pt x="139" y="28"/>
                      </a:lnTo>
                      <a:lnTo>
                        <a:pt x="140" y="40"/>
                      </a:lnTo>
                      <a:lnTo>
                        <a:pt x="115" y="232"/>
                      </a:lnTo>
                      <a:lnTo>
                        <a:pt x="111" y="247"/>
                      </a:lnTo>
                      <a:lnTo>
                        <a:pt x="102" y="257"/>
                      </a:lnTo>
                      <a:lnTo>
                        <a:pt x="90" y="263"/>
                      </a:lnTo>
                      <a:lnTo>
                        <a:pt x="77" y="267"/>
                      </a:lnTo>
                      <a:lnTo>
                        <a:pt x="62" y="267"/>
                      </a:lnTo>
                      <a:lnTo>
                        <a:pt x="49" y="263"/>
                      </a:lnTo>
                      <a:lnTo>
                        <a:pt x="37" y="256"/>
                      </a:lnTo>
                      <a:lnTo>
                        <a:pt x="29" y="245"/>
                      </a:lnTo>
                      <a:lnTo>
                        <a:pt x="24" y="232"/>
                      </a:lnTo>
                      <a:lnTo>
                        <a:pt x="0" y="40"/>
                      </a:lnTo>
                      <a:lnTo>
                        <a:pt x="1" y="28"/>
                      </a:lnTo>
                      <a:lnTo>
                        <a:pt x="9" y="18"/>
                      </a:lnTo>
                      <a:lnTo>
                        <a:pt x="19" y="10"/>
                      </a:lnTo>
                      <a:lnTo>
                        <a:pt x="35" y="5"/>
                      </a:lnTo>
                      <a:lnTo>
                        <a:pt x="52"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7" name="Freeform 1394"/>
                <p:cNvSpPr/>
                <p:nvPr/>
              </p:nvSpPr>
              <p:spPr>
                <a:xfrm>
                  <a:off x="10190880" y="1733040"/>
                  <a:ext cx="77760" cy="149400"/>
                </a:xfrm>
                <a:custGeom>
                  <a:avLst/>
                  <a:gdLst/>
                  <a:ahLst/>
                  <a:rect l="l" t="t" r="r" b="b"/>
                  <a:pathLst>
                    <a:path w="140" h="267">
                      <a:moveTo>
                        <a:pt x="69" y="0"/>
                      </a:moveTo>
                      <a:lnTo>
                        <a:pt x="88" y="1"/>
                      </a:lnTo>
                      <a:lnTo>
                        <a:pt x="105" y="5"/>
                      </a:lnTo>
                      <a:lnTo>
                        <a:pt x="119" y="10"/>
                      </a:lnTo>
                      <a:lnTo>
                        <a:pt x="131" y="18"/>
                      </a:lnTo>
                      <a:lnTo>
                        <a:pt x="139" y="28"/>
                      </a:lnTo>
                      <a:lnTo>
                        <a:pt x="140" y="40"/>
                      </a:lnTo>
                      <a:lnTo>
                        <a:pt x="116" y="232"/>
                      </a:lnTo>
                      <a:lnTo>
                        <a:pt x="111" y="247"/>
                      </a:lnTo>
                      <a:lnTo>
                        <a:pt x="102" y="257"/>
                      </a:lnTo>
                      <a:lnTo>
                        <a:pt x="91" y="263"/>
                      </a:lnTo>
                      <a:lnTo>
                        <a:pt x="76" y="267"/>
                      </a:lnTo>
                      <a:lnTo>
                        <a:pt x="62" y="267"/>
                      </a:lnTo>
                      <a:lnTo>
                        <a:pt x="49" y="263"/>
                      </a:lnTo>
                      <a:lnTo>
                        <a:pt x="37" y="256"/>
                      </a:lnTo>
                      <a:lnTo>
                        <a:pt x="29" y="245"/>
                      </a:lnTo>
                      <a:lnTo>
                        <a:pt x="24" y="232"/>
                      </a:lnTo>
                      <a:lnTo>
                        <a:pt x="0" y="40"/>
                      </a:lnTo>
                      <a:lnTo>
                        <a:pt x="1" y="28"/>
                      </a:lnTo>
                      <a:lnTo>
                        <a:pt x="8" y="18"/>
                      </a:lnTo>
                      <a:lnTo>
                        <a:pt x="19" y="10"/>
                      </a:lnTo>
                      <a:lnTo>
                        <a:pt x="35" y="5"/>
                      </a:lnTo>
                      <a:lnTo>
                        <a:pt x="51"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8" name="Freeform 1405"/>
                <p:cNvSpPr/>
                <p:nvPr/>
              </p:nvSpPr>
              <p:spPr>
                <a:xfrm>
                  <a:off x="9664200" y="1777680"/>
                  <a:ext cx="33120" cy="61920"/>
                </a:xfrm>
                <a:custGeom>
                  <a:avLst/>
                  <a:gdLst/>
                  <a:ahLst/>
                  <a:rect l="l" t="t" r="r" b="b"/>
                  <a:pathLst>
                    <a:path w="58" h="111">
                      <a:moveTo>
                        <a:pt x="28" y="0"/>
                      </a:moveTo>
                      <a:lnTo>
                        <a:pt x="40" y="2"/>
                      </a:lnTo>
                      <a:lnTo>
                        <a:pt x="50" y="8"/>
                      </a:lnTo>
                      <a:lnTo>
                        <a:pt x="56" y="18"/>
                      </a:lnTo>
                      <a:lnTo>
                        <a:pt x="58" y="30"/>
                      </a:lnTo>
                      <a:lnTo>
                        <a:pt x="56" y="39"/>
                      </a:lnTo>
                      <a:lnTo>
                        <a:pt x="52" y="48"/>
                      </a:lnTo>
                      <a:lnTo>
                        <a:pt x="45" y="54"/>
                      </a:lnTo>
                      <a:lnTo>
                        <a:pt x="55" y="111"/>
                      </a:lnTo>
                      <a:lnTo>
                        <a:pt x="2" y="111"/>
                      </a:lnTo>
                      <a:lnTo>
                        <a:pt x="13" y="54"/>
                      </a:lnTo>
                      <a:lnTo>
                        <a:pt x="6" y="48"/>
                      </a:lnTo>
                      <a:lnTo>
                        <a:pt x="1" y="39"/>
                      </a:lnTo>
                      <a:lnTo>
                        <a:pt x="0" y="30"/>
                      </a:lnTo>
                      <a:lnTo>
                        <a:pt x="1"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sp>
              <p:nvSpPr>
                <p:cNvPr id="749" name="Freeform 1406"/>
                <p:cNvSpPr/>
                <p:nvPr/>
              </p:nvSpPr>
              <p:spPr>
                <a:xfrm>
                  <a:off x="10214640" y="1777680"/>
                  <a:ext cx="31680" cy="61920"/>
                </a:xfrm>
                <a:custGeom>
                  <a:avLst/>
                  <a:gdLst/>
                  <a:ahLst/>
                  <a:rect l="l" t="t" r="r" b="b"/>
                  <a:pathLst>
                    <a:path w="58" h="111">
                      <a:moveTo>
                        <a:pt x="28" y="0"/>
                      </a:moveTo>
                      <a:lnTo>
                        <a:pt x="40" y="2"/>
                      </a:lnTo>
                      <a:lnTo>
                        <a:pt x="50" y="8"/>
                      </a:lnTo>
                      <a:lnTo>
                        <a:pt x="56" y="18"/>
                      </a:lnTo>
                      <a:lnTo>
                        <a:pt x="58" y="30"/>
                      </a:lnTo>
                      <a:lnTo>
                        <a:pt x="57" y="39"/>
                      </a:lnTo>
                      <a:lnTo>
                        <a:pt x="52" y="48"/>
                      </a:lnTo>
                      <a:lnTo>
                        <a:pt x="45" y="54"/>
                      </a:lnTo>
                      <a:lnTo>
                        <a:pt x="55" y="111"/>
                      </a:lnTo>
                      <a:lnTo>
                        <a:pt x="3" y="111"/>
                      </a:lnTo>
                      <a:lnTo>
                        <a:pt x="13" y="54"/>
                      </a:lnTo>
                      <a:lnTo>
                        <a:pt x="6" y="48"/>
                      </a:lnTo>
                      <a:lnTo>
                        <a:pt x="1" y="39"/>
                      </a:lnTo>
                      <a:lnTo>
                        <a:pt x="0" y="30"/>
                      </a:lnTo>
                      <a:lnTo>
                        <a:pt x="2"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grpSp>
        </p:grpSp>
      </p:grpSp>
      <p:grpSp>
        <p:nvGrpSpPr>
          <p:cNvPr id="750" name="Group 130"/>
          <p:cNvGrpSpPr/>
          <p:nvPr/>
        </p:nvGrpSpPr>
        <p:grpSpPr>
          <a:xfrm>
            <a:off x="4761000" y="754200"/>
            <a:ext cx="2604960" cy="1817640"/>
            <a:chOff x="4761000" y="754200"/>
            <a:chExt cx="2604960" cy="1817640"/>
          </a:xfrm>
        </p:grpSpPr>
        <p:sp>
          <p:nvSpPr>
            <p:cNvPr id="751" name="Freeform 7"/>
            <p:cNvSpPr/>
            <p:nvPr/>
          </p:nvSpPr>
          <p:spPr>
            <a:xfrm>
              <a:off x="6135840" y="1425960"/>
              <a:ext cx="930240" cy="1145880"/>
            </a:xfrm>
            <a:custGeom>
              <a:avLst/>
              <a:gdLst/>
              <a:ahLst/>
              <a:rect l="l" t="t" r="r" b="b"/>
              <a:pathLst>
                <a:path w="1362" h="1678">
                  <a:moveTo>
                    <a:pt x="1288" y="1591"/>
                  </a:moveTo>
                  <a:lnTo>
                    <a:pt x="1265" y="1602"/>
                  </a:lnTo>
                  <a:lnTo>
                    <a:pt x="1265" y="1601"/>
                  </a:lnTo>
                  <a:lnTo>
                    <a:pt x="1288" y="1591"/>
                  </a:lnTo>
                  <a:close/>
                  <a:moveTo>
                    <a:pt x="1306" y="1583"/>
                  </a:moveTo>
                  <a:lnTo>
                    <a:pt x="1299" y="1586"/>
                  </a:lnTo>
                  <a:lnTo>
                    <a:pt x="1288" y="1591"/>
                  </a:lnTo>
                  <a:lnTo>
                    <a:pt x="1306" y="1583"/>
                  </a:lnTo>
                  <a:close/>
                  <a:moveTo>
                    <a:pt x="1362" y="1552"/>
                  </a:moveTo>
                  <a:lnTo>
                    <a:pt x="1315" y="1578"/>
                  </a:lnTo>
                  <a:lnTo>
                    <a:pt x="1306" y="1583"/>
                  </a:lnTo>
                  <a:lnTo>
                    <a:pt x="1362" y="1552"/>
                  </a:lnTo>
                  <a:close/>
                  <a:moveTo>
                    <a:pt x="374" y="47"/>
                  </a:moveTo>
                  <a:lnTo>
                    <a:pt x="902" y="778"/>
                  </a:lnTo>
                  <a:lnTo>
                    <a:pt x="1265" y="1601"/>
                  </a:lnTo>
                  <a:lnTo>
                    <a:pt x="1233" y="1615"/>
                  </a:lnTo>
                  <a:lnTo>
                    <a:pt x="1165" y="1639"/>
                  </a:lnTo>
                  <a:lnTo>
                    <a:pt x="1095" y="1658"/>
                  </a:lnTo>
                  <a:lnTo>
                    <a:pt x="1024" y="1670"/>
                  </a:lnTo>
                  <a:lnTo>
                    <a:pt x="951" y="1677"/>
                  </a:lnTo>
                  <a:lnTo>
                    <a:pt x="878" y="1678"/>
                  </a:lnTo>
                  <a:lnTo>
                    <a:pt x="804" y="1674"/>
                  </a:lnTo>
                  <a:lnTo>
                    <a:pt x="730" y="1662"/>
                  </a:lnTo>
                  <a:lnTo>
                    <a:pt x="656" y="1645"/>
                  </a:lnTo>
                  <a:lnTo>
                    <a:pt x="583" y="1620"/>
                  </a:lnTo>
                  <a:lnTo>
                    <a:pt x="518" y="1592"/>
                  </a:lnTo>
                  <a:lnTo>
                    <a:pt x="456" y="1561"/>
                  </a:lnTo>
                  <a:lnTo>
                    <a:pt x="398" y="1525"/>
                  </a:lnTo>
                  <a:lnTo>
                    <a:pt x="344" y="1485"/>
                  </a:lnTo>
                  <a:lnTo>
                    <a:pt x="292" y="1442"/>
                  </a:lnTo>
                  <a:lnTo>
                    <a:pt x="244" y="1395"/>
                  </a:lnTo>
                  <a:lnTo>
                    <a:pt x="201" y="1344"/>
                  </a:lnTo>
                  <a:lnTo>
                    <a:pt x="162" y="1291"/>
                  </a:lnTo>
                  <a:lnTo>
                    <a:pt x="126" y="1235"/>
                  </a:lnTo>
                  <a:lnTo>
                    <a:pt x="95" y="1177"/>
                  </a:lnTo>
                  <a:lnTo>
                    <a:pt x="68" y="1118"/>
                  </a:lnTo>
                  <a:lnTo>
                    <a:pt x="44" y="1056"/>
                  </a:lnTo>
                  <a:lnTo>
                    <a:pt x="26" y="992"/>
                  </a:lnTo>
                  <a:lnTo>
                    <a:pt x="13" y="927"/>
                  </a:lnTo>
                  <a:lnTo>
                    <a:pt x="5" y="862"/>
                  </a:lnTo>
                  <a:lnTo>
                    <a:pt x="0" y="795"/>
                  </a:lnTo>
                  <a:lnTo>
                    <a:pt x="2" y="727"/>
                  </a:lnTo>
                  <a:lnTo>
                    <a:pt x="8" y="660"/>
                  </a:lnTo>
                  <a:lnTo>
                    <a:pt x="20" y="593"/>
                  </a:lnTo>
                  <a:lnTo>
                    <a:pt x="37" y="525"/>
                  </a:lnTo>
                  <a:lnTo>
                    <a:pt x="59" y="459"/>
                  </a:lnTo>
                  <a:lnTo>
                    <a:pt x="86" y="394"/>
                  </a:lnTo>
                  <a:lnTo>
                    <a:pt x="118" y="332"/>
                  </a:lnTo>
                  <a:lnTo>
                    <a:pt x="154" y="273"/>
                  </a:lnTo>
                  <a:lnTo>
                    <a:pt x="195" y="217"/>
                  </a:lnTo>
                  <a:lnTo>
                    <a:pt x="239" y="166"/>
                  </a:lnTo>
                  <a:lnTo>
                    <a:pt x="286" y="119"/>
                  </a:lnTo>
                  <a:lnTo>
                    <a:pt x="336" y="75"/>
                  </a:lnTo>
                  <a:lnTo>
                    <a:pt x="374" y="47"/>
                  </a:lnTo>
                  <a:close/>
                  <a:moveTo>
                    <a:pt x="384" y="40"/>
                  </a:moveTo>
                  <a:lnTo>
                    <a:pt x="374" y="47"/>
                  </a:lnTo>
                  <a:lnTo>
                    <a:pt x="374" y="47"/>
                  </a:lnTo>
                  <a:lnTo>
                    <a:pt x="384" y="40"/>
                  </a:lnTo>
                  <a:close/>
                  <a:moveTo>
                    <a:pt x="396" y="31"/>
                  </a:moveTo>
                  <a:lnTo>
                    <a:pt x="384" y="40"/>
                  </a:lnTo>
                  <a:lnTo>
                    <a:pt x="390" y="35"/>
                  </a:lnTo>
                  <a:lnTo>
                    <a:pt x="396" y="31"/>
                  </a:lnTo>
                  <a:close/>
                  <a:moveTo>
                    <a:pt x="446" y="0"/>
                  </a:moveTo>
                  <a:lnTo>
                    <a:pt x="396" y="31"/>
                  </a:lnTo>
                  <a:lnTo>
                    <a:pt x="409" y="23"/>
                  </a:lnTo>
                  <a:lnTo>
                    <a:pt x="446" y="0"/>
                  </a:lnTo>
                  <a:close/>
                </a:path>
              </a:pathLst>
            </a:custGeom>
            <a:solidFill>
              <a:srgbClr val="000000">
                <a:alpha val="14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2" name="Freeform 8"/>
            <p:cNvSpPr/>
            <p:nvPr/>
          </p:nvSpPr>
          <p:spPr>
            <a:xfrm>
              <a:off x="6751800" y="1956960"/>
              <a:ext cx="576000" cy="217440"/>
            </a:xfrm>
            <a:custGeom>
              <a:avLst/>
              <a:gdLst/>
              <a:ahLst/>
              <a:rect l="l" t="t" r="r" b="b"/>
              <a:pathLst>
                <a:path w="844" h="318">
                  <a:moveTo>
                    <a:pt x="0" y="0"/>
                  </a:moveTo>
                  <a:lnTo>
                    <a:pt x="842" y="318"/>
                  </a:lnTo>
                  <a:lnTo>
                    <a:pt x="844" y="314"/>
                  </a:lnTo>
                  <a:lnTo>
                    <a:pt x="842" y="318"/>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3" name="Freeform 9"/>
            <p:cNvSpPr/>
            <p:nvPr/>
          </p:nvSpPr>
          <p:spPr>
            <a:xfrm>
              <a:off x="6391440" y="1344960"/>
              <a:ext cx="360360" cy="611640"/>
            </a:xfrm>
            <a:custGeom>
              <a:avLst/>
              <a:gdLst/>
              <a:ahLst/>
              <a:rect l="l" t="t" r="r" b="b"/>
              <a:pathLst>
                <a:path w="528" h="897">
                  <a:moveTo>
                    <a:pt x="427" y="0"/>
                  </a:moveTo>
                  <a:lnTo>
                    <a:pt x="528" y="897"/>
                  </a:lnTo>
                  <a:lnTo>
                    <a:pt x="0" y="166"/>
                  </a:lnTo>
                  <a:lnTo>
                    <a:pt x="35" y="142"/>
                  </a:lnTo>
                  <a:lnTo>
                    <a:pt x="72" y="119"/>
                  </a:lnTo>
                  <a:lnTo>
                    <a:pt x="72" y="118"/>
                  </a:lnTo>
                  <a:lnTo>
                    <a:pt x="110" y="98"/>
                  </a:lnTo>
                  <a:lnTo>
                    <a:pt x="148" y="78"/>
                  </a:lnTo>
                  <a:lnTo>
                    <a:pt x="150" y="77"/>
                  </a:lnTo>
                  <a:lnTo>
                    <a:pt x="202" y="56"/>
                  </a:lnTo>
                  <a:lnTo>
                    <a:pt x="204" y="55"/>
                  </a:lnTo>
                  <a:lnTo>
                    <a:pt x="227" y="46"/>
                  </a:lnTo>
                  <a:lnTo>
                    <a:pt x="232" y="45"/>
                  </a:lnTo>
                  <a:lnTo>
                    <a:pt x="283" y="28"/>
                  </a:lnTo>
                  <a:lnTo>
                    <a:pt x="288" y="27"/>
                  </a:lnTo>
                  <a:lnTo>
                    <a:pt x="310" y="22"/>
                  </a:lnTo>
                  <a:lnTo>
                    <a:pt x="315" y="21"/>
                  </a:lnTo>
                  <a:lnTo>
                    <a:pt x="367" y="9"/>
                  </a:lnTo>
                  <a:lnTo>
                    <a:pt x="373" y="8"/>
                  </a:lnTo>
                  <a:lnTo>
                    <a:pt x="395" y="5"/>
                  </a:lnTo>
                  <a:lnTo>
                    <a:pt x="400" y="4"/>
                  </a:lnTo>
                  <a:lnTo>
                    <a:pt x="427" y="0"/>
                  </a:lnTo>
                  <a:close/>
                </a:path>
              </a:pathLst>
            </a:custGeom>
            <a:solidFill>
              <a:srgbClr val="000000">
                <a:alpha val="3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4" name="Rectangle 11"/>
            <p:cNvSpPr/>
            <p:nvPr/>
          </p:nvSpPr>
          <p:spPr>
            <a:xfrm>
              <a:off x="7337520" y="1774080"/>
              <a:ext cx="360" cy="360"/>
            </a:xfrm>
            <a:prstGeom prst="rect">
              <a:avLst/>
            </a:prstGeom>
            <a:solidFill>
              <a:srgbClr val="000000">
                <a:alpha val="32000"/>
              </a:srgbClr>
            </a:solidFill>
            <a:ln w="0">
              <a:noFill/>
            </a:ln>
          </p:spPr>
          <p:style>
            <a:lnRef idx="0"/>
            <a:fillRef idx="0"/>
            <a:effectRef idx="0"/>
            <a:fontRef idx="minor"/>
          </p:style>
          <p:txBody>
            <a:bodyPr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55" name="Freeform 12"/>
            <p:cNvSpPr/>
            <p:nvPr/>
          </p:nvSpPr>
          <p:spPr>
            <a:xfrm>
              <a:off x="6681960" y="1341720"/>
              <a:ext cx="655560" cy="614880"/>
            </a:xfrm>
            <a:custGeom>
              <a:avLst/>
              <a:gdLst/>
              <a:ahLst/>
              <a:rect l="l" t="t" r="r" b="b"/>
              <a:pathLst>
                <a:path w="960" h="902">
                  <a:moveTo>
                    <a:pt x="107" y="0"/>
                  </a:moveTo>
                  <a:lnTo>
                    <a:pt x="127" y="0"/>
                  </a:lnTo>
                  <a:lnTo>
                    <a:pt x="132" y="0"/>
                  </a:lnTo>
                  <a:lnTo>
                    <a:pt x="155" y="1"/>
                  </a:lnTo>
                  <a:lnTo>
                    <a:pt x="163" y="2"/>
                  </a:lnTo>
                  <a:lnTo>
                    <a:pt x="180" y="3"/>
                  </a:lnTo>
                  <a:lnTo>
                    <a:pt x="189" y="4"/>
                  </a:lnTo>
                  <a:lnTo>
                    <a:pt x="204" y="5"/>
                  </a:lnTo>
                  <a:lnTo>
                    <a:pt x="215" y="6"/>
                  </a:lnTo>
                  <a:lnTo>
                    <a:pt x="229" y="9"/>
                  </a:lnTo>
                  <a:lnTo>
                    <a:pt x="240" y="11"/>
                  </a:lnTo>
                  <a:lnTo>
                    <a:pt x="255" y="13"/>
                  </a:lnTo>
                  <a:lnTo>
                    <a:pt x="264" y="15"/>
                  </a:lnTo>
                  <a:lnTo>
                    <a:pt x="288" y="19"/>
                  </a:lnTo>
                  <a:lnTo>
                    <a:pt x="296" y="21"/>
                  </a:lnTo>
                  <a:lnTo>
                    <a:pt x="311" y="25"/>
                  </a:lnTo>
                  <a:lnTo>
                    <a:pt x="322" y="28"/>
                  </a:lnTo>
                  <a:lnTo>
                    <a:pt x="336" y="31"/>
                  </a:lnTo>
                  <a:lnTo>
                    <a:pt x="348" y="34"/>
                  </a:lnTo>
                  <a:lnTo>
                    <a:pt x="360" y="39"/>
                  </a:lnTo>
                  <a:lnTo>
                    <a:pt x="371" y="42"/>
                  </a:lnTo>
                  <a:lnTo>
                    <a:pt x="385" y="46"/>
                  </a:lnTo>
                  <a:lnTo>
                    <a:pt x="396" y="49"/>
                  </a:lnTo>
                  <a:lnTo>
                    <a:pt x="413" y="56"/>
                  </a:lnTo>
                  <a:lnTo>
                    <a:pt x="419" y="58"/>
                  </a:lnTo>
                  <a:lnTo>
                    <a:pt x="427" y="61"/>
                  </a:lnTo>
                  <a:lnTo>
                    <a:pt x="442" y="67"/>
                  </a:lnTo>
                  <a:lnTo>
                    <a:pt x="452" y="72"/>
                  </a:lnTo>
                  <a:lnTo>
                    <a:pt x="465" y="77"/>
                  </a:lnTo>
                  <a:lnTo>
                    <a:pt x="476" y="81"/>
                  </a:lnTo>
                  <a:lnTo>
                    <a:pt x="488" y="88"/>
                  </a:lnTo>
                  <a:lnTo>
                    <a:pt x="498" y="92"/>
                  </a:lnTo>
                  <a:lnTo>
                    <a:pt x="510" y="98"/>
                  </a:lnTo>
                  <a:lnTo>
                    <a:pt x="521" y="104"/>
                  </a:lnTo>
                  <a:lnTo>
                    <a:pt x="533" y="110"/>
                  </a:lnTo>
                  <a:lnTo>
                    <a:pt x="542" y="116"/>
                  </a:lnTo>
                  <a:lnTo>
                    <a:pt x="555" y="123"/>
                  </a:lnTo>
                  <a:lnTo>
                    <a:pt x="564" y="127"/>
                  </a:lnTo>
                  <a:lnTo>
                    <a:pt x="583" y="140"/>
                  </a:lnTo>
                  <a:lnTo>
                    <a:pt x="591" y="146"/>
                  </a:lnTo>
                  <a:lnTo>
                    <a:pt x="603" y="153"/>
                  </a:lnTo>
                  <a:lnTo>
                    <a:pt x="613" y="159"/>
                  </a:lnTo>
                  <a:lnTo>
                    <a:pt x="623" y="167"/>
                  </a:lnTo>
                  <a:lnTo>
                    <a:pt x="632" y="173"/>
                  </a:lnTo>
                  <a:lnTo>
                    <a:pt x="644" y="182"/>
                  </a:lnTo>
                  <a:lnTo>
                    <a:pt x="651" y="188"/>
                  </a:lnTo>
                  <a:lnTo>
                    <a:pt x="663" y="197"/>
                  </a:lnTo>
                  <a:lnTo>
                    <a:pt x="671" y="203"/>
                  </a:lnTo>
                  <a:lnTo>
                    <a:pt x="682" y="213"/>
                  </a:lnTo>
                  <a:lnTo>
                    <a:pt x="689" y="218"/>
                  </a:lnTo>
                  <a:lnTo>
                    <a:pt x="707" y="234"/>
                  </a:lnTo>
                  <a:lnTo>
                    <a:pt x="711" y="239"/>
                  </a:lnTo>
                  <a:lnTo>
                    <a:pt x="724" y="250"/>
                  </a:lnTo>
                  <a:lnTo>
                    <a:pt x="730" y="257"/>
                  </a:lnTo>
                  <a:lnTo>
                    <a:pt x="741" y="266"/>
                  </a:lnTo>
                  <a:lnTo>
                    <a:pt x="747" y="274"/>
                  </a:lnTo>
                  <a:lnTo>
                    <a:pt x="757" y="285"/>
                  </a:lnTo>
                  <a:lnTo>
                    <a:pt x="765" y="291"/>
                  </a:lnTo>
                  <a:lnTo>
                    <a:pt x="774" y="302"/>
                  </a:lnTo>
                  <a:lnTo>
                    <a:pt x="780" y="309"/>
                  </a:lnTo>
                  <a:lnTo>
                    <a:pt x="790" y="321"/>
                  </a:lnTo>
                  <a:lnTo>
                    <a:pt x="796" y="327"/>
                  </a:lnTo>
                  <a:lnTo>
                    <a:pt x="811" y="345"/>
                  </a:lnTo>
                  <a:lnTo>
                    <a:pt x="811" y="345"/>
                  </a:lnTo>
                  <a:lnTo>
                    <a:pt x="824" y="365"/>
                  </a:lnTo>
                  <a:lnTo>
                    <a:pt x="829" y="370"/>
                  </a:lnTo>
                  <a:lnTo>
                    <a:pt x="838" y="383"/>
                  </a:lnTo>
                  <a:lnTo>
                    <a:pt x="844" y="390"/>
                  </a:lnTo>
                  <a:lnTo>
                    <a:pt x="851" y="403"/>
                  </a:lnTo>
                  <a:lnTo>
                    <a:pt x="857" y="411"/>
                  </a:lnTo>
                  <a:lnTo>
                    <a:pt x="864" y="424"/>
                  </a:lnTo>
                  <a:lnTo>
                    <a:pt x="869" y="431"/>
                  </a:lnTo>
                  <a:lnTo>
                    <a:pt x="877" y="444"/>
                  </a:lnTo>
                  <a:lnTo>
                    <a:pt x="881" y="451"/>
                  </a:lnTo>
                  <a:lnTo>
                    <a:pt x="891" y="467"/>
                  </a:lnTo>
                  <a:lnTo>
                    <a:pt x="893" y="472"/>
                  </a:lnTo>
                  <a:lnTo>
                    <a:pt x="904" y="492"/>
                  </a:lnTo>
                  <a:lnTo>
                    <a:pt x="907" y="499"/>
                  </a:lnTo>
                  <a:lnTo>
                    <a:pt x="914" y="513"/>
                  </a:lnTo>
                  <a:lnTo>
                    <a:pt x="917" y="522"/>
                  </a:lnTo>
                  <a:lnTo>
                    <a:pt x="924" y="535"/>
                  </a:lnTo>
                  <a:lnTo>
                    <a:pt x="928" y="544"/>
                  </a:lnTo>
                  <a:lnTo>
                    <a:pt x="934" y="556"/>
                  </a:lnTo>
                  <a:lnTo>
                    <a:pt x="937" y="566"/>
                  </a:lnTo>
                  <a:lnTo>
                    <a:pt x="942" y="579"/>
                  </a:lnTo>
                  <a:lnTo>
                    <a:pt x="945" y="588"/>
                  </a:lnTo>
                  <a:lnTo>
                    <a:pt x="951" y="601"/>
                  </a:lnTo>
                  <a:lnTo>
                    <a:pt x="954" y="610"/>
                  </a:lnTo>
                  <a:lnTo>
                    <a:pt x="960" y="632"/>
                  </a:lnTo>
                  <a:lnTo>
                    <a:pt x="960" y="632"/>
                  </a:lnTo>
                  <a:lnTo>
                    <a:pt x="101" y="902"/>
                  </a:lnTo>
                  <a:lnTo>
                    <a:pt x="0" y="5"/>
                  </a:lnTo>
                  <a:lnTo>
                    <a:pt x="25" y="3"/>
                  </a:lnTo>
                  <a:lnTo>
                    <a:pt x="29" y="2"/>
                  </a:lnTo>
                  <a:lnTo>
                    <a:pt x="49" y="1"/>
                  </a:lnTo>
                  <a:lnTo>
                    <a:pt x="57" y="1"/>
                  </a:lnTo>
                  <a:lnTo>
                    <a:pt x="74" y="0"/>
                  </a:lnTo>
                  <a:lnTo>
                    <a:pt x="81" y="0"/>
                  </a:lnTo>
                  <a:lnTo>
                    <a:pt x="100" y="0"/>
                  </a:lnTo>
                  <a:lnTo>
                    <a:pt x="107"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6" name="Freeform 13"/>
            <p:cNvSpPr/>
            <p:nvPr/>
          </p:nvSpPr>
          <p:spPr>
            <a:xfrm>
              <a:off x="7337520" y="1774080"/>
              <a:ext cx="4680" cy="12600"/>
            </a:xfrm>
            <a:custGeom>
              <a:avLst/>
              <a:gdLst/>
              <a:ahLst/>
              <a:rect l="l" t="t" r="r" b="b"/>
              <a:pathLst>
                <a:path w="7" h="19">
                  <a:moveTo>
                    <a:pt x="0" y="0"/>
                  </a:moveTo>
                  <a:lnTo>
                    <a:pt x="0" y="0"/>
                  </a:lnTo>
                  <a:lnTo>
                    <a:pt x="7" y="19"/>
                  </a:lnTo>
                  <a:lnTo>
                    <a:pt x="0" y="0"/>
                  </a:lnTo>
                  <a:close/>
                </a:path>
              </a:pathLst>
            </a:custGeom>
            <a:solidFill>
              <a:srgbClr val="000000">
                <a:alpha val="32000"/>
              </a:srgbClr>
            </a:solidFill>
            <a:ln w="0">
              <a:noFill/>
            </a:ln>
          </p:spPr>
          <p:style>
            <a:lnRef idx="0"/>
            <a:fillRef idx="0"/>
            <a:effectRef idx="0"/>
            <a:fontRef idx="minor"/>
          </p:style>
          <p:txBody>
            <a:bodyPr lIns="91080" rIns="91080" tIns="-32760" bIns="-32760" anchor="t">
              <a:noAutofit/>
            </a:bodyPr>
            <a:p>
              <a:endParaRPr b="0" lang="en-US" sz="1800" spc="-1" strike="noStrike">
                <a:solidFill>
                  <a:srgbClr val="000000"/>
                </a:solidFill>
                <a:latin typeface="Gill Sans MT"/>
              </a:endParaRPr>
            </a:p>
          </p:txBody>
        </p:sp>
        <p:sp>
          <p:nvSpPr>
            <p:cNvPr id="757" name="Freeform 14"/>
            <p:cNvSpPr/>
            <p:nvPr/>
          </p:nvSpPr>
          <p:spPr>
            <a:xfrm>
              <a:off x="6751800" y="1774080"/>
              <a:ext cx="614160" cy="400320"/>
            </a:xfrm>
            <a:custGeom>
              <a:avLst/>
              <a:gdLst/>
              <a:ahLst/>
              <a:rect l="l" t="t" r="r" b="b"/>
              <a:pathLst>
                <a:path w="901" h="588">
                  <a:moveTo>
                    <a:pt x="859" y="0"/>
                  </a:moveTo>
                  <a:lnTo>
                    <a:pt x="866" y="19"/>
                  </a:lnTo>
                  <a:lnTo>
                    <a:pt x="866" y="21"/>
                  </a:lnTo>
                  <a:lnTo>
                    <a:pt x="871" y="40"/>
                  </a:lnTo>
                  <a:lnTo>
                    <a:pt x="872" y="44"/>
                  </a:lnTo>
                  <a:lnTo>
                    <a:pt x="876" y="60"/>
                  </a:lnTo>
                  <a:lnTo>
                    <a:pt x="877" y="64"/>
                  </a:lnTo>
                  <a:lnTo>
                    <a:pt x="881" y="80"/>
                  </a:lnTo>
                  <a:lnTo>
                    <a:pt x="882" y="85"/>
                  </a:lnTo>
                  <a:lnTo>
                    <a:pt x="885" y="103"/>
                  </a:lnTo>
                  <a:lnTo>
                    <a:pt x="886" y="105"/>
                  </a:lnTo>
                  <a:lnTo>
                    <a:pt x="892" y="147"/>
                  </a:lnTo>
                  <a:lnTo>
                    <a:pt x="893" y="151"/>
                  </a:lnTo>
                  <a:lnTo>
                    <a:pt x="895" y="167"/>
                  </a:lnTo>
                  <a:lnTo>
                    <a:pt x="896" y="172"/>
                  </a:lnTo>
                  <a:lnTo>
                    <a:pt x="897" y="187"/>
                  </a:lnTo>
                  <a:lnTo>
                    <a:pt x="898" y="194"/>
                  </a:lnTo>
                  <a:lnTo>
                    <a:pt x="899" y="210"/>
                  </a:lnTo>
                  <a:lnTo>
                    <a:pt x="899" y="214"/>
                  </a:lnTo>
                  <a:lnTo>
                    <a:pt x="901" y="256"/>
                  </a:lnTo>
                  <a:lnTo>
                    <a:pt x="901" y="261"/>
                  </a:lnTo>
                  <a:lnTo>
                    <a:pt x="901" y="276"/>
                  </a:lnTo>
                  <a:lnTo>
                    <a:pt x="901" y="282"/>
                  </a:lnTo>
                  <a:lnTo>
                    <a:pt x="901" y="297"/>
                  </a:lnTo>
                  <a:lnTo>
                    <a:pt x="900" y="304"/>
                  </a:lnTo>
                  <a:lnTo>
                    <a:pt x="900" y="318"/>
                  </a:lnTo>
                  <a:lnTo>
                    <a:pt x="899" y="325"/>
                  </a:lnTo>
                  <a:lnTo>
                    <a:pt x="898" y="342"/>
                  </a:lnTo>
                  <a:lnTo>
                    <a:pt x="898" y="345"/>
                  </a:lnTo>
                  <a:lnTo>
                    <a:pt x="896" y="366"/>
                  </a:lnTo>
                  <a:lnTo>
                    <a:pt x="895" y="372"/>
                  </a:lnTo>
                  <a:lnTo>
                    <a:pt x="893" y="387"/>
                  </a:lnTo>
                  <a:lnTo>
                    <a:pt x="892" y="395"/>
                  </a:lnTo>
                  <a:lnTo>
                    <a:pt x="890" y="407"/>
                  </a:lnTo>
                  <a:lnTo>
                    <a:pt x="889" y="416"/>
                  </a:lnTo>
                  <a:lnTo>
                    <a:pt x="887" y="428"/>
                  </a:lnTo>
                  <a:lnTo>
                    <a:pt x="885" y="436"/>
                  </a:lnTo>
                  <a:lnTo>
                    <a:pt x="883" y="450"/>
                  </a:lnTo>
                  <a:lnTo>
                    <a:pt x="881" y="457"/>
                  </a:lnTo>
                  <a:lnTo>
                    <a:pt x="876" y="477"/>
                  </a:lnTo>
                  <a:lnTo>
                    <a:pt x="875" y="483"/>
                  </a:lnTo>
                  <a:lnTo>
                    <a:pt x="871" y="497"/>
                  </a:lnTo>
                  <a:lnTo>
                    <a:pt x="869" y="506"/>
                  </a:lnTo>
                  <a:lnTo>
                    <a:pt x="866" y="518"/>
                  </a:lnTo>
                  <a:lnTo>
                    <a:pt x="864" y="527"/>
                  </a:lnTo>
                  <a:lnTo>
                    <a:pt x="859" y="539"/>
                  </a:lnTo>
                  <a:lnTo>
                    <a:pt x="857" y="548"/>
                  </a:lnTo>
                  <a:lnTo>
                    <a:pt x="853" y="559"/>
                  </a:lnTo>
                  <a:lnTo>
                    <a:pt x="850" y="568"/>
                  </a:lnTo>
                  <a:lnTo>
                    <a:pt x="844" y="584"/>
                  </a:lnTo>
                  <a:lnTo>
                    <a:pt x="842" y="588"/>
                  </a:lnTo>
                  <a:lnTo>
                    <a:pt x="0" y="270"/>
                  </a:lnTo>
                  <a:lnTo>
                    <a:pt x="859" y="0"/>
                  </a:lnTo>
                  <a:close/>
                </a:path>
              </a:pathLst>
            </a:custGeom>
            <a:solidFill>
              <a:srgbClr val="000000">
                <a:alpha val="41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8" name="Freeform 15"/>
            <p:cNvSpPr/>
            <p:nvPr/>
          </p:nvSpPr>
          <p:spPr>
            <a:xfrm>
              <a:off x="6751800" y="1956960"/>
              <a:ext cx="574560" cy="562320"/>
            </a:xfrm>
            <a:custGeom>
              <a:avLst/>
              <a:gdLst/>
              <a:ahLst/>
              <a:rect l="l" t="t" r="r" b="b"/>
              <a:pathLst>
                <a:path w="842" h="824">
                  <a:moveTo>
                    <a:pt x="0" y="0"/>
                  </a:moveTo>
                  <a:lnTo>
                    <a:pt x="842" y="318"/>
                  </a:lnTo>
                  <a:lnTo>
                    <a:pt x="834" y="340"/>
                  </a:lnTo>
                  <a:lnTo>
                    <a:pt x="830" y="348"/>
                  </a:lnTo>
                  <a:lnTo>
                    <a:pt x="825" y="361"/>
                  </a:lnTo>
                  <a:lnTo>
                    <a:pt x="821" y="371"/>
                  </a:lnTo>
                  <a:lnTo>
                    <a:pt x="815" y="382"/>
                  </a:lnTo>
                  <a:lnTo>
                    <a:pt x="810" y="392"/>
                  </a:lnTo>
                  <a:lnTo>
                    <a:pt x="806" y="403"/>
                  </a:lnTo>
                  <a:lnTo>
                    <a:pt x="800" y="412"/>
                  </a:lnTo>
                  <a:lnTo>
                    <a:pt x="795" y="423"/>
                  </a:lnTo>
                  <a:lnTo>
                    <a:pt x="790" y="433"/>
                  </a:lnTo>
                  <a:lnTo>
                    <a:pt x="783" y="443"/>
                  </a:lnTo>
                  <a:lnTo>
                    <a:pt x="779" y="452"/>
                  </a:lnTo>
                  <a:lnTo>
                    <a:pt x="773" y="463"/>
                  </a:lnTo>
                  <a:lnTo>
                    <a:pt x="767" y="471"/>
                  </a:lnTo>
                  <a:lnTo>
                    <a:pt x="761" y="482"/>
                  </a:lnTo>
                  <a:lnTo>
                    <a:pt x="756" y="489"/>
                  </a:lnTo>
                  <a:lnTo>
                    <a:pt x="748" y="501"/>
                  </a:lnTo>
                  <a:lnTo>
                    <a:pt x="744" y="509"/>
                  </a:lnTo>
                  <a:lnTo>
                    <a:pt x="735" y="519"/>
                  </a:lnTo>
                  <a:lnTo>
                    <a:pt x="731" y="526"/>
                  </a:lnTo>
                  <a:lnTo>
                    <a:pt x="722" y="537"/>
                  </a:lnTo>
                  <a:lnTo>
                    <a:pt x="718" y="544"/>
                  </a:lnTo>
                  <a:lnTo>
                    <a:pt x="708" y="556"/>
                  </a:lnTo>
                  <a:lnTo>
                    <a:pt x="704" y="561"/>
                  </a:lnTo>
                  <a:lnTo>
                    <a:pt x="695" y="573"/>
                  </a:lnTo>
                  <a:lnTo>
                    <a:pt x="690" y="578"/>
                  </a:lnTo>
                  <a:lnTo>
                    <a:pt x="681" y="590"/>
                  </a:lnTo>
                  <a:lnTo>
                    <a:pt x="676" y="594"/>
                  </a:lnTo>
                  <a:lnTo>
                    <a:pt x="666" y="607"/>
                  </a:lnTo>
                  <a:lnTo>
                    <a:pt x="661" y="610"/>
                  </a:lnTo>
                  <a:lnTo>
                    <a:pt x="650" y="623"/>
                  </a:lnTo>
                  <a:lnTo>
                    <a:pt x="646" y="626"/>
                  </a:lnTo>
                  <a:lnTo>
                    <a:pt x="635" y="639"/>
                  </a:lnTo>
                  <a:lnTo>
                    <a:pt x="632" y="642"/>
                  </a:lnTo>
                  <a:lnTo>
                    <a:pt x="619" y="654"/>
                  </a:lnTo>
                  <a:lnTo>
                    <a:pt x="617" y="657"/>
                  </a:lnTo>
                  <a:lnTo>
                    <a:pt x="603" y="669"/>
                  </a:lnTo>
                  <a:lnTo>
                    <a:pt x="601" y="671"/>
                  </a:lnTo>
                  <a:lnTo>
                    <a:pt x="586" y="684"/>
                  </a:lnTo>
                  <a:lnTo>
                    <a:pt x="583" y="686"/>
                  </a:lnTo>
                  <a:lnTo>
                    <a:pt x="568" y="698"/>
                  </a:lnTo>
                  <a:lnTo>
                    <a:pt x="567" y="699"/>
                  </a:lnTo>
                  <a:lnTo>
                    <a:pt x="551" y="712"/>
                  </a:lnTo>
                  <a:lnTo>
                    <a:pt x="550" y="713"/>
                  </a:lnTo>
                  <a:lnTo>
                    <a:pt x="534" y="725"/>
                  </a:lnTo>
                  <a:lnTo>
                    <a:pt x="533" y="726"/>
                  </a:lnTo>
                  <a:lnTo>
                    <a:pt x="516" y="737"/>
                  </a:lnTo>
                  <a:lnTo>
                    <a:pt x="515" y="738"/>
                  </a:lnTo>
                  <a:lnTo>
                    <a:pt x="498" y="750"/>
                  </a:lnTo>
                  <a:lnTo>
                    <a:pt x="497" y="750"/>
                  </a:lnTo>
                  <a:lnTo>
                    <a:pt x="480" y="762"/>
                  </a:lnTo>
                  <a:lnTo>
                    <a:pt x="479" y="762"/>
                  </a:lnTo>
                  <a:lnTo>
                    <a:pt x="460" y="774"/>
                  </a:lnTo>
                  <a:lnTo>
                    <a:pt x="460" y="774"/>
                  </a:lnTo>
                  <a:lnTo>
                    <a:pt x="413" y="800"/>
                  </a:lnTo>
                  <a:lnTo>
                    <a:pt x="363" y="824"/>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pic>
          <p:nvPicPr>
            <p:cNvPr id="759" name="Group 139" descr=""/>
            <p:cNvPicPr/>
            <p:nvPr/>
          </p:nvPicPr>
          <p:blipFill>
            <a:blip r:embed="rId2"/>
            <a:stretch/>
          </p:blipFill>
          <p:spPr>
            <a:xfrm>
              <a:off x="4761000" y="754200"/>
              <a:ext cx="1365480" cy="1257120"/>
            </a:xfrm>
            <a:prstGeom prst="rect">
              <a:avLst/>
            </a:prstGeom>
            <a:ln w="0">
              <a:noFill/>
            </a:ln>
          </p:spPr>
        </p:pic>
        <p:grpSp>
          <p:nvGrpSpPr>
            <p:cNvPr id="760" name="Group 140"/>
            <p:cNvGrpSpPr/>
            <p:nvPr/>
          </p:nvGrpSpPr>
          <p:grpSpPr>
            <a:xfrm>
              <a:off x="5612040" y="1014120"/>
              <a:ext cx="909720" cy="1410120"/>
              <a:chOff x="5612040" y="1014120"/>
              <a:chExt cx="909720" cy="1410120"/>
            </a:xfrm>
          </p:grpSpPr>
          <p:sp>
            <p:nvSpPr>
              <p:cNvPr id="761" name="Rectangle 22"/>
              <p:cNvSpPr/>
              <p:nvPr/>
            </p:nvSpPr>
            <p:spPr>
              <a:xfrm>
                <a:off x="5612040" y="1014120"/>
                <a:ext cx="909720" cy="834480"/>
              </a:xfrm>
              <a:prstGeom prst="rect">
                <a:avLst/>
              </a:prstGeom>
              <a:solidFill>
                <a:srgbClr val="6c7781"/>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62" name="Group 151"/>
              <p:cNvGrpSpPr/>
              <p:nvPr/>
            </p:nvGrpSpPr>
            <p:grpSpPr>
              <a:xfrm>
                <a:off x="5695560" y="1104120"/>
                <a:ext cx="743040" cy="178200"/>
                <a:chOff x="5695560" y="1104120"/>
                <a:chExt cx="743040" cy="178200"/>
              </a:xfrm>
            </p:grpSpPr>
            <p:sp>
              <p:nvSpPr>
                <p:cNvPr id="763" name="Rectangle 23"/>
                <p:cNvSpPr/>
                <p:nvPr/>
              </p:nvSpPr>
              <p:spPr>
                <a:xfrm>
                  <a:off x="5846400" y="1104120"/>
                  <a:ext cx="44136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4" name="Rectangle 24"/>
                <p:cNvSpPr/>
                <p:nvPr/>
              </p:nvSpPr>
              <p:spPr>
                <a:xfrm>
                  <a:off x="5695560" y="115344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5" name="Rectangle 25"/>
                <p:cNvSpPr/>
                <p:nvPr/>
              </p:nvSpPr>
              <p:spPr>
                <a:xfrm>
                  <a:off x="5695560" y="119016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6" name="Rectangle 26"/>
                <p:cNvSpPr/>
                <p:nvPr/>
              </p:nvSpPr>
              <p:spPr>
                <a:xfrm>
                  <a:off x="5695560" y="122508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7" name="Rectangle 27"/>
                <p:cNvSpPr/>
                <p:nvPr/>
              </p:nvSpPr>
              <p:spPr>
                <a:xfrm>
                  <a:off x="5695560" y="1261800"/>
                  <a:ext cx="34920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768" name="Freeform 28"/>
              <p:cNvSpPr/>
              <p:nvPr/>
            </p:nvSpPr>
            <p:spPr>
              <a:xfrm>
                <a:off x="5612040" y="1309680"/>
                <a:ext cx="909720" cy="1114560"/>
              </a:xfrm>
              <a:custGeom>
                <a:avLst/>
                <a:gdLst/>
                <a:ahLst/>
                <a:rect l="l" t="t" r="r" b="b"/>
                <a:pathLst>
                  <a:path w="1334" h="1633">
                    <a:moveTo>
                      <a:pt x="113" y="0"/>
                    </a:moveTo>
                    <a:lnTo>
                      <a:pt x="1219" y="0"/>
                    </a:lnTo>
                    <a:lnTo>
                      <a:pt x="1245" y="3"/>
                    </a:lnTo>
                    <a:lnTo>
                      <a:pt x="1270" y="12"/>
                    </a:lnTo>
                    <a:lnTo>
                      <a:pt x="1291" y="25"/>
                    </a:lnTo>
                    <a:lnTo>
                      <a:pt x="1308" y="43"/>
                    </a:lnTo>
                    <a:lnTo>
                      <a:pt x="1322" y="64"/>
                    </a:lnTo>
                    <a:lnTo>
                      <a:pt x="1331" y="88"/>
                    </a:lnTo>
                    <a:lnTo>
                      <a:pt x="1334" y="114"/>
                    </a:lnTo>
                    <a:lnTo>
                      <a:pt x="1334" y="1519"/>
                    </a:lnTo>
                    <a:lnTo>
                      <a:pt x="1331" y="1544"/>
                    </a:lnTo>
                    <a:lnTo>
                      <a:pt x="1322" y="1569"/>
                    </a:lnTo>
                    <a:lnTo>
                      <a:pt x="1308" y="1590"/>
                    </a:lnTo>
                    <a:lnTo>
                      <a:pt x="1291" y="1607"/>
                    </a:lnTo>
                    <a:lnTo>
                      <a:pt x="1270" y="1621"/>
                    </a:lnTo>
                    <a:lnTo>
                      <a:pt x="1245" y="1630"/>
                    </a:lnTo>
                    <a:lnTo>
                      <a:pt x="1219" y="1633"/>
                    </a:lnTo>
                    <a:lnTo>
                      <a:pt x="113" y="1633"/>
                    </a:lnTo>
                    <a:lnTo>
                      <a:pt x="87" y="1630"/>
                    </a:lnTo>
                    <a:lnTo>
                      <a:pt x="64" y="1621"/>
                    </a:lnTo>
                    <a:lnTo>
                      <a:pt x="42" y="1607"/>
                    </a:lnTo>
                    <a:lnTo>
                      <a:pt x="24" y="1590"/>
                    </a:lnTo>
                    <a:lnTo>
                      <a:pt x="11" y="1569"/>
                    </a:lnTo>
                    <a:lnTo>
                      <a:pt x="3" y="1544"/>
                    </a:lnTo>
                    <a:lnTo>
                      <a:pt x="0" y="1519"/>
                    </a:lnTo>
                    <a:lnTo>
                      <a:pt x="0" y="114"/>
                    </a:lnTo>
                    <a:lnTo>
                      <a:pt x="3" y="88"/>
                    </a:lnTo>
                    <a:lnTo>
                      <a:pt x="11" y="64"/>
                    </a:lnTo>
                    <a:lnTo>
                      <a:pt x="24" y="43"/>
                    </a:lnTo>
                    <a:lnTo>
                      <a:pt x="42" y="25"/>
                    </a:lnTo>
                    <a:lnTo>
                      <a:pt x="64" y="12"/>
                    </a:lnTo>
                    <a:lnTo>
                      <a:pt x="87" y="3"/>
                    </a:lnTo>
                    <a:lnTo>
                      <a:pt x="113"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69" name="Freeform 29"/>
              <p:cNvSpPr/>
              <p:nvPr/>
            </p:nvSpPr>
            <p:spPr>
              <a:xfrm>
                <a:off x="5666040" y="1371600"/>
                <a:ext cx="801720" cy="187560"/>
              </a:xfrm>
              <a:custGeom>
                <a:avLst/>
                <a:gdLst/>
                <a:ahLst/>
                <a:rect l="l" t="t" r="r" b="b"/>
                <a:pathLst>
                  <a:path w="1175" h="276">
                    <a:moveTo>
                      <a:pt x="57" y="0"/>
                    </a:moveTo>
                    <a:lnTo>
                      <a:pt x="1118" y="0"/>
                    </a:lnTo>
                    <a:lnTo>
                      <a:pt x="1135" y="2"/>
                    </a:lnTo>
                    <a:lnTo>
                      <a:pt x="1151" y="11"/>
                    </a:lnTo>
                    <a:lnTo>
                      <a:pt x="1164" y="24"/>
                    </a:lnTo>
                    <a:lnTo>
                      <a:pt x="1173" y="40"/>
                    </a:lnTo>
                    <a:lnTo>
                      <a:pt x="1175" y="57"/>
                    </a:lnTo>
                    <a:lnTo>
                      <a:pt x="1175" y="219"/>
                    </a:lnTo>
                    <a:lnTo>
                      <a:pt x="1173" y="236"/>
                    </a:lnTo>
                    <a:lnTo>
                      <a:pt x="1164" y="252"/>
                    </a:lnTo>
                    <a:lnTo>
                      <a:pt x="1151" y="265"/>
                    </a:lnTo>
                    <a:lnTo>
                      <a:pt x="1135" y="274"/>
                    </a:lnTo>
                    <a:lnTo>
                      <a:pt x="1118" y="276"/>
                    </a:lnTo>
                    <a:lnTo>
                      <a:pt x="57" y="276"/>
                    </a:lnTo>
                    <a:lnTo>
                      <a:pt x="39" y="274"/>
                    </a:lnTo>
                    <a:lnTo>
                      <a:pt x="23" y="265"/>
                    </a:lnTo>
                    <a:lnTo>
                      <a:pt x="12" y="252"/>
                    </a:lnTo>
                    <a:lnTo>
                      <a:pt x="3" y="236"/>
                    </a:lnTo>
                    <a:lnTo>
                      <a:pt x="0" y="219"/>
                    </a:lnTo>
                    <a:lnTo>
                      <a:pt x="0" y="57"/>
                    </a:lnTo>
                    <a:lnTo>
                      <a:pt x="3" y="40"/>
                    </a:lnTo>
                    <a:lnTo>
                      <a:pt x="12" y="24"/>
                    </a:lnTo>
                    <a:lnTo>
                      <a:pt x="23" y="11"/>
                    </a:lnTo>
                    <a:lnTo>
                      <a:pt x="39" y="2"/>
                    </a:lnTo>
                    <a:lnTo>
                      <a:pt x="5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0" name="Freeform 30"/>
              <p:cNvSpPr/>
              <p:nvPr/>
            </p:nvSpPr>
            <p:spPr>
              <a:xfrm>
                <a:off x="5666040" y="1587960"/>
                <a:ext cx="172800" cy="179640"/>
              </a:xfrm>
              <a:custGeom>
                <a:avLst/>
                <a:gdLst/>
                <a:ahLst/>
                <a:rect l="l" t="t" r="r" b="b"/>
                <a:pathLst>
                  <a:path w="255" h="261">
                    <a:moveTo>
                      <a:pt x="53" y="0"/>
                    </a:moveTo>
                    <a:lnTo>
                      <a:pt x="202" y="0"/>
                    </a:lnTo>
                    <a:lnTo>
                      <a:pt x="219" y="3"/>
                    </a:lnTo>
                    <a:lnTo>
                      <a:pt x="234" y="10"/>
                    </a:lnTo>
                    <a:lnTo>
                      <a:pt x="245" y="22"/>
                    </a:lnTo>
                    <a:lnTo>
                      <a:pt x="252" y="36"/>
                    </a:lnTo>
                    <a:lnTo>
                      <a:pt x="255" y="53"/>
                    </a:lnTo>
                    <a:lnTo>
                      <a:pt x="255" y="208"/>
                    </a:lnTo>
                    <a:lnTo>
                      <a:pt x="252" y="224"/>
                    </a:lnTo>
                    <a:lnTo>
                      <a:pt x="245" y="239"/>
                    </a:lnTo>
                    <a:lnTo>
                      <a:pt x="234" y="251"/>
                    </a:lnTo>
                    <a:lnTo>
                      <a:pt x="219" y="259"/>
                    </a:lnTo>
                    <a:lnTo>
                      <a:pt x="202" y="261"/>
                    </a:lnTo>
                    <a:lnTo>
                      <a:pt x="53" y="261"/>
                    </a:lnTo>
                    <a:lnTo>
                      <a:pt x="36" y="259"/>
                    </a:lnTo>
                    <a:lnTo>
                      <a:pt x="22" y="251"/>
                    </a:lnTo>
                    <a:lnTo>
                      <a:pt x="10" y="239"/>
                    </a:lnTo>
                    <a:lnTo>
                      <a:pt x="3" y="224"/>
                    </a:lnTo>
                    <a:lnTo>
                      <a:pt x="0" y="208"/>
                    </a:lnTo>
                    <a:lnTo>
                      <a:pt x="0" y="53"/>
                    </a:lnTo>
                    <a:lnTo>
                      <a:pt x="3" y="36"/>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1" name="Freeform 31"/>
              <p:cNvSpPr/>
              <p:nvPr/>
            </p:nvSpPr>
            <p:spPr>
              <a:xfrm>
                <a:off x="5875560" y="1587960"/>
                <a:ext cx="172800" cy="179640"/>
              </a:xfrm>
              <a:custGeom>
                <a:avLst/>
                <a:gdLst/>
                <a:ahLst/>
                <a:rect l="l" t="t" r="r" b="b"/>
                <a:pathLst>
                  <a:path w="255" h="261">
                    <a:moveTo>
                      <a:pt x="53" y="0"/>
                    </a:moveTo>
                    <a:lnTo>
                      <a:pt x="202" y="0"/>
                    </a:lnTo>
                    <a:lnTo>
                      <a:pt x="219" y="3"/>
                    </a:lnTo>
                    <a:lnTo>
                      <a:pt x="233" y="10"/>
                    </a:lnTo>
                    <a:lnTo>
                      <a:pt x="244" y="22"/>
                    </a:lnTo>
                    <a:lnTo>
                      <a:pt x="252" y="36"/>
                    </a:lnTo>
                    <a:lnTo>
                      <a:pt x="255" y="53"/>
                    </a:lnTo>
                    <a:lnTo>
                      <a:pt x="255" y="208"/>
                    </a:lnTo>
                    <a:lnTo>
                      <a:pt x="252" y="224"/>
                    </a:lnTo>
                    <a:lnTo>
                      <a:pt x="244" y="239"/>
                    </a:lnTo>
                    <a:lnTo>
                      <a:pt x="233" y="251"/>
                    </a:lnTo>
                    <a:lnTo>
                      <a:pt x="219" y="259"/>
                    </a:lnTo>
                    <a:lnTo>
                      <a:pt x="202" y="261"/>
                    </a:lnTo>
                    <a:lnTo>
                      <a:pt x="53" y="261"/>
                    </a:lnTo>
                    <a:lnTo>
                      <a:pt x="36" y="259"/>
                    </a:lnTo>
                    <a:lnTo>
                      <a:pt x="21" y="251"/>
                    </a:lnTo>
                    <a:lnTo>
                      <a:pt x="10" y="239"/>
                    </a:lnTo>
                    <a:lnTo>
                      <a:pt x="3" y="224"/>
                    </a:lnTo>
                    <a:lnTo>
                      <a:pt x="0" y="208"/>
                    </a:lnTo>
                    <a:lnTo>
                      <a:pt x="0" y="53"/>
                    </a:lnTo>
                    <a:lnTo>
                      <a:pt x="3" y="36"/>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2" name="Freeform 32"/>
              <p:cNvSpPr/>
              <p:nvPr/>
            </p:nvSpPr>
            <p:spPr>
              <a:xfrm>
                <a:off x="6083640" y="1587960"/>
                <a:ext cx="174600" cy="179640"/>
              </a:xfrm>
              <a:custGeom>
                <a:avLst/>
                <a:gdLst/>
                <a:ahLst/>
                <a:rect l="l" t="t" r="r" b="b"/>
                <a:pathLst>
                  <a:path w="256" h="261">
                    <a:moveTo>
                      <a:pt x="53" y="0"/>
                    </a:moveTo>
                    <a:lnTo>
                      <a:pt x="202" y="0"/>
                    </a:lnTo>
                    <a:lnTo>
                      <a:pt x="220" y="3"/>
                    </a:lnTo>
                    <a:lnTo>
                      <a:pt x="233" y="10"/>
                    </a:lnTo>
                    <a:lnTo>
                      <a:pt x="245" y="22"/>
                    </a:lnTo>
                    <a:lnTo>
                      <a:pt x="253" y="36"/>
                    </a:lnTo>
                    <a:lnTo>
                      <a:pt x="256" y="53"/>
                    </a:lnTo>
                    <a:lnTo>
                      <a:pt x="256" y="208"/>
                    </a:lnTo>
                    <a:lnTo>
                      <a:pt x="253" y="224"/>
                    </a:lnTo>
                    <a:lnTo>
                      <a:pt x="245" y="239"/>
                    </a:lnTo>
                    <a:lnTo>
                      <a:pt x="233" y="251"/>
                    </a:lnTo>
                    <a:lnTo>
                      <a:pt x="220" y="259"/>
                    </a:lnTo>
                    <a:lnTo>
                      <a:pt x="202" y="261"/>
                    </a:lnTo>
                    <a:lnTo>
                      <a:pt x="53" y="261"/>
                    </a:lnTo>
                    <a:lnTo>
                      <a:pt x="37" y="259"/>
                    </a:lnTo>
                    <a:lnTo>
                      <a:pt x="22" y="251"/>
                    </a:lnTo>
                    <a:lnTo>
                      <a:pt x="10" y="239"/>
                    </a:lnTo>
                    <a:lnTo>
                      <a:pt x="3" y="224"/>
                    </a:lnTo>
                    <a:lnTo>
                      <a:pt x="0" y="208"/>
                    </a:lnTo>
                    <a:lnTo>
                      <a:pt x="0" y="53"/>
                    </a:lnTo>
                    <a:lnTo>
                      <a:pt x="3" y="36"/>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3" name="Freeform 33"/>
              <p:cNvSpPr/>
              <p:nvPr/>
            </p:nvSpPr>
            <p:spPr>
              <a:xfrm>
                <a:off x="6293160" y="1587960"/>
                <a:ext cx="174600" cy="179640"/>
              </a:xfrm>
              <a:custGeom>
                <a:avLst/>
                <a:gdLst/>
                <a:ahLst/>
                <a:rect l="l" t="t" r="r" b="b"/>
                <a:pathLst>
                  <a:path w="256" h="261">
                    <a:moveTo>
                      <a:pt x="54" y="0"/>
                    </a:moveTo>
                    <a:lnTo>
                      <a:pt x="203" y="0"/>
                    </a:lnTo>
                    <a:lnTo>
                      <a:pt x="219" y="3"/>
                    </a:lnTo>
                    <a:lnTo>
                      <a:pt x="234" y="10"/>
                    </a:lnTo>
                    <a:lnTo>
                      <a:pt x="246" y="22"/>
                    </a:lnTo>
                    <a:lnTo>
                      <a:pt x="254" y="36"/>
                    </a:lnTo>
                    <a:lnTo>
                      <a:pt x="256" y="53"/>
                    </a:lnTo>
                    <a:lnTo>
                      <a:pt x="256" y="208"/>
                    </a:lnTo>
                    <a:lnTo>
                      <a:pt x="254" y="224"/>
                    </a:lnTo>
                    <a:lnTo>
                      <a:pt x="246" y="239"/>
                    </a:lnTo>
                    <a:lnTo>
                      <a:pt x="234" y="251"/>
                    </a:lnTo>
                    <a:lnTo>
                      <a:pt x="219" y="259"/>
                    </a:lnTo>
                    <a:lnTo>
                      <a:pt x="203" y="261"/>
                    </a:lnTo>
                    <a:lnTo>
                      <a:pt x="54" y="261"/>
                    </a:lnTo>
                    <a:lnTo>
                      <a:pt x="37" y="259"/>
                    </a:lnTo>
                    <a:lnTo>
                      <a:pt x="23" y="251"/>
                    </a:lnTo>
                    <a:lnTo>
                      <a:pt x="11" y="239"/>
                    </a:lnTo>
                    <a:lnTo>
                      <a:pt x="3" y="224"/>
                    </a:lnTo>
                    <a:lnTo>
                      <a:pt x="0" y="208"/>
                    </a:lnTo>
                    <a:lnTo>
                      <a:pt x="0" y="53"/>
                    </a:lnTo>
                    <a:lnTo>
                      <a:pt x="3" y="36"/>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4" name="Freeform 34"/>
              <p:cNvSpPr/>
              <p:nvPr/>
            </p:nvSpPr>
            <p:spPr>
              <a:xfrm>
                <a:off x="5666040" y="1791360"/>
                <a:ext cx="172800" cy="177840"/>
              </a:xfrm>
              <a:custGeom>
                <a:avLst/>
                <a:gdLst/>
                <a:ahLst/>
                <a:rect l="l" t="t" r="r" b="b"/>
                <a:pathLst>
                  <a:path w="255" h="261">
                    <a:moveTo>
                      <a:pt x="53" y="0"/>
                    </a:moveTo>
                    <a:lnTo>
                      <a:pt x="202" y="0"/>
                    </a:lnTo>
                    <a:lnTo>
                      <a:pt x="219" y="3"/>
                    </a:lnTo>
                    <a:lnTo>
                      <a:pt x="234" y="11"/>
                    </a:lnTo>
                    <a:lnTo>
                      <a:pt x="245" y="22"/>
                    </a:lnTo>
                    <a:lnTo>
                      <a:pt x="252" y="36"/>
                    </a:lnTo>
                    <a:lnTo>
                      <a:pt x="255" y="53"/>
                    </a:lnTo>
                    <a:lnTo>
                      <a:pt x="255" y="209"/>
                    </a:lnTo>
                    <a:lnTo>
                      <a:pt x="252" y="225"/>
                    </a:lnTo>
                    <a:lnTo>
                      <a:pt x="245" y="240"/>
                    </a:lnTo>
                    <a:lnTo>
                      <a:pt x="234" y="251"/>
                    </a:lnTo>
                    <a:lnTo>
                      <a:pt x="219" y="259"/>
                    </a:lnTo>
                    <a:lnTo>
                      <a:pt x="202" y="261"/>
                    </a:lnTo>
                    <a:lnTo>
                      <a:pt x="53" y="261"/>
                    </a:lnTo>
                    <a:lnTo>
                      <a:pt x="36" y="259"/>
                    </a:lnTo>
                    <a:lnTo>
                      <a:pt x="22" y="251"/>
                    </a:lnTo>
                    <a:lnTo>
                      <a:pt x="10" y="240"/>
                    </a:lnTo>
                    <a:lnTo>
                      <a:pt x="3" y="225"/>
                    </a:lnTo>
                    <a:lnTo>
                      <a:pt x="0" y="209"/>
                    </a:lnTo>
                    <a:lnTo>
                      <a:pt x="0" y="53"/>
                    </a:lnTo>
                    <a:lnTo>
                      <a:pt x="3" y="36"/>
                    </a:lnTo>
                    <a:lnTo>
                      <a:pt x="10" y="22"/>
                    </a:lnTo>
                    <a:lnTo>
                      <a:pt x="22"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5" name="Freeform 35"/>
              <p:cNvSpPr/>
              <p:nvPr/>
            </p:nvSpPr>
            <p:spPr>
              <a:xfrm>
                <a:off x="5875560" y="1791360"/>
                <a:ext cx="172800" cy="177840"/>
              </a:xfrm>
              <a:custGeom>
                <a:avLst/>
                <a:gdLst/>
                <a:ahLst/>
                <a:rect l="l" t="t" r="r" b="b"/>
                <a:pathLst>
                  <a:path w="255" h="261">
                    <a:moveTo>
                      <a:pt x="53" y="0"/>
                    </a:moveTo>
                    <a:lnTo>
                      <a:pt x="202" y="0"/>
                    </a:lnTo>
                    <a:lnTo>
                      <a:pt x="219" y="3"/>
                    </a:lnTo>
                    <a:lnTo>
                      <a:pt x="233" y="11"/>
                    </a:lnTo>
                    <a:lnTo>
                      <a:pt x="244" y="22"/>
                    </a:lnTo>
                    <a:lnTo>
                      <a:pt x="252" y="36"/>
                    </a:lnTo>
                    <a:lnTo>
                      <a:pt x="255" y="53"/>
                    </a:lnTo>
                    <a:lnTo>
                      <a:pt x="255" y="209"/>
                    </a:lnTo>
                    <a:lnTo>
                      <a:pt x="252" y="225"/>
                    </a:lnTo>
                    <a:lnTo>
                      <a:pt x="244" y="240"/>
                    </a:lnTo>
                    <a:lnTo>
                      <a:pt x="233" y="251"/>
                    </a:lnTo>
                    <a:lnTo>
                      <a:pt x="219" y="259"/>
                    </a:lnTo>
                    <a:lnTo>
                      <a:pt x="202" y="261"/>
                    </a:lnTo>
                    <a:lnTo>
                      <a:pt x="53" y="261"/>
                    </a:lnTo>
                    <a:lnTo>
                      <a:pt x="36" y="259"/>
                    </a:lnTo>
                    <a:lnTo>
                      <a:pt x="21" y="251"/>
                    </a:lnTo>
                    <a:lnTo>
                      <a:pt x="10" y="240"/>
                    </a:lnTo>
                    <a:lnTo>
                      <a:pt x="3" y="225"/>
                    </a:lnTo>
                    <a:lnTo>
                      <a:pt x="0" y="209"/>
                    </a:lnTo>
                    <a:lnTo>
                      <a:pt x="0" y="53"/>
                    </a:lnTo>
                    <a:lnTo>
                      <a:pt x="3" y="36"/>
                    </a:lnTo>
                    <a:lnTo>
                      <a:pt x="10" y="22"/>
                    </a:lnTo>
                    <a:lnTo>
                      <a:pt x="21"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6" name="Freeform 36"/>
              <p:cNvSpPr/>
              <p:nvPr/>
            </p:nvSpPr>
            <p:spPr>
              <a:xfrm>
                <a:off x="6083640" y="1791360"/>
                <a:ext cx="174600" cy="177840"/>
              </a:xfrm>
              <a:custGeom>
                <a:avLst/>
                <a:gdLst/>
                <a:ahLst/>
                <a:rect l="l" t="t" r="r" b="b"/>
                <a:pathLst>
                  <a:path w="256" h="261">
                    <a:moveTo>
                      <a:pt x="53" y="0"/>
                    </a:moveTo>
                    <a:lnTo>
                      <a:pt x="202" y="0"/>
                    </a:lnTo>
                    <a:lnTo>
                      <a:pt x="220" y="3"/>
                    </a:lnTo>
                    <a:lnTo>
                      <a:pt x="233" y="11"/>
                    </a:lnTo>
                    <a:lnTo>
                      <a:pt x="245" y="22"/>
                    </a:lnTo>
                    <a:lnTo>
                      <a:pt x="253" y="36"/>
                    </a:lnTo>
                    <a:lnTo>
                      <a:pt x="256" y="53"/>
                    </a:lnTo>
                    <a:lnTo>
                      <a:pt x="256" y="209"/>
                    </a:lnTo>
                    <a:lnTo>
                      <a:pt x="253" y="225"/>
                    </a:lnTo>
                    <a:lnTo>
                      <a:pt x="245" y="240"/>
                    </a:lnTo>
                    <a:lnTo>
                      <a:pt x="233" y="251"/>
                    </a:lnTo>
                    <a:lnTo>
                      <a:pt x="220" y="259"/>
                    </a:lnTo>
                    <a:lnTo>
                      <a:pt x="202" y="261"/>
                    </a:lnTo>
                    <a:lnTo>
                      <a:pt x="53" y="261"/>
                    </a:lnTo>
                    <a:lnTo>
                      <a:pt x="37" y="259"/>
                    </a:lnTo>
                    <a:lnTo>
                      <a:pt x="22" y="251"/>
                    </a:lnTo>
                    <a:lnTo>
                      <a:pt x="10" y="240"/>
                    </a:lnTo>
                    <a:lnTo>
                      <a:pt x="3" y="225"/>
                    </a:lnTo>
                    <a:lnTo>
                      <a:pt x="0" y="209"/>
                    </a:lnTo>
                    <a:lnTo>
                      <a:pt x="0" y="53"/>
                    </a:lnTo>
                    <a:lnTo>
                      <a:pt x="3" y="36"/>
                    </a:lnTo>
                    <a:lnTo>
                      <a:pt x="10" y="22"/>
                    </a:lnTo>
                    <a:lnTo>
                      <a:pt x="22" y="11"/>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7" name="Freeform 37"/>
              <p:cNvSpPr/>
              <p:nvPr/>
            </p:nvSpPr>
            <p:spPr>
              <a:xfrm>
                <a:off x="6293160" y="1791360"/>
                <a:ext cx="174600" cy="177840"/>
              </a:xfrm>
              <a:custGeom>
                <a:avLst/>
                <a:gdLst/>
                <a:ahLst/>
                <a:rect l="l" t="t" r="r" b="b"/>
                <a:pathLst>
                  <a:path w="256" h="261">
                    <a:moveTo>
                      <a:pt x="54" y="0"/>
                    </a:moveTo>
                    <a:lnTo>
                      <a:pt x="203" y="0"/>
                    </a:lnTo>
                    <a:lnTo>
                      <a:pt x="219" y="3"/>
                    </a:lnTo>
                    <a:lnTo>
                      <a:pt x="234" y="11"/>
                    </a:lnTo>
                    <a:lnTo>
                      <a:pt x="246" y="22"/>
                    </a:lnTo>
                    <a:lnTo>
                      <a:pt x="254" y="36"/>
                    </a:lnTo>
                    <a:lnTo>
                      <a:pt x="256" y="53"/>
                    </a:lnTo>
                    <a:lnTo>
                      <a:pt x="256" y="209"/>
                    </a:lnTo>
                    <a:lnTo>
                      <a:pt x="254" y="225"/>
                    </a:lnTo>
                    <a:lnTo>
                      <a:pt x="246" y="240"/>
                    </a:lnTo>
                    <a:lnTo>
                      <a:pt x="234" y="251"/>
                    </a:lnTo>
                    <a:lnTo>
                      <a:pt x="219" y="259"/>
                    </a:lnTo>
                    <a:lnTo>
                      <a:pt x="203" y="261"/>
                    </a:lnTo>
                    <a:lnTo>
                      <a:pt x="54" y="261"/>
                    </a:lnTo>
                    <a:lnTo>
                      <a:pt x="37" y="259"/>
                    </a:lnTo>
                    <a:lnTo>
                      <a:pt x="23" y="251"/>
                    </a:lnTo>
                    <a:lnTo>
                      <a:pt x="11" y="240"/>
                    </a:lnTo>
                    <a:lnTo>
                      <a:pt x="3" y="225"/>
                    </a:lnTo>
                    <a:lnTo>
                      <a:pt x="0" y="209"/>
                    </a:lnTo>
                    <a:lnTo>
                      <a:pt x="0" y="53"/>
                    </a:lnTo>
                    <a:lnTo>
                      <a:pt x="3" y="36"/>
                    </a:lnTo>
                    <a:lnTo>
                      <a:pt x="11" y="22"/>
                    </a:lnTo>
                    <a:lnTo>
                      <a:pt x="23" y="11"/>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8" name="Freeform 38"/>
              <p:cNvSpPr/>
              <p:nvPr/>
            </p:nvSpPr>
            <p:spPr>
              <a:xfrm>
                <a:off x="5666040" y="1995120"/>
                <a:ext cx="172800" cy="177840"/>
              </a:xfrm>
              <a:custGeom>
                <a:avLst/>
                <a:gdLst/>
                <a:ahLst/>
                <a:rect l="l" t="t" r="r" b="b"/>
                <a:pathLst>
                  <a:path w="255" h="260">
                    <a:moveTo>
                      <a:pt x="53" y="0"/>
                    </a:moveTo>
                    <a:lnTo>
                      <a:pt x="202" y="0"/>
                    </a:lnTo>
                    <a:lnTo>
                      <a:pt x="219" y="3"/>
                    </a:lnTo>
                    <a:lnTo>
                      <a:pt x="234" y="10"/>
                    </a:lnTo>
                    <a:lnTo>
                      <a:pt x="245" y="22"/>
                    </a:lnTo>
                    <a:lnTo>
                      <a:pt x="252" y="37"/>
                    </a:lnTo>
                    <a:lnTo>
                      <a:pt x="255" y="53"/>
                    </a:lnTo>
                    <a:lnTo>
                      <a:pt x="255" y="208"/>
                    </a:lnTo>
                    <a:lnTo>
                      <a:pt x="252" y="225"/>
                    </a:lnTo>
                    <a:lnTo>
                      <a:pt x="245" y="239"/>
                    </a:lnTo>
                    <a:lnTo>
                      <a:pt x="234" y="251"/>
                    </a:lnTo>
                    <a:lnTo>
                      <a:pt x="219" y="258"/>
                    </a:lnTo>
                    <a:lnTo>
                      <a:pt x="202" y="260"/>
                    </a:lnTo>
                    <a:lnTo>
                      <a:pt x="53" y="260"/>
                    </a:lnTo>
                    <a:lnTo>
                      <a:pt x="36" y="258"/>
                    </a:lnTo>
                    <a:lnTo>
                      <a:pt x="22" y="251"/>
                    </a:lnTo>
                    <a:lnTo>
                      <a:pt x="10" y="239"/>
                    </a:lnTo>
                    <a:lnTo>
                      <a:pt x="3" y="225"/>
                    </a:lnTo>
                    <a:lnTo>
                      <a:pt x="0" y="208"/>
                    </a:lnTo>
                    <a:lnTo>
                      <a:pt x="0" y="53"/>
                    </a:lnTo>
                    <a:lnTo>
                      <a:pt x="3" y="37"/>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9" name="Freeform 39"/>
              <p:cNvSpPr/>
              <p:nvPr/>
            </p:nvSpPr>
            <p:spPr>
              <a:xfrm>
                <a:off x="5875560" y="1995120"/>
                <a:ext cx="172800" cy="177840"/>
              </a:xfrm>
              <a:custGeom>
                <a:avLst/>
                <a:gdLst/>
                <a:ahLst/>
                <a:rect l="l" t="t" r="r" b="b"/>
                <a:pathLst>
                  <a:path w="255" h="260">
                    <a:moveTo>
                      <a:pt x="53" y="0"/>
                    </a:moveTo>
                    <a:lnTo>
                      <a:pt x="202" y="0"/>
                    </a:lnTo>
                    <a:lnTo>
                      <a:pt x="219" y="3"/>
                    </a:lnTo>
                    <a:lnTo>
                      <a:pt x="233" y="10"/>
                    </a:lnTo>
                    <a:lnTo>
                      <a:pt x="244" y="22"/>
                    </a:lnTo>
                    <a:lnTo>
                      <a:pt x="252" y="37"/>
                    </a:lnTo>
                    <a:lnTo>
                      <a:pt x="255" y="53"/>
                    </a:lnTo>
                    <a:lnTo>
                      <a:pt x="255" y="208"/>
                    </a:lnTo>
                    <a:lnTo>
                      <a:pt x="252" y="225"/>
                    </a:lnTo>
                    <a:lnTo>
                      <a:pt x="244" y="239"/>
                    </a:lnTo>
                    <a:lnTo>
                      <a:pt x="233" y="251"/>
                    </a:lnTo>
                    <a:lnTo>
                      <a:pt x="219" y="258"/>
                    </a:lnTo>
                    <a:lnTo>
                      <a:pt x="202" y="260"/>
                    </a:lnTo>
                    <a:lnTo>
                      <a:pt x="53" y="260"/>
                    </a:lnTo>
                    <a:lnTo>
                      <a:pt x="36" y="258"/>
                    </a:lnTo>
                    <a:lnTo>
                      <a:pt x="21" y="251"/>
                    </a:lnTo>
                    <a:lnTo>
                      <a:pt x="10" y="239"/>
                    </a:lnTo>
                    <a:lnTo>
                      <a:pt x="3" y="225"/>
                    </a:lnTo>
                    <a:lnTo>
                      <a:pt x="0" y="208"/>
                    </a:lnTo>
                    <a:lnTo>
                      <a:pt x="0" y="53"/>
                    </a:lnTo>
                    <a:lnTo>
                      <a:pt x="3" y="37"/>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0" name="Freeform 40"/>
              <p:cNvSpPr/>
              <p:nvPr/>
            </p:nvSpPr>
            <p:spPr>
              <a:xfrm>
                <a:off x="6083640" y="1995120"/>
                <a:ext cx="174600" cy="177840"/>
              </a:xfrm>
              <a:custGeom>
                <a:avLst/>
                <a:gdLst/>
                <a:ahLst/>
                <a:rect l="l" t="t" r="r" b="b"/>
                <a:pathLst>
                  <a:path w="256" h="260">
                    <a:moveTo>
                      <a:pt x="53" y="0"/>
                    </a:moveTo>
                    <a:lnTo>
                      <a:pt x="202" y="0"/>
                    </a:lnTo>
                    <a:lnTo>
                      <a:pt x="220" y="3"/>
                    </a:lnTo>
                    <a:lnTo>
                      <a:pt x="233" y="10"/>
                    </a:lnTo>
                    <a:lnTo>
                      <a:pt x="245" y="22"/>
                    </a:lnTo>
                    <a:lnTo>
                      <a:pt x="253" y="37"/>
                    </a:lnTo>
                    <a:lnTo>
                      <a:pt x="256" y="53"/>
                    </a:lnTo>
                    <a:lnTo>
                      <a:pt x="256" y="208"/>
                    </a:lnTo>
                    <a:lnTo>
                      <a:pt x="253" y="225"/>
                    </a:lnTo>
                    <a:lnTo>
                      <a:pt x="245" y="239"/>
                    </a:lnTo>
                    <a:lnTo>
                      <a:pt x="233" y="251"/>
                    </a:lnTo>
                    <a:lnTo>
                      <a:pt x="220" y="258"/>
                    </a:lnTo>
                    <a:lnTo>
                      <a:pt x="202" y="260"/>
                    </a:lnTo>
                    <a:lnTo>
                      <a:pt x="53" y="260"/>
                    </a:lnTo>
                    <a:lnTo>
                      <a:pt x="37" y="258"/>
                    </a:lnTo>
                    <a:lnTo>
                      <a:pt x="22" y="251"/>
                    </a:lnTo>
                    <a:lnTo>
                      <a:pt x="10" y="239"/>
                    </a:lnTo>
                    <a:lnTo>
                      <a:pt x="3" y="225"/>
                    </a:lnTo>
                    <a:lnTo>
                      <a:pt x="0" y="208"/>
                    </a:lnTo>
                    <a:lnTo>
                      <a:pt x="0" y="53"/>
                    </a:lnTo>
                    <a:lnTo>
                      <a:pt x="3" y="37"/>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1" name="Freeform 41"/>
              <p:cNvSpPr/>
              <p:nvPr/>
            </p:nvSpPr>
            <p:spPr>
              <a:xfrm>
                <a:off x="6293160" y="1995120"/>
                <a:ext cx="174600" cy="177840"/>
              </a:xfrm>
              <a:custGeom>
                <a:avLst/>
                <a:gdLst/>
                <a:ahLst/>
                <a:rect l="l" t="t" r="r" b="b"/>
                <a:pathLst>
                  <a:path w="256" h="260">
                    <a:moveTo>
                      <a:pt x="54" y="0"/>
                    </a:moveTo>
                    <a:lnTo>
                      <a:pt x="203" y="0"/>
                    </a:lnTo>
                    <a:lnTo>
                      <a:pt x="219" y="3"/>
                    </a:lnTo>
                    <a:lnTo>
                      <a:pt x="234" y="10"/>
                    </a:lnTo>
                    <a:lnTo>
                      <a:pt x="246" y="22"/>
                    </a:lnTo>
                    <a:lnTo>
                      <a:pt x="254" y="37"/>
                    </a:lnTo>
                    <a:lnTo>
                      <a:pt x="256" y="53"/>
                    </a:lnTo>
                    <a:lnTo>
                      <a:pt x="256" y="208"/>
                    </a:lnTo>
                    <a:lnTo>
                      <a:pt x="254" y="225"/>
                    </a:lnTo>
                    <a:lnTo>
                      <a:pt x="246" y="239"/>
                    </a:lnTo>
                    <a:lnTo>
                      <a:pt x="234" y="251"/>
                    </a:lnTo>
                    <a:lnTo>
                      <a:pt x="219" y="258"/>
                    </a:lnTo>
                    <a:lnTo>
                      <a:pt x="203" y="260"/>
                    </a:lnTo>
                    <a:lnTo>
                      <a:pt x="54" y="260"/>
                    </a:lnTo>
                    <a:lnTo>
                      <a:pt x="37" y="258"/>
                    </a:lnTo>
                    <a:lnTo>
                      <a:pt x="23" y="251"/>
                    </a:lnTo>
                    <a:lnTo>
                      <a:pt x="11" y="239"/>
                    </a:lnTo>
                    <a:lnTo>
                      <a:pt x="3" y="225"/>
                    </a:lnTo>
                    <a:lnTo>
                      <a:pt x="0" y="208"/>
                    </a:lnTo>
                    <a:lnTo>
                      <a:pt x="0" y="53"/>
                    </a:lnTo>
                    <a:lnTo>
                      <a:pt x="3" y="37"/>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2" name="Freeform 42"/>
              <p:cNvSpPr/>
              <p:nvPr/>
            </p:nvSpPr>
            <p:spPr>
              <a:xfrm>
                <a:off x="5666040" y="2198520"/>
                <a:ext cx="172800" cy="177840"/>
              </a:xfrm>
              <a:custGeom>
                <a:avLst/>
                <a:gdLst/>
                <a:ahLst/>
                <a:rect l="l" t="t" r="r" b="b"/>
                <a:pathLst>
                  <a:path w="255" h="261">
                    <a:moveTo>
                      <a:pt x="53" y="0"/>
                    </a:moveTo>
                    <a:lnTo>
                      <a:pt x="202" y="0"/>
                    </a:lnTo>
                    <a:lnTo>
                      <a:pt x="219" y="2"/>
                    </a:lnTo>
                    <a:lnTo>
                      <a:pt x="234" y="9"/>
                    </a:lnTo>
                    <a:lnTo>
                      <a:pt x="245" y="21"/>
                    </a:lnTo>
                    <a:lnTo>
                      <a:pt x="252" y="36"/>
                    </a:lnTo>
                    <a:lnTo>
                      <a:pt x="255" y="52"/>
                    </a:lnTo>
                    <a:lnTo>
                      <a:pt x="255" y="207"/>
                    </a:lnTo>
                    <a:lnTo>
                      <a:pt x="252" y="224"/>
                    </a:lnTo>
                    <a:lnTo>
                      <a:pt x="245" y="238"/>
                    </a:lnTo>
                    <a:lnTo>
                      <a:pt x="234" y="250"/>
                    </a:lnTo>
                    <a:lnTo>
                      <a:pt x="219" y="257"/>
                    </a:lnTo>
                    <a:lnTo>
                      <a:pt x="202" y="261"/>
                    </a:lnTo>
                    <a:lnTo>
                      <a:pt x="53" y="261"/>
                    </a:lnTo>
                    <a:lnTo>
                      <a:pt x="36" y="257"/>
                    </a:lnTo>
                    <a:lnTo>
                      <a:pt x="22" y="250"/>
                    </a:lnTo>
                    <a:lnTo>
                      <a:pt x="10" y="238"/>
                    </a:lnTo>
                    <a:lnTo>
                      <a:pt x="3" y="224"/>
                    </a:lnTo>
                    <a:lnTo>
                      <a:pt x="0" y="207"/>
                    </a:lnTo>
                    <a:lnTo>
                      <a:pt x="0" y="52"/>
                    </a:lnTo>
                    <a:lnTo>
                      <a:pt x="3" y="36"/>
                    </a:lnTo>
                    <a:lnTo>
                      <a:pt x="10" y="21"/>
                    </a:lnTo>
                    <a:lnTo>
                      <a:pt x="22"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3" name="Freeform 43"/>
              <p:cNvSpPr/>
              <p:nvPr/>
            </p:nvSpPr>
            <p:spPr>
              <a:xfrm>
                <a:off x="5875560" y="2198520"/>
                <a:ext cx="172800" cy="177840"/>
              </a:xfrm>
              <a:custGeom>
                <a:avLst/>
                <a:gdLst/>
                <a:ahLst/>
                <a:rect l="l" t="t" r="r" b="b"/>
                <a:pathLst>
                  <a:path w="255" h="261">
                    <a:moveTo>
                      <a:pt x="53" y="0"/>
                    </a:moveTo>
                    <a:lnTo>
                      <a:pt x="202" y="0"/>
                    </a:lnTo>
                    <a:lnTo>
                      <a:pt x="219" y="2"/>
                    </a:lnTo>
                    <a:lnTo>
                      <a:pt x="233" y="9"/>
                    </a:lnTo>
                    <a:lnTo>
                      <a:pt x="244" y="21"/>
                    </a:lnTo>
                    <a:lnTo>
                      <a:pt x="252" y="36"/>
                    </a:lnTo>
                    <a:lnTo>
                      <a:pt x="255" y="52"/>
                    </a:lnTo>
                    <a:lnTo>
                      <a:pt x="255" y="207"/>
                    </a:lnTo>
                    <a:lnTo>
                      <a:pt x="252" y="224"/>
                    </a:lnTo>
                    <a:lnTo>
                      <a:pt x="244" y="238"/>
                    </a:lnTo>
                    <a:lnTo>
                      <a:pt x="233" y="250"/>
                    </a:lnTo>
                    <a:lnTo>
                      <a:pt x="219" y="257"/>
                    </a:lnTo>
                    <a:lnTo>
                      <a:pt x="202" y="261"/>
                    </a:lnTo>
                    <a:lnTo>
                      <a:pt x="53" y="261"/>
                    </a:lnTo>
                    <a:lnTo>
                      <a:pt x="36" y="257"/>
                    </a:lnTo>
                    <a:lnTo>
                      <a:pt x="21" y="250"/>
                    </a:lnTo>
                    <a:lnTo>
                      <a:pt x="10" y="238"/>
                    </a:lnTo>
                    <a:lnTo>
                      <a:pt x="3" y="224"/>
                    </a:lnTo>
                    <a:lnTo>
                      <a:pt x="0" y="207"/>
                    </a:lnTo>
                    <a:lnTo>
                      <a:pt x="0" y="52"/>
                    </a:lnTo>
                    <a:lnTo>
                      <a:pt x="3" y="36"/>
                    </a:lnTo>
                    <a:lnTo>
                      <a:pt x="10" y="21"/>
                    </a:lnTo>
                    <a:lnTo>
                      <a:pt x="21"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4" name="Freeform 44"/>
              <p:cNvSpPr/>
              <p:nvPr/>
            </p:nvSpPr>
            <p:spPr>
              <a:xfrm>
                <a:off x="6083640" y="2198520"/>
                <a:ext cx="174600" cy="177840"/>
              </a:xfrm>
              <a:custGeom>
                <a:avLst/>
                <a:gdLst/>
                <a:ahLst/>
                <a:rect l="l" t="t" r="r" b="b"/>
                <a:pathLst>
                  <a:path w="256" h="261">
                    <a:moveTo>
                      <a:pt x="53" y="0"/>
                    </a:moveTo>
                    <a:lnTo>
                      <a:pt x="202" y="0"/>
                    </a:lnTo>
                    <a:lnTo>
                      <a:pt x="220" y="2"/>
                    </a:lnTo>
                    <a:lnTo>
                      <a:pt x="233" y="9"/>
                    </a:lnTo>
                    <a:lnTo>
                      <a:pt x="245" y="21"/>
                    </a:lnTo>
                    <a:lnTo>
                      <a:pt x="253" y="36"/>
                    </a:lnTo>
                    <a:lnTo>
                      <a:pt x="256" y="52"/>
                    </a:lnTo>
                    <a:lnTo>
                      <a:pt x="256" y="207"/>
                    </a:lnTo>
                    <a:lnTo>
                      <a:pt x="253" y="224"/>
                    </a:lnTo>
                    <a:lnTo>
                      <a:pt x="245" y="238"/>
                    </a:lnTo>
                    <a:lnTo>
                      <a:pt x="233" y="250"/>
                    </a:lnTo>
                    <a:lnTo>
                      <a:pt x="220" y="257"/>
                    </a:lnTo>
                    <a:lnTo>
                      <a:pt x="202" y="261"/>
                    </a:lnTo>
                    <a:lnTo>
                      <a:pt x="53" y="261"/>
                    </a:lnTo>
                    <a:lnTo>
                      <a:pt x="37" y="257"/>
                    </a:lnTo>
                    <a:lnTo>
                      <a:pt x="22" y="250"/>
                    </a:lnTo>
                    <a:lnTo>
                      <a:pt x="10" y="238"/>
                    </a:lnTo>
                    <a:lnTo>
                      <a:pt x="3" y="224"/>
                    </a:lnTo>
                    <a:lnTo>
                      <a:pt x="0" y="207"/>
                    </a:lnTo>
                    <a:lnTo>
                      <a:pt x="0" y="52"/>
                    </a:lnTo>
                    <a:lnTo>
                      <a:pt x="3" y="36"/>
                    </a:lnTo>
                    <a:lnTo>
                      <a:pt x="10" y="21"/>
                    </a:lnTo>
                    <a:lnTo>
                      <a:pt x="22" y="9"/>
                    </a:lnTo>
                    <a:lnTo>
                      <a:pt x="37" y="2"/>
                    </a:lnTo>
                    <a:lnTo>
                      <a:pt x="53"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5" name="Freeform 45"/>
              <p:cNvSpPr/>
              <p:nvPr/>
            </p:nvSpPr>
            <p:spPr>
              <a:xfrm>
                <a:off x="6293160" y="2198520"/>
                <a:ext cx="174600" cy="177840"/>
              </a:xfrm>
              <a:custGeom>
                <a:avLst/>
                <a:gdLst/>
                <a:ahLst/>
                <a:rect l="l" t="t" r="r" b="b"/>
                <a:pathLst>
                  <a:path w="256" h="261">
                    <a:moveTo>
                      <a:pt x="54" y="0"/>
                    </a:moveTo>
                    <a:lnTo>
                      <a:pt x="203" y="0"/>
                    </a:lnTo>
                    <a:lnTo>
                      <a:pt x="219" y="2"/>
                    </a:lnTo>
                    <a:lnTo>
                      <a:pt x="234" y="9"/>
                    </a:lnTo>
                    <a:lnTo>
                      <a:pt x="246" y="21"/>
                    </a:lnTo>
                    <a:lnTo>
                      <a:pt x="254" y="36"/>
                    </a:lnTo>
                    <a:lnTo>
                      <a:pt x="256" y="52"/>
                    </a:lnTo>
                    <a:lnTo>
                      <a:pt x="256" y="207"/>
                    </a:lnTo>
                    <a:lnTo>
                      <a:pt x="254" y="224"/>
                    </a:lnTo>
                    <a:lnTo>
                      <a:pt x="246" y="238"/>
                    </a:lnTo>
                    <a:lnTo>
                      <a:pt x="234" y="250"/>
                    </a:lnTo>
                    <a:lnTo>
                      <a:pt x="219" y="257"/>
                    </a:lnTo>
                    <a:lnTo>
                      <a:pt x="203" y="261"/>
                    </a:lnTo>
                    <a:lnTo>
                      <a:pt x="54" y="261"/>
                    </a:lnTo>
                    <a:lnTo>
                      <a:pt x="37" y="257"/>
                    </a:lnTo>
                    <a:lnTo>
                      <a:pt x="23" y="250"/>
                    </a:lnTo>
                    <a:lnTo>
                      <a:pt x="11" y="238"/>
                    </a:lnTo>
                    <a:lnTo>
                      <a:pt x="3" y="224"/>
                    </a:lnTo>
                    <a:lnTo>
                      <a:pt x="0" y="207"/>
                    </a:lnTo>
                    <a:lnTo>
                      <a:pt x="0" y="52"/>
                    </a:lnTo>
                    <a:lnTo>
                      <a:pt x="3" y="36"/>
                    </a:lnTo>
                    <a:lnTo>
                      <a:pt x="11" y="21"/>
                    </a:lnTo>
                    <a:lnTo>
                      <a:pt x="23" y="9"/>
                    </a:lnTo>
                    <a:lnTo>
                      <a:pt x="37" y="2"/>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6" name="Freeform 46"/>
              <p:cNvSpPr/>
              <p:nvPr/>
            </p:nvSpPr>
            <p:spPr>
              <a:xfrm>
                <a:off x="6356880" y="1414800"/>
                <a:ext cx="71280" cy="100080"/>
              </a:xfrm>
              <a:custGeom>
                <a:avLst/>
                <a:gdLst/>
                <a:ahLst/>
                <a:rect l="l" t="t" r="r" b="b"/>
                <a:pathLst>
                  <a:path w="105" h="146">
                    <a:moveTo>
                      <a:pt x="53" y="11"/>
                    </a:moveTo>
                    <a:lnTo>
                      <a:pt x="45" y="17"/>
                    </a:lnTo>
                    <a:lnTo>
                      <a:pt x="17" y="17"/>
                    </a:lnTo>
                    <a:lnTo>
                      <a:pt x="17" y="66"/>
                    </a:lnTo>
                    <a:lnTo>
                      <a:pt x="11" y="73"/>
                    </a:lnTo>
                    <a:lnTo>
                      <a:pt x="17" y="81"/>
                    </a:lnTo>
                    <a:lnTo>
                      <a:pt x="17" y="107"/>
                    </a:lnTo>
                    <a:lnTo>
                      <a:pt x="38" y="78"/>
                    </a:lnTo>
                    <a:lnTo>
                      <a:pt x="47" y="78"/>
                    </a:lnTo>
                    <a:lnTo>
                      <a:pt x="47" y="94"/>
                    </a:lnTo>
                    <a:lnTo>
                      <a:pt x="24" y="129"/>
                    </a:lnTo>
                    <a:lnTo>
                      <a:pt x="45" y="129"/>
                    </a:lnTo>
                    <a:lnTo>
                      <a:pt x="53" y="135"/>
                    </a:lnTo>
                    <a:lnTo>
                      <a:pt x="53" y="135"/>
                    </a:lnTo>
                    <a:lnTo>
                      <a:pt x="60" y="129"/>
                    </a:lnTo>
                    <a:lnTo>
                      <a:pt x="87" y="129"/>
                    </a:lnTo>
                    <a:lnTo>
                      <a:pt x="87" y="81"/>
                    </a:lnTo>
                    <a:lnTo>
                      <a:pt x="93" y="73"/>
                    </a:lnTo>
                    <a:lnTo>
                      <a:pt x="87" y="66"/>
                    </a:lnTo>
                    <a:lnTo>
                      <a:pt x="87" y="39"/>
                    </a:lnTo>
                    <a:lnTo>
                      <a:pt x="68" y="68"/>
                    </a:lnTo>
                    <a:lnTo>
                      <a:pt x="58" y="68"/>
                    </a:lnTo>
                    <a:lnTo>
                      <a:pt x="58" y="52"/>
                    </a:lnTo>
                    <a:lnTo>
                      <a:pt x="80" y="17"/>
                    </a:lnTo>
                    <a:lnTo>
                      <a:pt x="60" y="17"/>
                    </a:lnTo>
                    <a:lnTo>
                      <a:pt x="53" y="11"/>
                    </a:lnTo>
                    <a:lnTo>
                      <a:pt x="53" y="11"/>
                    </a:lnTo>
                    <a:close/>
                    <a:moveTo>
                      <a:pt x="16" y="0"/>
                    </a:moveTo>
                    <a:lnTo>
                      <a:pt x="45" y="0"/>
                    </a:lnTo>
                    <a:lnTo>
                      <a:pt x="53" y="7"/>
                    </a:lnTo>
                    <a:lnTo>
                      <a:pt x="53" y="7"/>
                    </a:lnTo>
                    <a:lnTo>
                      <a:pt x="60" y="0"/>
                    </a:lnTo>
                    <a:lnTo>
                      <a:pt x="89" y="0"/>
                    </a:lnTo>
                    <a:lnTo>
                      <a:pt x="98" y="9"/>
                    </a:lnTo>
                    <a:lnTo>
                      <a:pt x="98" y="9"/>
                    </a:lnTo>
                    <a:lnTo>
                      <a:pt x="105" y="16"/>
                    </a:lnTo>
                    <a:lnTo>
                      <a:pt x="105" y="66"/>
                    </a:lnTo>
                    <a:lnTo>
                      <a:pt x="98" y="73"/>
                    </a:lnTo>
                    <a:lnTo>
                      <a:pt x="105" y="81"/>
                    </a:lnTo>
                    <a:lnTo>
                      <a:pt x="105" y="130"/>
                    </a:lnTo>
                    <a:lnTo>
                      <a:pt x="96" y="139"/>
                    </a:lnTo>
                    <a:lnTo>
                      <a:pt x="95" y="139"/>
                    </a:lnTo>
                    <a:lnTo>
                      <a:pt x="89" y="146"/>
                    </a:lnTo>
                    <a:lnTo>
                      <a:pt x="60" y="146"/>
                    </a:lnTo>
                    <a:lnTo>
                      <a:pt x="53" y="139"/>
                    </a:lnTo>
                    <a:lnTo>
                      <a:pt x="53" y="139"/>
                    </a:lnTo>
                    <a:lnTo>
                      <a:pt x="45" y="146"/>
                    </a:lnTo>
                    <a:lnTo>
                      <a:pt x="16" y="146"/>
                    </a:lnTo>
                    <a:lnTo>
                      <a:pt x="7" y="137"/>
                    </a:lnTo>
                    <a:lnTo>
                      <a:pt x="7" y="137"/>
                    </a:lnTo>
                    <a:lnTo>
                      <a:pt x="0" y="130"/>
                    </a:lnTo>
                    <a:lnTo>
                      <a:pt x="0" y="81"/>
                    </a:lnTo>
                    <a:lnTo>
                      <a:pt x="7" y="73"/>
                    </a:lnTo>
                    <a:lnTo>
                      <a:pt x="0" y="66"/>
                    </a:lnTo>
                    <a:lnTo>
                      <a:pt x="0" y="16"/>
                    </a:lnTo>
                    <a:lnTo>
                      <a:pt x="9" y="7"/>
                    </a:lnTo>
                    <a:lnTo>
                      <a:pt x="9" y="7"/>
                    </a:lnTo>
                    <a:lnTo>
                      <a:pt x="1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7" name="Freeform 47"/>
              <p:cNvSpPr/>
              <p:nvPr/>
            </p:nvSpPr>
            <p:spPr>
              <a:xfrm>
                <a:off x="5726160" y="1641960"/>
                <a:ext cx="54000" cy="74520"/>
              </a:xfrm>
              <a:custGeom>
                <a:avLst/>
                <a:gdLst/>
                <a:ahLst/>
                <a:rect l="l" t="t" r="r" b="b"/>
                <a:pathLst>
                  <a:path w="79" h="110">
                    <a:moveTo>
                      <a:pt x="0" y="0"/>
                    </a:moveTo>
                    <a:lnTo>
                      <a:pt x="79" y="0"/>
                    </a:lnTo>
                    <a:lnTo>
                      <a:pt x="79" y="17"/>
                    </a:lnTo>
                    <a:lnTo>
                      <a:pt x="64" y="37"/>
                    </a:lnTo>
                    <a:lnTo>
                      <a:pt x="54" y="55"/>
                    </a:lnTo>
                    <a:lnTo>
                      <a:pt x="49" y="76"/>
                    </a:lnTo>
                    <a:lnTo>
                      <a:pt x="45" y="99"/>
                    </a:lnTo>
                    <a:lnTo>
                      <a:pt x="44" y="110"/>
                    </a:lnTo>
                    <a:lnTo>
                      <a:pt x="22" y="110"/>
                    </a:lnTo>
                    <a:lnTo>
                      <a:pt x="23" y="99"/>
                    </a:lnTo>
                    <a:lnTo>
                      <a:pt x="27" y="76"/>
                    </a:lnTo>
                    <a:lnTo>
                      <a:pt x="34" y="54"/>
                    </a:lnTo>
                    <a:lnTo>
                      <a:pt x="44" y="35"/>
                    </a:lnTo>
                    <a:lnTo>
                      <a:pt x="57" y="17"/>
                    </a:lnTo>
                    <a:lnTo>
                      <a:pt x="0" y="17"/>
                    </a:lnTo>
                    <a:lnTo>
                      <a:pt x="0"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88" name="Freeform 48"/>
              <p:cNvSpPr/>
              <p:nvPr/>
            </p:nvSpPr>
            <p:spPr>
              <a:xfrm>
                <a:off x="5938920" y="1638720"/>
                <a:ext cx="50760" cy="77760"/>
              </a:xfrm>
              <a:custGeom>
                <a:avLst/>
                <a:gdLst/>
                <a:ahLst/>
                <a:rect l="l" t="t" r="r" b="b"/>
                <a:pathLst>
                  <a:path w="74" h="113">
                    <a:moveTo>
                      <a:pt x="37" y="64"/>
                    </a:moveTo>
                    <a:lnTo>
                      <a:pt x="33" y="65"/>
                    </a:lnTo>
                    <a:lnTo>
                      <a:pt x="30" y="66"/>
                    </a:lnTo>
                    <a:lnTo>
                      <a:pt x="26" y="68"/>
                    </a:lnTo>
                    <a:lnTo>
                      <a:pt x="24" y="71"/>
                    </a:lnTo>
                    <a:lnTo>
                      <a:pt x="22" y="75"/>
                    </a:lnTo>
                    <a:lnTo>
                      <a:pt x="22" y="80"/>
                    </a:lnTo>
                    <a:lnTo>
                      <a:pt x="22" y="85"/>
                    </a:lnTo>
                    <a:lnTo>
                      <a:pt x="24" y="89"/>
                    </a:lnTo>
                    <a:lnTo>
                      <a:pt x="26" y="93"/>
                    </a:lnTo>
                    <a:lnTo>
                      <a:pt x="30" y="95"/>
                    </a:lnTo>
                    <a:lnTo>
                      <a:pt x="33" y="96"/>
                    </a:lnTo>
                    <a:lnTo>
                      <a:pt x="37" y="97"/>
                    </a:lnTo>
                    <a:lnTo>
                      <a:pt x="37" y="97"/>
                    </a:lnTo>
                    <a:lnTo>
                      <a:pt x="41" y="96"/>
                    </a:lnTo>
                    <a:lnTo>
                      <a:pt x="46" y="95"/>
                    </a:lnTo>
                    <a:lnTo>
                      <a:pt x="49" y="93"/>
                    </a:lnTo>
                    <a:lnTo>
                      <a:pt x="51" y="88"/>
                    </a:lnTo>
                    <a:lnTo>
                      <a:pt x="52" y="85"/>
                    </a:lnTo>
                    <a:lnTo>
                      <a:pt x="53" y="80"/>
                    </a:lnTo>
                    <a:lnTo>
                      <a:pt x="52" y="75"/>
                    </a:lnTo>
                    <a:lnTo>
                      <a:pt x="51" y="71"/>
                    </a:lnTo>
                    <a:lnTo>
                      <a:pt x="49" y="68"/>
                    </a:lnTo>
                    <a:lnTo>
                      <a:pt x="46" y="66"/>
                    </a:lnTo>
                    <a:lnTo>
                      <a:pt x="41" y="65"/>
                    </a:lnTo>
                    <a:lnTo>
                      <a:pt x="37" y="64"/>
                    </a:lnTo>
                    <a:lnTo>
                      <a:pt x="37" y="64"/>
                    </a:lnTo>
                    <a:close/>
                    <a:moveTo>
                      <a:pt x="37" y="17"/>
                    </a:moveTo>
                    <a:lnTo>
                      <a:pt x="34" y="18"/>
                    </a:lnTo>
                    <a:lnTo>
                      <a:pt x="31" y="19"/>
                    </a:lnTo>
                    <a:lnTo>
                      <a:pt x="27" y="21"/>
                    </a:lnTo>
                    <a:lnTo>
                      <a:pt x="26" y="24"/>
                    </a:lnTo>
                    <a:lnTo>
                      <a:pt x="25" y="27"/>
                    </a:lnTo>
                    <a:lnTo>
                      <a:pt x="24" y="32"/>
                    </a:lnTo>
                    <a:lnTo>
                      <a:pt x="25" y="36"/>
                    </a:lnTo>
                    <a:lnTo>
                      <a:pt x="26" y="40"/>
                    </a:lnTo>
                    <a:lnTo>
                      <a:pt x="27" y="42"/>
                    </a:lnTo>
                    <a:lnTo>
                      <a:pt x="31" y="44"/>
                    </a:lnTo>
                    <a:lnTo>
                      <a:pt x="34" y="47"/>
                    </a:lnTo>
                    <a:lnTo>
                      <a:pt x="37" y="47"/>
                    </a:lnTo>
                    <a:lnTo>
                      <a:pt x="37" y="47"/>
                    </a:lnTo>
                    <a:lnTo>
                      <a:pt x="41" y="47"/>
                    </a:lnTo>
                    <a:lnTo>
                      <a:pt x="44" y="44"/>
                    </a:lnTo>
                    <a:lnTo>
                      <a:pt x="47" y="42"/>
                    </a:lnTo>
                    <a:lnTo>
                      <a:pt x="49" y="40"/>
                    </a:lnTo>
                    <a:lnTo>
                      <a:pt x="50" y="36"/>
                    </a:lnTo>
                    <a:lnTo>
                      <a:pt x="50" y="32"/>
                    </a:lnTo>
                    <a:lnTo>
                      <a:pt x="50" y="27"/>
                    </a:lnTo>
                    <a:lnTo>
                      <a:pt x="49" y="24"/>
                    </a:lnTo>
                    <a:lnTo>
                      <a:pt x="47" y="21"/>
                    </a:lnTo>
                    <a:lnTo>
                      <a:pt x="44" y="19"/>
                    </a:lnTo>
                    <a:lnTo>
                      <a:pt x="41" y="18"/>
                    </a:lnTo>
                    <a:lnTo>
                      <a:pt x="37" y="17"/>
                    </a:lnTo>
                    <a:lnTo>
                      <a:pt x="37" y="17"/>
                    </a:lnTo>
                    <a:close/>
                    <a:moveTo>
                      <a:pt x="37" y="0"/>
                    </a:moveTo>
                    <a:lnTo>
                      <a:pt x="37" y="0"/>
                    </a:lnTo>
                    <a:lnTo>
                      <a:pt x="52" y="2"/>
                    </a:lnTo>
                    <a:lnTo>
                      <a:pt x="63" y="8"/>
                    </a:lnTo>
                    <a:lnTo>
                      <a:pt x="70" y="18"/>
                    </a:lnTo>
                    <a:lnTo>
                      <a:pt x="72" y="31"/>
                    </a:lnTo>
                    <a:lnTo>
                      <a:pt x="72" y="36"/>
                    </a:lnTo>
                    <a:lnTo>
                      <a:pt x="70" y="41"/>
                    </a:lnTo>
                    <a:lnTo>
                      <a:pt x="68" y="46"/>
                    </a:lnTo>
                    <a:lnTo>
                      <a:pt x="65" y="50"/>
                    </a:lnTo>
                    <a:lnTo>
                      <a:pt x="61" y="53"/>
                    </a:lnTo>
                    <a:lnTo>
                      <a:pt x="56" y="55"/>
                    </a:lnTo>
                    <a:lnTo>
                      <a:pt x="62" y="58"/>
                    </a:lnTo>
                    <a:lnTo>
                      <a:pt x="66" y="62"/>
                    </a:lnTo>
                    <a:lnTo>
                      <a:pt x="70" y="66"/>
                    </a:lnTo>
                    <a:lnTo>
                      <a:pt x="72" y="71"/>
                    </a:lnTo>
                    <a:lnTo>
                      <a:pt x="74" y="75"/>
                    </a:lnTo>
                    <a:lnTo>
                      <a:pt x="74" y="82"/>
                    </a:lnTo>
                    <a:lnTo>
                      <a:pt x="73" y="91"/>
                    </a:lnTo>
                    <a:lnTo>
                      <a:pt x="70" y="99"/>
                    </a:lnTo>
                    <a:lnTo>
                      <a:pt x="65" y="105"/>
                    </a:lnTo>
                    <a:lnTo>
                      <a:pt x="53" y="112"/>
                    </a:lnTo>
                    <a:lnTo>
                      <a:pt x="37" y="113"/>
                    </a:lnTo>
                    <a:lnTo>
                      <a:pt x="37" y="113"/>
                    </a:lnTo>
                    <a:lnTo>
                      <a:pt x="22" y="112"/>
                    </a:lnTo>
                    <a:lnTo>
                      <a:pt x="10" y="105"/>
                    </a:lnTo>
                    <a:lnTo>
                      <a:pt x="4" y="99"/>
                    </a:lnTo>
                    <a:lnTo>
                      <a:pt x="1" y="91"/>
                    </a:lnTo>
                    <a:lnTo>
                      <a:pt x="0" y="82"/>
                    </a:lnTo>
                    <a:lnTo>
                      <a:pt x="1" y="75"/>
                    </a:lnTo>
                    <a:lnTo>
                      <a:pt x="2" y="71"/>
                    </a:lnTo>
                    <a:lnTo>
                      <a:pt x="5" y="66"/>
                    </a:lnTo>
                    <a:lnTo>
                      <a:pt x="8" y="62"/>
                    </a:lnTo>
                    <a:lnTo>
                      <a:pt x="13" y="58"/>
                    </a:lnTo>
                    <a:lnTo>
                      <a:pt x="19" y="55"/>
                    </a:lnTo>
                    <a:lnTo>
                      <a:pt x="13" y="53"/>
                    </a:lnTo>
                    <a:lnTo>
                      <a:pt x="10" y="50"/>
                    </a:lnTo>
                    <a:lnTo>
                      <a:pt x="7" y="46"/>
                    </a:lnTo>
                    <a:lnTo>
                      <a:pt x="4" y="41"/>
                    </a:lnTo>
                    <a:lnTo>
                      <a:pt x="3" y="36"/>
                    </a:lnTo>
                    <a:lnTo>
                      <a:pt x="3" y="31"/>
                    </a:lnTo>
                    <a:lnTo>
                      <a:pt x="5" y="18"/>
                    </a:lnTo>
                    <a:lnTo>
                      <a:pt x="12" y="8"/>
                    </a:lnTo>
                    <a:lnTo>
                      <a:pt x="23" y="2"/>
                    </a:lnTo>
                    <a:lnTo>
                      <a:pt x="37"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89" name="Freeform 49"/>
              <p:cNvSpPr/>
              <p:nvPr/>
            </p:nvSpPr>
            <p:spPr>
              <a:xfrm>
                <a:off x="6147000" y="1638720"/>
                <a:ext cx="50760" cy="77760"/>
              </a:xfrm>
              <a:custGeom>
                <a:avLst/>
                <a:gdLst/>
                <a:ahLst/>
                <a:rect l="l" t="t" r="r" b="b"/>
                <a:pathLst>
                  <a:path w="75" h="113">
                    <a:moveTo>
                      <a:pt x="38" y="17"/>
                    </a:moveTo>
                    <a:lnTo>
                      <a:pt x="33" y="18"/>
                    </a:lnTo>
                    <a:lnTo>
                      <a:pt x="30" y="20"/>
                    </a:lnTo>
                    <a:lnTo>
                      <a:pt x="27" y="23"/>
                    </a:lnTo>
                    <a:lnTo>
                      <a:pt x="25" y="27"/>
                    </a:lnTo>
                    <a:lnTo>
                      <a:pt x="23" y="33"/>
                    </a:lnTo>
                    <a:lnTo>
                      <a:pt x="23" y="38"/>
                    </a:lnTo>
                    <a:lnTo>
                      <a:pt x="23" y="44"/>
                    </a:lnTo>
                    <a:lnTo>
                      <a:pt x="24" y="50"/>
                    </a:lnTo>
                    <a:lnTo>
                      <a:pt x="26" y="54"/>
                    </a:lnTo>
                    <a:lnTo>
                      <a:pt x="29" y="57"/>
                    </a:lnTo>
                    <a:lnTo>
                      <a:pt x="33" y="58"/>
                    </a:lnTo>
                    <a:lnTo>
                      <a:pt x="38" y="59"/>
                    </a:lnTo>
                    <a:lnTo>
                      <a:pt x="38" y="59"/>
                    </a:lnTo>
                    <a:lnTo>
                      <a:pt x="43" y="58"/>
                    </a:lnTo>
                    <a:lnTo>
                      <a:pt x="46" y="57"/>
                    </a:lnTo>
                    <a:lnTo>
                      <a:pt x="51" y="55"/>
                    </a:lnTo>
                    <a:lnTo>
                      <a:pt x="54" y="52"/>
                    </a:lnTo>
                    <a:lnTo>
                      <a:pt x="54" y="41"/>
                    </a:lnTo>
                    <a:lnTo>
                      <a:pt x="53" y="31"/>
                    </a:lnTo>
                    <a:lnTo>
                      <a:pt x="50" y="23"/>
                    </a:lnTo>
                    <a:lnTo>
                      <a:pt x="46" y="20"/>
                    </a:lnTo>
                    <a:lnTo>
                      <a:pt x="42" y="18"/>
                    </a:lnTo>
                    <a:lnTo>
                      <a:pt x="38" y="17"/>
                    </a:lnTo>
                    <a:lnTo>
                      <a:pt x="38" y="17"/>
                    </a:lnTo>
                    <a:close/>
                    <a:moveTo>
                      <a:pt x="38" y="0"/>
                    </a:moveTo>
                    <a:lnTo>
                      <a:pt x="38" y="0"/>
                    </a:lnTo>
                    <a:lnTo>
                      <a:pt x="48" y="2"/>
                    </a:lnTo>
                    <a:lnTo>
                      <a:pt x="57" y="5"/>
                    </a:lnTo>
                    <a:lnTo>
                      <a:pt x="64" y="11"/>
                    </a:lnTo>
                    <a:lnTo>
                      <a:pt x="71" y="21"/>
                    </a:lnTo>
                    <a:lnTo>
                      <a:pt x="74" y="32"/>
                    </a:lnTo>
                    <a:lnTo>
                      <a:pt x="75" y="44"/>
                    </a:lnTo>
                    <a:lnTo>
                      <a:pt x="75" y="70"/>
                    </a:lnTo>
                    <a:lnTo>
                      <a:pt x="74" y="83"/>
                    </a:lnTo>
                    <a:lnTo>
                      <a:pt x="70" y="94"/>
                    </a:lnTo>
                    <a:lnTo>
                      <a:pt x="63" y="102"/>
                    </a:lnTo>
                    <a:lnTo>
                      <a:pt x="52" y="110"/>
                    </a:lnTo>
                    <a:lnTo>
                      <a:pt x="38" y="113"/>
                    </a:lnTo>
                    <a:lnTo>
                      <a:pt x="33" y="113"/>
                    </a:lnTo>
                    <a:lnTo>
                      <a:pt x="28" y="113"/>
                    </a:lnTo>
                    <a:lnTo>
                      <a:pt x="22" y="112"/>
                    </a:lnTo>
                    <a:lnTo>
                      <a:pt x="16" y="111"/>
                    </a:lnTo>
                    <a:lnTo>
                      <a:pt x="11" y="109"/>
                    </a:lnTo>
                    <a:lnTo>
                      <a:pt x="13" y="93"/>
                    </a:lnTo>
                    <a:lnTo>
                      <a:pt x="19" y="95"/>
                    </a:lnTo>
                    <a:lnTo>
                      <a:pt x="23" y="96"/>
                    </a:lnTo>
                    <a:lnTo>
                      <a:pt x="28" y="96"/>
                    </a:lnTo>
                    <a:lnTo>
                      <a:pt x="33" y="97"/>
                    </a:lnTo>
                    <a:lnTo>
                      <a:pt x="38" y="96"/>
                    </a:lnTo>
                    <a:lnTo>
                      <a:pt x="42" y="95"/>
                    </a:lnTo>
                    <a:lnTo>
                      <a:pt x="45" y="93"/>
                    </a:lnTo>
                    <a:lnTo>
                      <a:pt x="48" y="90"/>
                    </a:lnTo>
                    <a:lnTo>
                      <a:pt x="52" y="82"/>
                    </a:lnTo>
                    <a:lnTo>
                      <a:pt x="54" y="71"/>
                    </a:lnTo>
                    <a:lnTo>
                      <a:pt x="54" y="66"/>
                    </a:lnTo>
                    <a:lnTo>
                      <a:pt x="50" y="70"/>
                    </a:lnTo>
                    <a:lnTo>
                      <a:pt x="44" y="73"/>
                    </a:lnTo>
                    <a:lnTo>
                      <a:pt x="41" y="74"/>
                    </a:lnTo>
                    <a:lnTo>
                      <a:pt x="38" y="75"/>
                    </a:lnTo>
                    <a:lnTo>
                      <a:pt x="33" y="75"/>
                    </a:lnTo>
                    <a:lnTo>
                      <a:pt x="20" y="73"/>
                    </a:lnTo>
                    <a:lnTo>
                      <a:pt x="9" y="66"/>
                    </a:lnTo>
                    <a:lnTo>
                      <a:pt x="2" y="54"/>
                    </a:lnTo>
                    <a:lnTo>
                      <a:pt x="0" y="38"/>
                    </a:lnTo>
                    <a:lnTo>
                      <a:pt x="4" y="23"/>
                    </a:lnTo>
                    <a:lnTo>
                      <a:pt x="11" y="11"/>
                    </a:lnTo>
                    <a:lnTo>
                      <a:pt x="23" y="3"/>
                    </a:lnTo>
                    <a:lnTo>
                      <a:pt x="38"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0" name="Freeform 50"/>
              <p:cNvSpPr/>
              <p:nvPr/>
            </p:nvSpPr>
            <p:spPr>
              <a:xfrm>
                <a:off x="6348960" y="1638720"/>
                <a:ext cx="68040" cy="77760"/>
              </a:xfrm>
              <a:custGeom>
                <a:avLst/>
                <a:gdLst/>
                <a:ahLst/>
                <a:rect l="l" t="t" r="r" b="b"/>
                <a:pathLst>
                  <a:path w="101" h="113">
                    <a:moveTo>
                      <a:pt x="76" y="74"/>
                    </a:moveTo>
                    <a:lnTo>
                      <a:pt x="74" y="74"/>
                    </a:lnTo>
                    <a:lnTo>
                      <a:pt x="71" y="75"/>
                    </a:lnTo>
                    <a:lnTo>
                      <a:pt x="70" y="78"/>
                    </a:lnTo>
                    <a:lnTo>
                      <a:pt x="68" y="81"/>
                    </a:lnTo>
                    <a:lnTo>
                      <a:pt x="68" y="85"/>
                    </a:lnTo>
                    <a:lnTo>
                      <a:pt x="68" y="90"/>
                    </a:lnTo>
                    <a:lnTo>
                      <a:pt x="68" y="95"/>
                    </a:lnTo>
                    <a:lnTo>
                      <a:pt x="70" y="98"/>
                    </a:lnTo>
                    <a:lnTo>
                      <a:pt x="72" y="100"/>
                    </a:lnTo>
                    <a:lnTo>
                      <a:pt x="74" y="101"/>
                    </a:lnTo>
                    <a:lnTo>
                      <a:pt x="76" y="101"/>
                    </a:lnTo>
                    <a:lnTo>
                      <a:pt x="76" y="101"/>
                    </a:lnTo>
                    <a:lnTo>
                      <a:pt x="80" y="101"/>
                    </a:lnTo>
                    <a:lnTo>
                      <a:pt x="82" y="100"/>
                    </a:lnTo>
                    <a:lnTo>
                      <a:pt x="84" y="98"/>
                    </a:lnTo>
                    <a:lnTo>
                      <a:pt x="85" y="95"/>
                    </a:lnTo>
                    <a:lnTo>
                      <a:pt x="86" y="90"/>
                    </a:lnTo>
                    <a:lnTo>
                      <a:pt x="86" y="85"/>
                    </a:lnTo>
                    <a:lnTo>
                      <a:pt x="85" y="81"/>
                    </a:lnTo>
                    <a:lnTo>
                      <a:pt x="84" y="78"/>
                    </a:lnTo>
                    <a:lnTo>
                      <a:pt x="82" y="75"/>
                    </a:lnTo>
                    <a:lnTo>
                      <a:pt x="80" y="74"/>
                    </a:lnTo>
                    <a:lnTo>
                      <a:pt x="76" y="74"/>
                    </a:lnTo>
                    <a:close/>
                    <a:moveTo>
                      <a:pt x="76" y="62"/>
                    </a:moveTo>
                    <a:lnTo>
                      <a:pt x="87" y="64"/>
                    </a:lnTo>
                    <a:lnTo>
                      <a:pt x="95" y="69"/>
                    </a:lnTo>
                    <a:lnTo>
                      <a:pt x="97" y="72"/>
                    </a:lnTo>
                    <a:lnTo>
                      <a:pt x="99" y="75"/>
                    </a:lnTo>
                    <a:lnTo>
                      <a:pt x="100" y="80"/>
                    </a:lnTo>
                    <a:lnTo>
                      <a:pt x="101" y="85"/>
                    </a:lnTo>
                    <a:lnTo>
                      <a:pt x="101" y="90"/>
                    </a:lnTo>
                    <a:lnTo>
                      <a:pt x="100" y="96"/>
                    </a:lnTo>
                    <a:lnTo>
                      <a:pt x="99" y="100"/>
                    </a:lnTo>
                    <a:lnTo>
                      <a:pt x="97" y="103"/>
                    </a:lnTo>
                    <a:lnTo>
                      <a:pt x="95" y="106"/>
                    </a:lnTo>
                    <a:lnTo>
                      <a:pt x="87" y="112"/>
                    </a:lnTo>
                    <a:lnTo>
                      <a:pt x="76" y="113"/>
                    </a:lnTo>
                    <a:lnTo>
                      <a:pt x="76" y="113"/>
                    </a:lnTo>
                    <a:lnTo>
                      <a:pt x="67" y="112"/>
                    </a:lnTo>
                    <a:lnTo>
                      <a:pt x="59" y="106"/>
                    </a:lnTo>
                    <a:lnTo>
                      <a:pt x="56" y="103"/>
                    </a:lnTo>
                    <a:lnTo>
                      <a:pt x="54" y="100"/>
                    </a:lnTo>
                    <a:lnTo>
                      <a:pt x="53" y="96"/>
                    </a:lnTo>
                    <a:lnTo>
                      <a:pt x="53" y="90"/>
                    </a:lnTo>
                    <a:lnTo>
                      <a:pt x="53" y="85"/>
                    </a:lnTo>
                    <a:lnTo>
                      <a:pt x="53" y="79"/>
                    </a:lnTo>
                    <a:lnTo>
                      <a:pt x="55" y="73"/>
                    </a:lnTo>
                    <a:lnTo>
                      <a:pt x="59" y="69"/>
                    </a:lnTo>
                    <a:lnTo>
                      <a:pt x="67" y="64"/>
                    </a:lnTo>
                    <a:lnTo>
                      <a:pt x="76" y="62"/>
                    </a:lnTo>
                    <a:close/>
                    <a:moveTo>
                      <a:pt x="24" y="12"/>
                    </a:moveTo>
                    <a:lnTo>
                      <a:pt x="21" y="12"/>
                    </a:lnTo>
                    <a:lnTo>
                      <a:pt x="19" y="13"/>
                    </a:lnTo>
                    <a:lnTo>
                      <a:pt x="17" y="16"/>
                    </a:lnTo>
                    <a:lnTo>
                      <a:pt x="15" y="19"/>
                    </a:lnTo>
                    <a:lnTo>
                      <a:pt x="14" y="23"/>
                    </a:lnTo>
                    <a:lnTo>
                      <a:pt x="14" y="28"/>
                    </a:lnTo>
                    <a:lnTo>
                      <a:pt x="15" y="33"/>
                    </a:lnTo>
                    <a:lnTo>
                      <a:pt x="17" y="36"/>
                    </a:lnTo>
                    <a:lnTo>
                      <a:pt x="19" y="38"/>
                    </a:lnTo>
                    <a:lnTo>
                      <a:pt x="21" y="39"/>
                    </a:lnTo>
                    <a:lnTo>
                      <a:pt x="24" y="39"/>
                    </a:lnTo>
                    <a:lnTo>
                      <a:pt x="24" y="39"/>
                    </a:lnTo>
                    <a:lnTo>
                      <a:pt x="27" y="39"/>
                    </a:lnTo>
                    <a:lnTo>
                      <a:pt x="29" y="38"/>
                    </a:lnTo>
                    <a:lnTo>
                      <a:pt x="30" y="36"/>
                    </a:lnTo>
                    <a:lnTo>
                      <a:pt x="33" y="33"/>
                    </a:lnTo>
                    <a:lnTo>
                      <a:pt x="34" y="28"/>
                    </a:lnTo>
                    <a:lnTo>
                      <a:pt x="34" y="23"/>
                    </a:lnTo>
                    <a:lnTo>
                      <a:pt x="33" y="19"/>
                    </a:lnTo>
                    <a:lnTo>
                      <a:pt x="30" y="16"/>
                    </a:lnTo>
                    <a:lnTo>
                      <a:pt x="29" y="13"/>
                    </a:lnTo>
                    <a:lnTo>
                      <a:pt x="26" y="12"/>
                    </a:lnTo>
                    <a:lnTo>
                      <a:pt x="24" y="12"/>
                    </a:lnTo>
                    <a:lnTo>
                      <a:pt x="24" y="12"/>
                    </a:lnTo>
                    <a:close/>
                    <a:moveTo>
                      <a:pt x="71" y="11"/>
                    </a:moveTo>
                    <a:lnTo>
                      <a:pt x="76" y="14"/>
                    </a:lnTo>
                    <a:lnTo>
                      <a:pt x="82" y="18"/>
                    </a:lnTo>
                    <a:lnTo>
                      <a:pt x="76" y="25"/>
                    </a:lnTo>
                    <a:lnTo>
                      <a:pt x="27" y="103"/>
                    </a:lnTo>
                    <a:lnTo>
                      <a:pt x="24" y="101"/>
                    </a:lnTo>
                    <a:lnTo>
                      <a:pt x="17" y="98"/>
                    </a:lnTo>
                    <a:lnTo>
                      <a:pt x="24" y="87"/>
                    </a:lnTo>
                    <a:lnTo>
                      <a:pt x="71" y="11"/>
                    </a:lnTo>
                    <a:close/>
                    <a:moveTo>
                      <a:pt x="24" y="0"/>
                    </a:moveTo>
                    <a:lnTo>
                      <a:pt x="24" y="0"/>
                    </a:lnTo>
                    <a:lnTo>
                      <a:pt x="34" y="2"/>
                    </a:lnTo>
                    <a:lnTo>
                      <a:pt x="41" y="6"/>
                    </a:lnTo>
                    <a:lnTo>
                      <a:pt x="44" y="10"/>
                    </a:lnTo>
                    <a:lnTo>
                      <a:pt x="46" y="13"/>
                    </a:lnTo>
                    <a:lnTo>
                      <a:pt x="48" y="18"/>
                    </a:lnTo>
                    <a:lnTo>
                      <a:pt x="48" y="23"/>
                    </a:lnTo>
                    <a:lnTo>
                      <a:pt x="48" y="28"/>
                    </a:lnTo>
                    <a:lnTo>
                      <a:pt x="48" y="34"/>
                    </a:lnTo>
                    <a:lnTo>
                      <a:pt x="46" y="38"/>
                    </a:lnTo>
                    <a:lnTo>
                      <a:pt x="44" y="41"/>
                    </a:lnTo>
                    <a:lnTo>
                      <a:pt x="41" y="44"/>
                    </a:lnTo>
                    <a:lnTo>
                      <a:pt x="34" y="50"/>
                    </a:lnTo>
                    <a:lnTo>
                      <a:pt x="24" y="51"/>
                    </a:lnTo>
                    <a:lnTo>
                      <a:pt x="24" y="51"/>
                    </a:lnTo>
                    <a:lnTo>
                      <a:pt x="14" y="50"/>
                    </a:lnTo>
                    <a:lnTo>
                      <a:pt x="6" y="44"/>
                    </a:lnTo>
                    <a:lnTo>
                      <a:pt x="4" y="41"/>
                    </a:lnTo>
                    <a:lnTo>
                      <a:pt x="2" y="38"/>
                    </a:lnTo>
                    <a:lnTo>
                      <a:pt x="0" y="34"/>
                    </a:lnTo>
                    <a:lnTo>
                      <a:pt x="0" y="28"/>
                    </a:lnTo>
                    <a:lnTo>
                      <a:pt x="0" y="23"/>
                    </a:lnTo>
                    <a:lnTo>
                      <a:pt x="0" y="18"/>
                    </a:lnTo>
                    <a:lnTo>
                      <a:pt x="2" y="13"/>
                    </a:lnTo>
                    <a:lnTo>
                      <a:pt x="4" y="10"/>
                    </a:lnTo>
                    <a:lnTo>
                      <a:pt x="6" y="7"/>
                    </a:lnTo>
                    <a:lnTo>
                      <a:pt x="13" y="2"/>
                    </a:lnTo>
                    <a:lnTo>
                      <a:pt x="24"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1" name="Freeform 51"/>
              <p:cNvSpPr/>
              <p:nvPr/>
            </p:nvSpPr>
            <p:spPr>
              <a:xfrm>
                <a:off x="5726160" y="1843920"/>
                <a:ext cx="55440" cy="74520"/>
              </a:xfrm>
              <a:custGeom>
                <a:avLst/>
                <a:gdLst/>
                <a:ahLst/>
                <a:rect l="l" t="t" r="r" b="b"/>
                <a:pathLst>
                  <a:path w="81" h="110">
                    <a:moveTo>
                      <a:pt x="45" y="29"/>
                    </a:moveTo>
                    <a:lnTo>
                      <a:pt x="44" y="32"/>
                    </a:lnTo>
                    <a:lnTo>
                      <a:pt x="34" y="49"/>
                    </a:lnTo>
                    <a:lnTo>
                      <a:pt x="21" y="69"/>
                    </a:lnTo>
                    <a:lnTo>
                      <a:pt x="46" y="69"/>
                    </a:lnTo>
                    <a:lnTo>
                      <a:pt x="46" y="29"/>
                    </a:lnTo>
                    <a:lnTo>
                      <a:pt x="45" y="29"/>
                    </a:lnTo>
                    <a:close/>
                    <a:moveTo>
                      <a:pt x="46" y="0"/>
                    </a:moveTo>
                    <a:lnTo>
                      <a:pt x="69" y="0"/>
                    </a:lnTo>
                    <a:lnTo>
                      <a:pt x="69" y="69"/>
                    </a:lnTo>
                    <a:lnTo>
                      <a:pt x="81" y="69"/>
                    </a:lnTo>
                    <a:lnTo>
                      <a:pt x="81" y="87"/>
                    </a:lnTo>
                    <a:lnTo>
                      <a:pt x="69" y="87"/>
                    </a:lnTo>
                    <a:lnTo>
                      <a:pt x="69" y="110"/>
                    </a:lnTo>
                    <a:lnTo>
                      <a:pt x="46" y="110"/>
                    </a:lnTo>
                    <a:lnTo>
                      <a:pt x="46" y="87"/>
                    </a:lnTo>
                    <a:lnTo>
                      <a:pt x="2" y="87"/>
                    </a:lnTo>
                    <a:lnTo>
                      <a:pt x="0" y="73"/>
                    </a:lnTo>
                    <a:lnTo>
                      <a:pt x="34" y="19"/>
                    </a:lnTo>
                    <a:lnTo>
                      <a:pt x="46"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2" name="Freeform 52"/>
              <p:cNvSpPr/>
              <p:nvPr/>
            </p:nvSpPr>
            <p:spPr>
              <a:xfrm>
                <a:off x="5938920" y="1843920"/>
                <a:ext cx="50760" cy="74520"/>
              </a:xfrm>
              <a:custGeom>
                <a:avLst/>
                <a:gdLst/>
                <a:ahLst/>
                <a:rect l="l" t="t" r="r" b="b"/>
                <a:pathLst>
                  <a:path w="73" h="111">
                    <a:moveTo>
                      <a:pt x="8" y="0"/>
                    </a:moveTo>
                    <a:lnTo>
                      <a:pt x="70" y="0"/>
                    </a:lnTo>
                    <a:lnTo>
                      <a:pt x="70" y="17"/>
                    </a:lnTo>
                    <a:lnTo>
                      <a:pt x="26" y="17"/>
                    </a:lnTo>
                    <a:lnTo>
                      <a:pt x="23" y="43"/>
                    </a:lnTo>
                    <a:lnTo>
                      <a:pt x="26" y="41"/>
                    </a:lnTo>
                    <a:lnTo>
                      <a:pt x="31" y="40"/>
                    </a:lnTo>
                    <a:lnTo>
                      <a:pt x="35" y="38"/>
                    </a:lnTo>
                    <a:lnTo>
                      <a:pt x="40" y="37"/>
                    </a:lnTo>
                    <a:lnTo>
                      <a:pt x="50" y="38"/>
                    </a:lnTo>
                    <a:lnTo>
                      <a:pt x="58" y="42"/>
                    </a:lnTo>
                    <a:lnTo>
                      <a:pt x="65" y="47"/>
                    </a:lnTo>
                    <a:lnTo>
                      <a:pt x="71" y="59"/>
                    </a:lnTo>
                    <a:lnTo>
                      <a:pt x="73" y="75"/>
                    </a:lnTo>
                    <a:lnTo>
                      <a:pt x="71" y="89"/>
                    </a:lnTo>
                    <a:lnTo>
                      <a:pt x="64" y="102"/>
                    </a:lnTo>
                    <a:lnTo>
                      <a:pt x="57" y="107"/>
                    </a:lnTo>
                    <a:lnTo>
                      <a:pt x="48" y="110"/>
                    </a:lnTo>
                    <a:lnTo>
                      <a:pt x="37" y="111"/>
                    </a:lnTo>
                    <a:lnTo>
                      <a:pt x="22" y="110"/>
                    </a:lnTo>
                    <a:lnTo>
                      <a:pt x="10" y="104"/>
                    </a:lnTo>
                    <a:lnTo>
                      <a:pt x="5" y="97"/>
                    </a:lnTo>
                    <a:lnTo>
                      <a:pt x="1" y="90"/>
                    </a:lnTo>
                    <a:lnTo>
                      <a:pt x="0" y="80"/>
                    </a:lnTo>
                    <a:lnTo>
                      <a:pt x="1" y="80"/>
                    </a:lnTo>
                    <a:lnTo>
                      <a:pt x="21" y="79"/>
                    </a:lnTo>
                    <a:lnTo>
                      <a:pt x="22" y="83"/>
                    </a:lnTo>
                    <a:lnTo>
                      <a:pt x="23" y="88"/>
                    </a:lnTo>
                    <a:lnTo>
                      <a:pt x="25" y="91"/>
                    </a:lnTo>
                    <a:lnTo>
                      <a:pt x="29" y="93"/>
                    </a:lnTo>
                    <a:lnTo>
                      <a:pt x="33" y="94"/>
                    </a:lnTo>
                    <a:lnTo>
                      <a:pt x="37" y="95"/>
                    </a:lnTo>
                    <a:lnTo>
                      <a:pt x="40" y="94"/>
                    </a:lnTo>
                    <a:lnTo>
                      <a:pt x="43" y="93"/>
                    </a:lnTo>
                    <a:lnTo>
                      <a:pt x="46" y="92"/>
                    </a:lnTo>
                    <a:lnTo>
                      <a:pt x="48" y="89"/>
                    </a:lnTo>
                    <a:lnTo>
                      <a:pt x="50" y="85"/>
                    </a:lnTo>
                    <a:lnTo>
                      <a:pt x="51" y="80"/>
                    </a:lnTo>
                    <a:lnTo>
                      <a:pt x="52" y="75"/>
                    </a:lnTo>
                    <a:lnTo>
                      <a:pt x="51" y="68"/>
                    </a:lnTo>
                    <a:lnTo>
                      <a:pt x="50" y="64"/>
                    </a:lnTo>
                    <a:lnTo>
                      <a:pt x="48" y="60"/>
                    </a:lnTo>
                    <a:lnTo>
                      <a:pt x="45" y="57"/>
                    </a:lnTo>
                    <a:lnTo>
                      <a:pt x="41" y="54"/>
                    </a:lnTo>
                    <a:lnTo>
                      <a:pt x="36" y="53"/>
                    </a:lnTo>
                    <a:lnTo>
                      <a:pt x="32" y="54"/>
                    </a:lnTo>
                    <a:lnTo>
                      <a:pt x="29" y="54"/>
                    </a:lnTo>
                    <a:lnTo>
                      <a:pt x="26" y="57"/>
                    </a:lnTo>
                    <a:lnTo>
                      <a:pt x="23" y="59"/>
                    </a:lnTo>
                    <a:lnTo>
                      <a:pt x="21" y="62"/>
                    </a:lnTo>
                    <a:lnTo>
                      <a:pt x="2" y="61"/>
                    </a:lnTo>
                    <a:lnTo>
                      <a:pt x="8"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3" name="Freeform 53"/>
              <p:cNvSpPr/>
              <p:nvPr/>
            </p:nvSpPr>
            <p:spPr>
              <a:xfrm>
                <a:off x="6147000" y="1842480"/>
                <a:ext cx="52200" cy="76320"/>
              </a:xfrm>
              <a:custGeom>
                <a:avLst/>
                <a:gdLst/>
                <a:ahLst/>
                <a:rect l="l" t="t" r="r" b="b"/>
                <a:pathLst>
                  <a:path w="77" h="113">
                    <a:moveTo>
                      <a:pt x="39" y="54"/>
                    </a:moveTo>
                    <a:lnTo>
                      <a:pt x="34" y="55"/>
                    </a:lnTo>
                    <a:lnTo>
                      <a:pt x="29" y="56"/>
                    </a:lnTo>
                    <a:lnTo>
                      <a:pt x="26" y="59"/>
                    </a:lnTo>
                    <a:lnTo>
                      <a:pt x="23" y="62"/>
                    </a:lnTo>
                    <a:lnTo>
                      <a:pt x="23" y="69"/>
                    </a:lnTo>
                    <a:lnTo>
                      <a:pt x="24" y="81"/>
                    </a:lnTo>
                    <a:lnTo>
                      <a:pt x="28" y="90"/>
                    </a:lnTo>
                    <a:lnTo>
                      <a:pt x="31" y="93"/>
                    </a:lnTo>
                    <a:lnTo>
                      <a:pt x="35" y="96"/>
                    </a:lnTo>
                    <a:lnTo>
                      <a:pt x="39" y="97"/>
                    </a:lnTo>
                    <a:lnTo>
                      <a:pt x="40" y="97"/>
                    </a:lnTo>
                    <a:lnTo>
                      <a:pt x="44" y="96"/>
                    </a:lnTo>
                    <a:lnTo>
                      <a:pt x="49" y="94"/>
                    </a:lnTo>
                    <a:lnTo>
                      <a:pt x="52" y="91"/>
                    </a:lnTo>
                    <a:lnTo>
                      <a:pt x="54" y="86"/>
                    </a:lnTo>
                    <a:lnTo>
                      <a:pt x="55" y="81"/>
                    </a:lnTo>
                    <a:lnTo>
                      <a:pt x="55" y="76"/>
                    </a:lnTo>
                    <a:lnTo>
                      <a:pt x="55" y="69"/>
                    </a:lnTo>
                    <a:lnTo>
                      <a:pt x="54" y="65"/>
                    </a:lnTo>
                    <a:lnTo>
                      <a:pt x="52" y="61"/>
                    </a:lnTo>
                    <a:lnTo>
                      <a:pt x="49" y="58"/>
                    </a:lnTo>
                    <a:lnTo>
                      <a:pt x="44" y="55"/>
                    </a:lnTo>
                    <a:lnTo>
                      <a:pt x="40" y="54"/>
                    </a:lnTo>
                    <a:lnTo>
                      <a:pt x="39" y="54"/>
                    </a:lnTo>
                    <a:close/>
                    <a:moveTo>
                      <a:pt x="45" y="0"/>
                    </a:moveTo>
                    <a:lnTo>
                      <a:pt x="51" y="1"/>
                    </a:lnTo>
                    <a:lnTo>
                      <a:pt x="57" y="1"/>
                    </a:lnTo>
                    <a:lnTo>
                      <a:pt x="62" y="3"/>
                    </a:lnTo>
                    <a:lnTo>
                      <a:pt x="67" y="5"/>
                    </a:lnTo>
                    <a:lnTo>
                      <a:pt x="63" y="21"/>
                    </a:lnTo>
                    <a:lnTo>
                      <a:pt x="58" y="19"/>
                    </a:lnTo>
                    <a:lnTo>
                      <a:pt x="54" y="18"/>
                    </a:lnTo>
                    <a:lnTo>
                      <a:pt x="51" y="18"/>
                    </a:lnTo>
                    <a:lnTo>
                      <a:pt x="45" y="18"/>
                    </a:lnTo>
                    <a:lnTo>
                      <a:pt x="42" y="18"/>
                    </a:lnTo>
                    <a:lnTo>
                      <a:pt x="39" y="18"/>
                    </a:lnTo>
                    <a:lnTo>
                      <a:pt x="36" y="20"/>
                    </a:lnTo>
                    <a:lnTo>
                      <a:pt x="32" y="22"/>
                    </a:lnTo>
                    <a:lnTo>
                      <a:pt x="29" y="25"/>
                    </a:lnTo>
                    <a:lnTo>
                      <a:pt x="25" y="34"/>
                    </a:lnTo>
                    <a:lnTo>
                      <a:pt x="24" y="46"/>
                    </a:lnTo>
                    <a:lnTo>
                      <a:pt x="24" y="47"/>
                    </a:lnTo>
                    <a:lnTo>
                      <a:pt x="28" y="43"/>
                    </a:lnTo>
                    <a:lnTo>
                      <a:pt x="34" y="40"/>
                    </a:lnTo>
                    <a:lnTo>
                      <a:pt x="39" y="38"/>
                    </a:lnTo>
                    <a:lnTo>
                      <a:pt x="46" y="38"/>
                    </a:lnTo>
                    <a:lnTo>
                      <a:pt x="59" y="40"/>
                    </a:lnTo>
                    <a:lnTo>
                      <a:pt x="69" y="49"/>
                    </a:lnTo>
                    <a:lnTo>
                      <a:pt x="75" y="61"/>
                    </a:lnTo>
                    <a:lnTo>
                      <a:pt x="77" y="76"/>
                    </a:lnTo>
                    <a:lnTo>
                      <a:pt x="75" y="91"/>
                    </a:lnTo>
                    <a:lnTo>
                      <a:pt x="67" y="102"/>
                    </a:lnTo>
                    <a:lnTo>
                      <a:pt x="55" y="111"/>
                    </a:lnTo>
                    <a:lnTo>
                      <a:pt x="40" y="113"/>
                    </a:lnTo>
                    <a:lnTo>
                      <a:pt x="39" y="113"/>
                    </a:lnTo>
                    <a:lnTo>
                      <a:pt x="28" y="112"/>
                    </a:lnTo>
                    <a:lnTo>
                      <a:pt x="20" y="108"/>
                    </a:lnTo>
                    <a:lnTo>
                      <a:pt x="12" y="101"/>
                    </a:lnTo>
                    <a:lnTo>
                      <a:pt x="6" y="93"/>
                    </a:lnTo>
                    <a:lnTo>
                      <a:pt x="3" y="82"/>
                    </a:lnTo>
                    <a:lnTo>
                      <a:pt x="0" y="69"/>
                    </a:lnTo>
                    <a:lnTo>
                      <a:pt x="0" y="48"/>
                    </a:lnTo>
                    <a:lnTo>
                      <a:pt x="3" y="34"/>
                    </a:lnTo>
                    <a:lnTo>
                      <a:pt x="7" y="22"/>
                    </a:lnTo>
                    <a:lnTo>
                      <a:pt x="13" y="13"/>
                    </a:lnTo>
                    <a:lnTo>
                      <a:pt x="25" y="4"/>
                    </a:lnTo>
                    <a:lnTo>
                      <a:pt x="39" y="1"/>
                    </a:lnTo>
                    <a:lnTo>
                      <a:pt x="45"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4" name="Freeform 54"/>
              <p:cNvSpPr/>
              <p:nvPr/>
            </p:nvSpPr>
            <p:spPr>
              <a:xfrm>
                <a:off x="6356880" y="1863000"/>
                <a:ext cx="52200" cy="55440"/>
              </a:xfrm>
              <a:custGeom>
                <a:avLst/>
                <a:gdLst/>
                <a:ahLst/>
                <a:rect l="l" t="t" r="r" b="b"/>
                <a:pathLst>
                  <a:path w="76" h="82">
                    <a:moveTo>
                      <a:pt x="0" y="0"/>
                    </a:moveTo>
                    <a:lnTo>
                      <a:pt x="26" y="0"/>
                    </a:lnTo>
                    <a:lnTo>
                      <a:pt x="38" y="26"/>
                    </a:lnTo>
                    <a:lnTo>
                      <a:pt x="38" y="26"/>
                    </a:lnTo>
                    <a:lnTo>
                      <a:pt x="50" y="0"/>
                    </a:lnTo>
                    <a:lnTo>
                      <a:pt x="76" y="0"/>
                    </a:lnTo>
                    <a:lnTo>
                      <a:pt x="52" y="40"/>
                    </a:lnTo>
                    <a:lnTo>
                      <a:pt x="76" y="82"/>
                    </a:lnTo>
                    <a:lnTo>
                      <a:pt x="52" y="82"/>
                    </a:lnTo>
                    <a:lnTo>
                      <a:pt x="39" y="55"/>
                    </a:lnTo>
                    <a:lnTo>
                      <a:pt x="25" y="82"/>
                    </a:lnTo>
                    <a:lnTo>
                      <a:pt x="0" y="82"/>
                    </a:lnTo>
                    <a:lnTo>
                      <a:pt x="26" y="40"/>
                    </a:lnTo>
                    <a:lnTo>
                      <a:pt x="0"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795" name="Freeform 55"/>
              <p:cNvSpPr/>
              <p:nvPr/>
            </p:nvSpPr>
            <p:spPr>
              <a:xfrm>
                <a:off x="5732640" y="2045880"/>
                <a:ext cx="29880" cy="74520"/>
              </a:xfrm>
              <a:custGeom>
                <a:avLst/>
                <a:gdLst/>
                <a:ahLst/>
                <a:rect l="l" t="t" r="r" b="b"/>
                <a:pathLst>
                  <a:path w="45" h="110">
                    <a:moveTo>
                      <a:pt x="45" y="0"/>
                    </a:moveTo>
                    <a:lnTo>
                      <a:pt x="45" y="110"/>
                    </a:lnTo>
                    <a:lnTo>
                      <a:pt x="22" y="110"/>
                    </a:lnTo>
                    <a:lnTo>
                      <a:pt x="22" y="19"/>
                    </a:lnTo>
                    <a:lnTo>
                      <a:pt x="0" y="19"/>
                    </a:lnTo>
                    <a:lnTo>
                      <a:pt x="0" y="4"/>
                    </a:lnTo>
                    <a:lnTo>
                      <a:pt x="45"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6" name="Freeform 56"/>
              <p:cNvSpPr/>
              <p:nvPr/>
            </p:nvSpPr>
            <p:spPr>
              <a:xfrm>
                <a:off x="5937480" y="2045880"/>
                <a:ext cx="52200" cy="74520"/>
              </a:xfrm>
              <a:custGeom>
                <a:avLst/>
                <a:gdLst/>
                <a:ahLst/>
                <a:rect l="l" t="t" r="r" b="b"/>
                <a:pathLst>
                  <a:path w="76" h="111">
                    <a:moveTo>
                      <a:pt x="37" y="0"/>
                    </a:moveTo>
                    <a:lnTo>
                      <a:pt x="52" y="2"/>
                    </a:lnTo>
                    <a:lnTo>
                      <a:pt x="64" y="9"/>
                    </a:lnTo>
                    <a:lnTo>
                      <a:pt x="71" y="18"/>
                    </a:lnTo>
                    <a:lnTo>
                      <a:pt x="73" y="32"/>
                    </a:lnTo>
                    <a:lnTo>
                      <a:pt x="72" y="42"/>
                    </a:lnTo>
                    <a:lnTo>
                      <a:pt x="68" y="50"/>
                    </a:lnTo>
                    <a:lnTo>
                      <a:pt x="60" y="60"/>
                    </a:lnTo>
                    <a:lnTo>
                      <a:pt x="50" y="73"/>
                    </a:lnTo>
                    <a:lnTo>
                      <a:pt x="31" y="94"/>
                    </a:lnTo>
                    <a:lnTo>
                      <a:pt x="31" y="94"/>
                    </a:lnTo>
                    <a:lnTo>
                      <a:pt x="76" y="94"/>
                    </a:lnTo>
                    <a:lnTo>
                      <a:pt x="76" y="111"/>
                    </a:lnTo>
                    <a:lnTo>
                      <a:pt x="2" y="111"/>
                    </a:lnTo>
                    <a:lnTo>
                      <a:pt x="2" y="97"/>
                    </a:lnTo>
                    <a:lnTo>
                      <a:pt x="37" y="59"/>
                    </a:lnTo>
                    <a:lnTo>
                      <a:pt x="41" y="54"/>
                    </a:lnTo>
                    <a:lnTo>
                      <a:pt x="45" y="48"/>
                    </a:lnTo>
                    <a:lnTo>
                      <a:pt x="48" y="44"/>
                    </a:lnTo>
                    <a:lnTo>
                      <a:pt x="51" y="38"/>
                    </a:lnTo>
                    <a:lnTo>
                      <a:pt x="51" y="32"/>
                    </a:lnTo>
                    <a:lnTo>
                      <a:pt x="51" y="28"/>
                    </a:lnTo>
                    <a:lnTo>
                      <a:pt x="50" y="25"/>
                    </a:lnTo>
                    <a:lnTo>
                      <a:pt x="48" y="22"/>
                    </a:lnTo>
                    <a:lnTo>
                      <a:pt x="44" y="18"/>
                    </a:lnTo>
                    <a:lnTo>
                      <a:pt x="41" y="17"/>
                    </a:lnTo>
                    <a:lnTo>
                      <a:pt x="37" y="16"/>
                    </a:lnTo>
                    <a:lnTo>
                      <a:pt x="33" y="17"/>
                    </a:lnTo>
                    <a:lnTo>
                      <a:pt x="28" y="19"/>
                    </a:lnTo>
                    <a:lnTo>
                      <a:pt x="25" y="22"/>
                    </a:lnTo>
                    <a:lnTo>
                      <a:pt x="23" y="26"/>
                    </a:lnTo>
                    <a:lnTo>
                      <a:pt x="22" y="30"/>
                    </a:lnTo>
                    <a:lnTo>
                      <a:pt x="21" y="35"/>
                    </a:lnTo>
                    <a:lnTo>
                      <a:pt x="0" y="35"/>
                    </a:lnTo>
                    <a:lnTo>
                      <a:pt x="0" y="35"/>
                    </a:lnTo>
                    <a:lnTo>
                      <a:pt x="2" y="22"/>
                    </a:lnTo>
                    <a:lnTo>
                      <a:pt x="9" y="10"/>
                    </a:lnTo>
                    <a:lnTo>
                      <a:pt x="17" y="4"/>
                    </a:lnTo>
                    <a:lnTo>
                      <a:pt x="26" y="1"/>
                    </a:lnTo>
                    <a:lnTo>
                      <a:pt x="37"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7" name="Freeform 57"/>
              <p:cNvSpPr/>
              <p:nvPr/>
            </p:nvSpPr>
            <p:spPr>
              <a:xfrm>
                <a:off x="6145560" y="2045880"/>
                <a:ext cx="52200" cy="76320"/>
              </a:xfrm>
              <a:custGeom>
                <a:avLst/>
                <a:gdLst/>
                <a:ahLst/>
                <a:rect l="l" t="t" r="r" b="b"/>
                <a:pathLst>
                  <a:path w="77" h="113">
                    <a:moveTo>
                      <a:pt x="38" y="0"/>
                    </a:moveTo>
                    <a:lnTo>
                      <a:pt x="53" y="1"/>
                    </a:lnTo>
                    <a:lnTo>
                      <a:pt x="65" y="8"/>
                    </a:lnTo>
                    <a:lnTo>
                      <a:pt x="71" y="14"/>
                    </a:lnTo>
                    <a:lnTo>
                      <a:pt x="74" y="22"/>
                    </a:lnTo>
                    <a:lnTo>
                      <a:pt x="75" y="31"/>
                    </a:lnTo>
                    <a:lnTo>
                      <a:pt x="75" y="35"/>
                    </a:lnTo>
                    <a:lnTo>
                      <a:pt x="73" y="41"/>
                    </a:lnTo>
                    <a:lnTo>
                      <a:pt x="71" y="45"/>
                    </a:lnTo>
                    <a:lnTo>
                      <a:pt x="68" y="48"/>
                    </a:lnTo>
                    <a:lnTo>
                      <a:pt x="63" y="53"/>
                    </a:lnTo>
                    <a:lnTo>
                      <a:pt x="58" y="55"/>
                    </a:lnTo>
                    <a:lnTo>
                      <a:pt x="63" y="58"/>
                    </a:lnTo>
                    <a:lnTo>
                      <a:pt x="69" y="61"/>
                    </a:lnTo>
                    <a:lnTo>
                      <a:pt x="72" y="65"/>
                    </a:lnTo>
                    <a:lnTo>
                      <a:pt x="75" y="70"/>
                    </a:lnTo>
                    <a:lnTo>
                      <a:pt x="76" y="75"/>
                    </a:lnTo>
                    <a:lnTo>
                      <a:pt x="77" y="80"/>
                    </a:lnTo>
                    <a:lnTo>
                      <a:pt x="76" y="90"/>
                    </a:lnTo>
                    <a:lnTo>
                      <a:pt x="72" y="97"/>
                    </a:lnTo>
                    <a:lnTo>
                      <a:pt x="65" y="104"/>
                    </a:lnTo>
                    <a:lnTo>
                      <a:pt x="54" y="111"/>
                    </a:lnTo>
                    <a:lnTo>
                      <a:pt x="38" y="113"/>
                    </a:lnTo>
                    <a:lnTo>
                      <a:pt x="24" y="111"/>
                    </a:lnTo>
                    <a:lnTo>
                      <a:pt x="11" y="105"/>
                    </a:lnTo>
                    <a:lnTo>
                      <a:pt x="6" y="99"/>
                    </a:lnTo>
                    <a:lnTo>
                      <a:pt x="1" y="91"/>
                    </a:lnTo>
                    <a:lnTo>
                      <a:pt x="0" y="81"/>
                    </a:lnTo>
                    <a:lnTo>
                      <a:pt x="1" y="81"/>
                    </a:lnTo>
                    <a:lnTo>
                      <a:pt x="23" y="81"/>
                    </a:lnTo>
                    <a:lnTo>
                      <a:pt x="23" y="86"/>
                    </a:lnTo>
                    <a:lnTo>
                      <a:pt x="24" y="89"/>
                    </a:lnTo>
                    <a:lnTo>
                      <a:pt x="27" y="92"/>
                    </a:lnTo>
                    <a:lnTo>
                      <a:pt x="30" y="94"/>
                    </a:lnTo>
                    <a:lnTo>
                      <a:pt x="33" y="95"/>
                    </a:lnTo>
                    <a:lnTo>
                      <a:pt x="39" y="96"/>
                    </a:lnTo>
                    <a:lnTo>
                      <a:pt x="43" y="95"/>
                    </a:lnTo>
                    <a:lnTo>
                      <a:pt x="47" y="94"/>
                    </a:lnTo>
                    <a:lnTo>
                      <a:pt x="51" y="92"/>
                    </a:lnTo>
                    <a:lnTo>
                      <a:pt x="53" y="89"/>
                    </a:lnTo>
                    <a:lnTo>
                      <a:pt x="55" y="85"/>
                    </a:lnTo>
                    <a:lnTo>
                      <a:pt x="55" y="80"/>
                    </a:lnTo>
                    <a:lnTo>
                      <a:pt x="55" y="75"/>
                    </a:lnTo>
                    <a:lnTo>
                      <a:pt x="53" y="71"/>
                    </a:lnTo>
                    <a:lnTo>
                      <a:pt x="51" y="68"/>
                    </a:lnTo>
                    <a:lnTo>
                      <a:pt x="47" y="65"/>
                    </a:lnTo>
                    <a:lnTo>
                      <a:pt x="43" y="64"/>
                    </a:lnTo>
                    <a:lnTo>
                      <a:pt x="38" y="63"/>
                    </a:lnTo>
                    <a:lnTo>
                      <a:pt x="25" y="63"/>
                    </a:lnTo>
                    <a:lnTo>
                      <a:pt x="25" y="47"/>
                    </a:lnTo>
                    <a:lnTo>
                      <a:pt x="38" y="47"/>
                    </a:lnTo>
                    <a:lnTo>
                      <a:pt x="42" y="46"/>
                    </a:lnTo>
                    <a:lnTo>
                      <a:pt x="46" y="45"/>
                    </a:lnTo>
                    <a:lnTo>
                      <a:pt x="49" y="43"/>
                    </a:lnTo>
                    <a:lnTo>
                      <a:pt x="52" y="40"/>
                    </a:lnTo>
                    <a:lnTo>
                      <a:pt x="53" y="35"/>
                    </a:lnTo>
                    <a:lnTo>
                      <a:pt x="53" y="31"/>
                    </a:lnTo>
                    <a:lnTo>
                      <a:pt x="53" y="27"/>
                    </a:lnTo>
                    <a:lnTo>
                      <a:pt x="52" y="24"/>
                    </a:lnTo>
                    <a:lnTo>
                      <a:pt x="49" y="20"/>
                    </a:lnTo>
                    <a:lnTo>
                      <a:pt x="46" y="18"/>
                    </a:lnTo>
                    <a:lnTo>
                      <a:pt x="43" y="17"/>
                    </a:lnTo>
                    <a:lnTo>
                      <a:pt x="39" y="16"/>
                    </a:lnTo>
                    <a:lnTo>
                      <a:pt x="34" y="17"/>
                    </a:lnTo>
                    <a:lnTo>
                      <a:pt x="31" y="18"/>
                    </a:lnTo>
                    <a:lnTo>
                      <a:pt x="28" y="20"/>
                    </a:lnTo>
                    <a:lnTo>
                      <a:pt x="26" y="23"/>
                    </a:lnTo>
                    <a:lnTo>
                      <a:pt x="24" y="26"/>
                    </a:lnTo>
                    <a:lnTo>
                      <a:pt x="24" y="30"/>
                    </a:lnTo>
                    <a:lnTo>
                      <a:pt x="2" y="30"/>
                    </a:lnTo>
                    <a:lnTo>
                      <a:pt x="2" y="29"/>
                    </a:lnTo>
                    <a:lnTo>
                      <a:pt x="5" y="17"/>
                    </a:lnTo>
                    <a:lnTo>
                      <a:pt x="12" y="8"/>
                    </a:lnTo>
                    <a:lnTo>
                      <a:pt x="24" y="1"/>
                    </a:lnTo>
                    <a:lnTo>
                      <a:pt x="38"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8" name="Rectangle 58"/>
              <p:cNvSpPr/>
              <p:nvPr/>
            </p:nvSpPr>
            <p:spPr>
              <a:xfrm>
                <a:off x="6368040" y="2084040"/>
                <a:ext cx="29880" cy="10800"/>
              </a:xfrm>
              <a:prstGeom prst="rect">
                <a:avLst/>
              </a:prstGeom>
              <a:solidFill>
                <a:srgbClr val="ffffff"/>
              </a:solidFill>
              <a:ln w="0">
                <a:noFill/>
              </a:ln>
            </p:spPr>
            <p:style>
              <a:lnRef idx="0"/>
              <a:fillRef idx="0"/>
              <a:effectRef idx="0"/>
              <a:fontRef idx="minor"/>
            </p:style>
            <p:txBody>
              <a:bodyPr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9" name="Freeform 59"/>
              <p:cNvSpPr/>
              <p:nvPr/>
            </p:nvSpPr>
            <p:spPr>
              <a:xfrm>
                <a:off x="5727960" y="2247840"/>
                <a:ext cx="50760" cy="77760"/>
              </a:xfrm>
              <a:custGeom>
                <a:avLst/>
                <a:gdLst/>
                <a:ahLst/>
                <a:rect l="l" t="t" r="r" b="b"/>
                <a:pathLst>
                  <a:path w="73" h="114">
                    <a:moveTo>
                      <a:pt x="36" y="18"/>
                    </a:moveTo>
                    <a:lnTo>
                      <a:pt x="33" y="18"/>
                    </a:lnTo>
                    <a:lnTo>
                      <a:pt x="30" y="19"/>
                    </a:lnTo>
                    <a:lnTo>
                      <a:pt x="27" y="21"/>
                    </a:lnTo>
                    <a:lnTo>
                      <a:pt x="25" y="23"/>
                    </a:lnTo>
                    <a:lnTo>
                      <a:pt x="22" y="31"/>
                    </a:lnTo>
                    <a:lnTo>
                      <a:pt x="21" y="42"/>
                    </a:lnTo>
                    <a:lnTo>
                      <a:pt x="21" y="71"/>
                    </a:lnTo>
                    <a:lnTo>
                      <a:pt x="22" y="83"/>
                    </a:lnTo>
                    <a:lnTo>
                      <a:pt x="25" y="90"/>
                    </a:lnTo>
                    <a:lnTo>
                      <a:pt x="27" y="93"/>
                    </a:lnTo>
                    <a:lnTo>
                      <a:pt x="30" y="95"/>
                    </a:lnTo>
                    <a:lnTo>
                      <a:pt x="33" y="96"/>
                    </a:lnTo>
                    <a:lnTo>
                      <a:pt x="36" y="97"/>
                    </a:lnTo>
                    <a:lnTo>
                      <a:pt x="37" y="97"/>
                    </a:lnTo>
                    <a:lnTo>
                      <a:pt x="40" y="96"/>
                    </a:lnTo>
                    <a:lnTo>
                      <a:pt x="44" y="95"/>
                    </a:lnTo>
                    <a:lnTo>
                      <a:pt x="46" y="93"/>
                    </a:lnTo>
                    <a:lnTo>
                      <a:pt x="48" y="90"/>
                    </a:lnTo>
                    <a:lnTo>
                      <a:pt x="51" y="83"/>
                    </a:lnTo>
                    <a:lnTo>
                      <a:pt x="52" y="71"/>
                    </a:lnTo>
                    <a:lnTo>
                      <a:pt x="52" y="42"/>
                    </a:lnTo>
                    <a:lnTo>
                      <a:pt x="51" y="31"/>
                    </a:lnTo>
                    <a:lnTo>
                      <a:pt x="48" y="23"/>
                    </a:lnTo>
                    <a:lnTo>
                      <a:pt x="45" y="20"/>
                    </a:lnTo>
                    <a:lnTo>
                      <a:pt x="41" y="18"/>
                    </a:lnTo>
                    <a:lnTo>
                      <a:pt x="36" y="18"/>
                    </a:lnTo>
                    <a:lnTo>
                      <a:pt x="36" y="18"/>
                    </a:lnTo>
                    <a:close/>
                    <a:moveTo>
                      <a:pt x="36" y="0"/>
                    </a:moveTo>
                    <a:lnTo>
                      <a:pt x="36" y="0"/>
                    </a:lnTo>
                    <a:lnTo>
                      <a:pt x="47" y="1"/>
                    </a:lnTo>
                    <a:lnTo>
                      <a:pt x="56" y="5"/>
                    </a:lnTo>
                    <a:lnTo>
                      <a:pt x="64" y="11"/>
                    </a:lnTo>
                    <a:lnTo>
                      <a:pt x="69" y="20"/>
                    </a:lnTo>
                    <a:lnTo>
                      <a:pt x="72" y="31"/>
                    </a:lnTo>
                    <a:lnTo>
                      <a:pt x="73" y="44"/>
                    </a:lnTo>
                    <a:lnTo>
                      <a:pt x="73" y="69"/>
                    </a:lnTo>
                    <a:lnTo>
                      <a:pt x="72" y="83"/>
                    </a:lnTo>
                    <a:lnTo>
                      <a:pt x="69" y="93"/>
                    </a:lnTo>
                    <a:lnTo>
                      <a:pt x="64" y="102"/>
                    </a:lnTo>
                    <a:lnTo>
                      <a:pt x="56" y="108"/>
                    </a:lnTo>
                    <a:lnTo>
                      <a:pt x="48" y="113"/>
                    </a:lnTo>
                    <a:lnTo>
                      <a:pt x="37" y="114"/>
                    </a:lnTo>
                    <a:lnTo>
                      <a:pt x="36" y="114"/>
                    </a:lnTo>
                    <a:lnTo>
                      <a:pt x="26" y="113"/>
                    </a:lnTo>
                    <a:lnTo>
                      <a:pt x="17" y="108"/>
                    </a:lnTo>
                    <a:lnTo>
                      <a:pt x="9" y="102"/>
                    </a:lnTo>
                    <a:lnTo>
                      <a:pt x="4" y="93"/>
                    </a:lnTo>
                    <a:lnTo>
                      <a:pt x="1" y="83"/>
                    </a:lnTo>
                    <a:lnTo>
                      <a:pt x="0" y="69"/>
                    </a:lnTo>
                    <a:lnTo>
                      <a:pt x="0" y="44"/>
                    </a:lnTo>
                    <a:lnTo>
                      <a:pt x="1" y="31"/>
                    </a:lnTo>
                    <a:lnTo>
                      <a:pt x="4" y="20"/>
                    </a:lnTo>
                    <a:lnTo>
                      <a:pt x="9" y="11"/>
                    </a:lnTo>
                    <a:lnTo>
                      <a:pt x="17" y="5"/>
                    </a:lnTo>
                    <a:lnTo>
                      <a:pt x="25" y="1"/>
                    </a:lnTo>
                    <a:lnTo>
                      <a:pt x="36"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00" name="Freeform 60"/>
              <p:cNvSpPr/>
              <p:nvPr/>
            </p:nvSpPr>
            <p:spPr>
              <a:xfrm>
                <a:off x="5951880" y="2271600"/>
                <a:ext cx="25200" cy="27000"/>
              </a:xfrm>
              <a:custGeom>
                <a:avLst/>
                <a:gdLst/>
                <a:ahLst/>
                <a:rect l="l" t="t" r="r" b="b"/>
                <a:pathLst>
                  <a:path w="36" h="40">
                    <a:moveTo>
                      <a:pt x="18" y="0"/>
                    </a:moveTo>
                    <a:lnTo>
                      <a:pt x="22" y="0"/>
                    </a:lnTo>
                    <a:lnTo>
                      <a:pt x="27" y="2"/>
                    </a:lnTo>
                    <a:lnTo>
                      <a:pt x="31" y="4"/>
                    </a:lnTo>
                    <a:lnTo>
                      <a:pt x="33" y="8"/>
                    </a:lnTo>
                    <a:lnTo>
                      <a:pt x="35" y="12"/>
                    </a:lnTo>
                    <a:lnTo>
                      <a:pt x="36" y="17"/>
                    </a:lnTo>
                    <a:lnTo>
                      <a:pt x="36" y="24"/>
                    </a:lnTo>
                    <a:lnTo>
                      <a:pt x="35" y="28"/>
                    </a:lnTo>
                    <a:lnTo>
                      <a:pt x="33" y="33"/>
                    </a:lnTo>
                    <a:lnTo>
                      <a:pt x="31" y="36"/>
                    </a:lnTo>
                    <a:lnTo>
                      <a:pt x="28" y="38"/>
                    </a:lnTo>
                    <a:lnTo>
                      <a:pt x="22" y="40"/>
                    </a:lnTo>
                    <a:lnTo>
                      <a:pt x="18" y="40"/>
                    </a:lnTo>
                    <a:lnTo>
                      <a:pt x="13" y="40"/>
                    </a:lnTo>
                    <a:lnTo>
                      <a:pt x="8" y="38"/>
                    </a:lnTo>
                    <a:lnTo>
                      <a:pt x="4" y="36"/>
                    </a:lnTo>
                    <a:lnTo>
                      <a:pt x="2" y="33"/>
                    </a:lnTo>
                    <a:lnTo>
                      <a:pt x="0" y="28"/>
                    </a:lnTo>
                    <a:lnTo>
                      <a:pt x="0" y="24"/>
                    </a:lnTo>
                    <a:lnTo>
                      <a:pt x="0" y="17"/>
                    </a:lnTo>
                    <a:lnTo>
                      <a:pt x="0" y="12"/>
                    </a:lnTo>
                    <a:lnTo>
                      <a:pt x="2" y="8"/>
                    </a:lnTo>
                    <a:lnTo>
                      <a:pt x="4" y="5"/>
                    </a:lnTo>
                    <a:lnTo>
                      <a:pt x="8" y="2"/>
                    </a:lnTo>
                    <a:lnTo>
                      <a:pt x="13" y="0"/>
                    </a:lnTo>
                    <a:lnTo>
                      <a:pt x="18" y="0"/>
                    </a:lnTo>
                    <a:close/>
                  </a:path>
                </a:pathLst>
              </a:custGeom>
              <a:solidFill>
                <a:srgbClr val="ffffff"/>
              </a:solidFill>
              <a:ln w="0">
                <a:noFill/>
              </a:ln>
            </p:spPr>
            <p:style>
              <a:lnRef idx="0"/>
              <a:fillRef idx="0"/>
              <a:effectRef idx="0"/>
              <a:fontRef idx="minor"/>
            </p:style>
            <p:txBody>
              <a:bodyPr lIns="91080" rIns="91080" tIns="-18360" bIns="-18360" anchor="t">
                <a:noAutofit/>
              </a:bodyPr>
              <a:p>
                <a:endParaRPr b="0" lang="en-US" sz="1800" spc="-1" strike="noStrike">
                  <a:solidFill>
                    <a:srgbClr val="000000"/>
                  </a:solidFill>
                  <a:latin typeface="Gill Sans MT"/>
                </a:endParaRPr>
              </a:p>
            </p:txBody>
          </p:sp>
          <p:sp>
            <p:nvSpPr>
              <p:cNvPr id="801" name="Freeform 61"/>
              <p:cNvSpPr/>
              <p:nvPr/>
            </p:nvSpPr>
            <p:spPr>
              <a:xfrm>
                <a:off x="6147000" y="2262240"/>
                <a:ext cx="50760" cy="55440"/>
              </a:xfrm>
              <a:custGeom>
                <a:avLst/>
                <a:gdLst/>
                <a:ahLst/>
                <a:rect l="l" t="t" r="r" b="b"/>
                <a:pathLst>
                  <a:path w="76" h="80">
                    <a:moveTo>
                      <a:pt x="28" y="0"/>
                    </a:moveTo>
                    <a:lnTo>
                      <a:pt x="50" y="0"/>
                    </a:lnTo>
                    <a:lnTo>
                      <a:pt x="50" y="30"/>
                    </a:lnTo>
                    <a:lnTo>
                      <a:pt x="76" y="30"/>
                    </a:lnTo>
                    <a:lnTo>
                      <a:pt x="76" y="49"/>
                    </a:lnTo>
                    <a:lnTo>
                      <a:pt x="50" y="49"/>
                    </a:lnTo>
                    <a:lnTo>
                      <a:pt x="50" y="80"/>
                    </a:lnTo>
                    <a:lnTo>
                      <a:pt x="28" y="80"/>
                    </a:lnTo>
                    <a:lnTo>
                      <a:pt x="28" y="49"/>
                    </a:lnTo>
                    <a:lnTo>
                      <a:pt x="0" y="49"/>
                    </a:lnTo>
                    <a:lnTo>
                      <a:pt x="0" y="30"/>
                    </a:lnTo>
                    <a:lnTo>
                      <a:pt x="28" y="30"/>
                    </a:lnTo>
                    <a:lnTo>
                      <a:pt x="28"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802" name="Freeform 62"/>
              <p:cNvSpPr/>
              <p:nvPr/>
            </p:nvSpPr>
            <p:spPr>
              <a:xfrm>
                <a:off x="6358320" y="2273400"/>
                <a:ext cx="47520" cy="34920"/>
              </a:xfrm>
              <a:custGeom>
                <a:avLst/>
                <a:gdLst/>
                <a:ahLst/>
                <a:rect l="l" t="t" r="r" b="b"/>
                <a:pathLst>
                  <a:path w="69" h="50">
                    <a:moveTo>
                      <a:pt x="0" y="32"/>
                    </a:moveTo>
                    <a:lnTo>
                      <a:pt x="69" y="32"/>
                    </a:lnTo>
                    <a:lnTo>
                      <a:pt x="69" y="50"/>
                    </a:lnTo>
                    <a:lnTo>
                      <a:pt x="0" y="50"/>
                    </a:lnTo>
                    <a:lnTo>
                      <a:pt x="0" y="32"/>
                    </a:lnTo>
                    <a:close/>
                    <a:moveTo>
                      <a:pt x="0" y="0"/>
                    </a:moveTo>
                    <a:lnTo>
                      <a:pt x="69" y="0"/>
                    </a:lnTo>
                    <a:lnTo>
                      <a:pt x="69" y="17"/>
                    </a:lnTo>
                    <a:lnTo>
                      <a:pt x="0" y="17"/>
                    </a:lnTo>
                    <a:lnTo>
                      <a:pt x="0" y="0"/>
                    </a:lnTo>
                    <a:close/>
                  </a:path>
                </a:pathLst>
              </a:custGeom>
              <a:solidFill>
                <a:srgbClr val="ffffff"/>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grpSp>
        <p:grpSp>
          <p:nvGrpSpPr>
            <p:cNvPr id="803" name="Group 141"/>
            <p:cNvGrpSpPr/>
            <p:nvPr/>
          </p:nvGrpSpPr>
          <p:grpSpPr>
            <a:xfrm>
              <a:off x="6332760" y="1243800"/>
              <a:ext cx="807480" cy="414720"/>
              <a:chOff x="6332760" y="1243800"/>
              <a:chExt cx="807480" cy="414720"/>
            </a:xfrm>
          </p:grpSpPr>
          <p:sp>
            <p:nvSpPr>
              <p:cNvPr id="804" name="Freeform 63"/>
              <p:cNvSpPr/>
              <p:nvPr/>
            </p:nvSpPr>
            <p:spPr>
              <a:xfrm>
                <a:off x="6332760" y="1243800"/>
                <a:ext cx="807480" cy="414720"/>
              </a:xfrm>
              <a:custGeom>
                <a:avLst/>
                <a:gdLst/>
                <a:ahLst/>
                <a:rect l="l" t="t" r="r" b="b"/>
                <a:pathLst>
                  <a:path w="1184" h="608">
                    <a:moveTo>
                      <a:pt x="0" y="0"/>
                    </a:moveTo>
                    <a:lnTo>
                      <a:pt x="151" y="5"/>
                    </a:lnTo>
                    <a:lnTo>
                      <a:pt x="1165" y="496"/>
                    </a:lnTo>
                    <a:lnTo>
                      <a:pt x="1176" y="503"/>
                    </a:lnTo>
                    <a:lnTo>
                      <a:pt x="1182" y="514"/>
                    </a:lnTo>
                    <a:lnTo>
                      <a:pt x="1184" y="527"/>
                    </a:lnTo>
                    <a:lnTo>
                      <a:pt x="1180" y="540"/>
                    </a:lnTo>
                    <a:lnTo>
                      <a:pt x="1157" y="590"/>
                    </a:lnTo>
                    <a:lnTo>
                      <a:pt x="1148" y="599"/>
                    </a:lnTo>
                    <a:lnTo>
                      <a:pt x="1137" y="606"/>
                    </a:lnTo>
                    <a:lnTo>
                      <a:pt x="1125" y="608"/>
                    </a:lnTo>
                    <a:lnTo>
                      <a:pt x="1112" y="605"/>
                    </a:lnTo>
                    <a:lnTo>
                      <a:pt x="98" y="115"/>
                    </a:lnTo>
                    <a:lnTo>
                      <a:pt x="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5" name="Freeform 64"/>
              <p:cNvSpPr/>
              <p:nvPr/>
            </p:nvSpPr>
            <p:spPr>
              <a:xfrm>
                <a:off x="6332760" y="1243800"/>
                <a:ext cx="796680" cy="414720"/>
              </a:xfrm>
              <a:custGeom>
                <a:avLst/>
                <a:gdLst/>
                <a:ahLst/>
                <a:rect l="l" t="t" r="r" b="b"/>
                <a:pathLst>
                  <a:path w="1168" h="608">
                    <a:moveTo>
                      <a:pt x="0" y="0"/>
                    </a:moveTo>
                    <a:lnTo>
                      <a:pt x="129" y="63"/>
                    </a:lnTo>
                    <a:lnTo>
                      <a:pt x="1168" y="564"/>
                    </a:lnTo>
                    <a:lnTo>
                      <a:pt x="1157" y="590"/>
                    </a:lnTo>
                    <a:lnTo>
                      <a:pt x="1148" y="599"/>
                    </a:lnTo>
                    <a:lnTo>
                      <a:pt x="1137" y="606"/>
                    </a:lnTo>
                    <a:lnTo>
                      <a:pt x="1125" y="608"/>
                    </a:lnTo>
                    <a:lnTo>
                      <a:pt x="1112" y="605"/>
                    </a:lnTo>
                    <a:lnTo>
                      <a:pt x="98" y="115"/>
                    </a:lnTo>
                    <a:lnTo>
                      <a:pt x="0"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6" name="Freeform 66"/>
              <p:cNvSpPr/>
              <p:nvPr/>
            </p:nvSpPr>
            <p:spPr>
              <a:xfrm>
                <a:off x="6332760" y="1243800"/>
                <a:ext cx="750600" cy="397440"/>
              </a:xfrm>
              <a:custGeom>
                <a:avLst/>
                <a:gdLst/>
                <a:ahLst/>
                <a:rect l="l" t="t" r="r" b="b"/>
                <a:pathLst>
                  <a:path w="1100" h="583">
                    <a:moveTo>
                      <a:pt x="0" y="0"/>
                    </a:moveTo>
                    <a:lnTo>
                      <a:pt x="129" y="63"/>
                    </a:lnTo>
                    <a:lnTo>
                      <a:pt x="1100" y="531"/>
                    </a:lnTo>
                    <a:lnTo>
                      <a:pt x="1085" y="559"/>
                    </a:lnTo>
                    <a:lnTo>
                      <a:pt x="1068" y="583"/>
                    </a:lnTo>
                    <a:lnTo>
                      <a:pt x="98" y="115"/>
                    </a:lnTo>
                    <a:lnTo>
                      <a:pt x="0" y="0"/>
                    </a:lnTo>
                    <a:close/>
                  </a:path>
                </a:pathLst>
              </a:custGeom>
              <a:solidFill>
                <a:srgbClr val="70e7a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7" name="Freeform 67"/>
              <p:cNvSpPr/>
              <p:nvPr/>
            </p:nvSpPr>
            <p:spPr>
              <a:xfrm>
                <a:off x="6332760" y="1243800"/>
                <a:ext cx="740880" cy="386280"/>
              </a:xfrm>
              <a:custGeom>
                <a:avLst/>
                <a:gdLst/>
                <a:ahLst/>
                <a:rect l="l" t="t" r="r" b="b"/>
                <a:pathLst>
                  <a:path w="1086" h="566">
                    <a:moveTo>
                      <a:pt x="0" y="0"/>
                    </a:moveTo>
                    <a:lnTo>
                      <a:pt x="151" y="5"/>
                    </a:lnTo>
                    <a:lnTo>
                      <a:pt x="1086" y="457"/>
                    </a:lnTo>
                    <a:lnTo>
                      <a:pt x="1072" y="497"/>
                    </a:lnTo>
                    <a:lnTo>
                      <a:pt x="1055" y="534"/>
                    </a:lnTo>
                    <a:lnTo>
                      <a:pt x="1034" y="566"/>
                    </a:lnTo>
                    <a:lnTo>
                      <a:pt x="98" y="115"/>
                    </a:lnTo>
                    <a:lnTo>
                      <a:pt x="0" y="0"/>
                    </a:lnTo>
                    <a:close/>
                  </a:path>
                </a:pathLst>
              </a:custGeom>
              <a:solidFill>
                <a:srgbClr val="c0c5ca"/>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8" name="Freeform 68"/>
              <p:cNvSpPr/>
              <p:nvPr/>
            </p:nvSpPr>
            <p:spPr>
              <a:xfrm>
                <a:off x="6332760" y="1243800"/>
                <a:ext cx="726840" cy="386280"/>
              </a:xfrm>
              <a:custGeom>
                <a:avLst/>
                <a:gdLst/>
                <a:ahLst/>
                <a:rect l="l" t="t" r="r" b="b"/>
                <a:pathLst>
                  <a:path w="1065" h="566">
                    <a:moveTo>
                      <a:pt x="0" y="0"/>
                    </a:moveTo>
                    <a:lnTo>
                      <a:pt x="129" y="63"/>
                    </a:lnTo>
                    <a:lnTo>
                      <a:pt x="1065" y="514"/>
                    </a:lnTo>
                    <a:lnTo>
                      <a:pt x="1050" y="542"/>
                    </a:lnTo>
                    <a:lnTo>
                      <a:pt x="1034" y="566"/>
                    </a:lnTo>
                    <a:lnTo>
                      <a:pt x="98" y="115"/>
                    </a:lnTo>
                    <a:lnTo>
                      <a:pt x="0" y="0"/>
                    </a:lnTo>
                    <a:close/>
                  </a:path>
                </a:pathLst>
              </a:custGeom>
              <a:solidFill>
                <a:srgbClr val="6c7781"/>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9" name="Freeform 69"/>
              <p:cNvSpPr/>
              <p:nvPr/>
            </p:nvSpPr>
            <p:spPr>
              <a:xfrm>
                <a:off x="6332760" y="1243800"/>
                <a:ext cx="102960" cy="77760"/>
              </a:xfrm>
              <a:custGeom>
                <a:avLst/>
                <a:gdLst/>
                <a:ahLst/>
                <a:rect l="l" t="t" r="r" b="b"/>
                <a:pathLst>
                  <a:path w="151" h="115">
                    <a:moveTo>
                      <a:pt x="0" y="0"/>
                    </a:moveTo>
                    <a:lnTo>
                      <a:pt x="151" y="5"/>
                    </a:lnTo>
                    <a:lnTo>
                      <a:pt x="142" y="34"/>
                    </a:lnTo>
                    <a:lnTo>
                      <a:pt x="129" y="63"/>
                    </a:lnTo>
                    <a:lnTo>
                      <a:pt x="114" y="89"/>
                    </a:lnTo>
                    <a:lnTo>
                      <a:pt x="98" y="115"/>
                    </a:lnTo>
                    <a:lnTo>
                      <a:pt x="0" y="0"/>
                    </a:lnTo>
                    <a:close/>
                  </a:path>
                </a:pathLst>
              </a:custGeom>
              <a:solidFill>
                <a:srgbClr val="c0c5ca"/>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0" name="Freeform 70"/>
              <p:cNvSpPr/>
              <p:nvPr/>
            </p:nvSpPr>
            <p:spPr>
              <a:xfrm>
                <a:off x="6332760" y="1243800"/>
                <a:ext cx="87120" cy="77760"/>
              </a:xfrm>
              <a:custGeom>
                <a:avLst/>
                <a:gdLst/>
                <a:ahLst/>
                <a:rect l="l" t="t" r="r" b="b"/>
                <a:pathLst>
                  <a:path w="129" h="115">
                    <a:moveTo>
                      <a:pt x="0" y="0"/>
                    </a:moveTo>
                    <a:lnTo>
                      <a:pt x="129" y="63"/>
                    </a:lnTo>
                    <a:lnTo>
                      <a:pt x="114" y="89"/>
                    </a:lnTo>
                    <a:lnTo>
                      <a:pt x="98" y="115"/>
                    </a:lnTo>
                    <a:lnTo>
                      <a:pt x="0" y="0"/>
                    </a:lnTo>
                    <a:close/>
                  </a:path>
                </a:pathLst>
              </a:custGeom>
              <a:solidFill>
                <a:srgbClr val="969fa7"/>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1" name="Freeform 71"/>
              <p:cNvSpPr/>
              <p:nvPr/>
            </p:nvSpPr>
            <p:spPr>
              <a:xfrm>
                <a:off x="6332760" y="1243800"/>
                <a:ext cx="33120" cy="25200"/>
              </a:xfrm>
              <a:custGeom>
                <a:avLst/>
                <a:gdLst/>
                <a:ahLst/>
                <a:rect l="l" t="t" r="r" b="b"/>
                <a:pathLst>
                  <a:path w="50" h="38">
                    <a:moveTo>
                      <a:pt x="0" y="0"/>
                    </a:moveTo>
                    <a:lnTo>
                      <a:pt x="50" y="2"/>
                    </a:lnTo>
                    <a:lnTo>
                      <a:pt x="43" y="20"/>
                    </a:lnTo>
                    <a:lnTo>
                      <a:pt x="32" y="38"/>
                    </a:lnTo>
                    <a:lnTo>
                      <a:pt x="0" y="0"/>
                    </a:lnTo>
                    <a:close/>
                  </a:path>
                </a:pathLst>
              </a:custGeom>
              <a:solidFill>
                <a:srgbClr val="ffffff"/>
              </a:solidFill>
              <a:ln w="0">
                <a:noFill/>
              </a:ln>
            </p:spPr>
            <p:style>
              <a:lnRef idx="0"/>
              <a:fillRef idx="0"/>
              <a:effectRef idx="0"/>
              <a:fontRef idx="minor"/>
            </p:style>
            <p:txBody>
              <a:bodyPr lIns="91080" rIns="91080" tIns="-20160" bIns="-20160" anchor="t">
                <a:noAutofit/>
              </a:bodyPr>
              <a:p>
                <a:endParaRPr b="0" lang="en-US" sz="1800" spc="-1" strike="noStrike">
                  <a:solidFill>
                    <a:srgbClr val="000000"/>
                  </a:solidFill>
                  <a:latin typeface="Gill Sans MT"/>
                </a:endParaRPr>
              </a:p>
            </p:txBody>
          </p:sp>
        </p:grpSp>
      </p:grpSp>
      <p:grpSp>
        <p:nvGrpSpPr>
          <p:cNvPr id="812" name="Group 198"/>
          <p:cNvGrpSpPr/>
          <p:nvPr/>
        </p:nvGrpSpPr>
        <p:grpSpPr>
          <a:xfrm>
            <a:off x="1243080" y="762120"/>
            <a:ext cx="1743120" cy="1830240"/>
            <a:chOff x="1243080" y="762120"/>
            <a:chExt cx="1743120" cy="1830240"/>
          </a:xfrm>
        </p:grpSpPr>
        <p:sp>
          <p:nvSpPr>
            <p:cNvPr id="813" name="Freeform 199"/>
            <p:cNvSpPr/>
            <p:nvPr/>
          </p:nvSpPr>
          <p:spPr>
            <a:xfrm>
              <a:off x="1243080" y="842760"/>
              <a:ext cx="1743120" cy="1749600"/>
            </a:xfrm>
            <a:custGeom>
              <a:avLst/>
              <a:gdLst/>
              <a:ahLst/>
              <a:rect l="l" t="t" r="r" b="b"/>
              <a:pathLst>
                <a:path w="5758" h="5781">
                  <a:moveTo>
                    <a:pt x="2974" y="5779"/>
                  </a:moveTo>
                  <a:lnTo>
                    <a:pt x="2973" y="5779"/>
                  </a:lnTo>
                  <a:lnTo>
                    <a:pt x="2954" y="5779"/>
                  </a:lnTo>
                  <a:lnTo>
                    <a:pt x="2936" y="5781"/>
                  </a:lnTo>
                  <a:lnTo>
                    <a:pt x="2923" y="5781"/>
                  </a:lnTo>
                  <a:lnTo>
                    <a:pt x="2918" y="5781"/>
                  </a:lnTo>
                  <a:lnTo>
                    <a:pt x="2899" y="5781"/>
                  </a:lnTo>
                  <a:lnTo>
                    <a:pt x="2879" y="5781"/>
                  </a:lnTo>
                  <a:lnTo>
                    <a:pt x="2923" y="5781"/>
                  </a:lnTo>
                  <a:lnTo>
                    <a:pt x="2974" y="5779"/>
                  </a:lnTo>
                  <a:close/>
                  <a:moveTo>
                    <a:pt x="2806" y="5612"/>
                  </a:moveTo>
                  <a:lnTo>
                    <a:pt x="2810" y="5612"/>
                  </a:lnTo>
                  <a:lnTo>
                    <a:pt x="2828" y="5612"/>
                  </a:lnTo>
                  <a:lnTo>
                    <a:pt x="2844" y="5612"/>
                  </a:lnTo>
                  <a:lnTo>
                    <a:pt x="2863" y="5614"/>
                  </a:lnTo>
                  <a:lnTo>
                    <a:pt x="2879" y="5614"/>
                  </a:lnTo>
                  <a:lnTo>
                    <a:pt x="2879" y="5781"/>
                  </a:lnTo>
                  <a:lnTo>
                    <a:pt x="2861" y="5781"/>
                  </a:lnTo>
                  <a:lnTo>
                    <a:pt x="2843" y="5781"/>
                  </a:lnTo>
                  <a:lnTo>
                    <a:pt x="2824" y="5781"/>
                  </a:lnTo>
                  <a:lnTo>
                    <a:pt x="2806" y="5779"/>
                  </a:lnTo>
                  <a:lnTo>
                    <a:pt x="2800" y="5779"/>
                  </a:lnTo>
                  <a:lnTo>
                    <a:pt x="2775" y="5775"/>
                  </a:lnTo>
                  <a:lnTo>
                    <a:pt x="2753" y="5763"/>
                  </a:lnTo>
                  <a:lnTo>
                    <a:pt x="2734" y="5744"/>
                  </a:lnTo>
                  <a:lnTo>
                    <a:pt x="2723" y="5722"/>
                  </a:lnTo>
                  <a:lnTo>
                    <a:pt x="2720" y="5698"/>
                  </a:lnTo>
                  <a:lnTo>
                    <a:pt x="2723" y="5673"/>
                  </a:lnTo>
                  <a:lnTo>
                    <a:pt x="2734" y="5649"/>
                  </a:lnTo>
                  <a:lnTo>
                    <a:pt x="2753" y="5629"/>
                  </a:lnTo>
                  <a:lnTo>
                    <a:pt x="2778" y="5616"/>
                  </a:lnTo>
                  <a:lnTo>
                    <a:pt x="2806" y="5612"/>
                  </a:lnTo>
                  <a:close/>
                  <a:moveTo>
                    <a:pt x="2967" y="5612"/>
                  </a:moveTo>
                  <a:lnTo>
                    <a:pt x="2951" y="5612"/>
                  </a:lnTo>
                  <a:lnTo>
                    <a:pt x="2932" y="5612"/>
                  </a:lnTo>
                  <a:lnTo>
                    <a:pt x="2923" y="5612"/>
                  </a:lnTo>
                  <a:lnTo>
                    <a:pt x="2916" y="5612"/>
                  </a:lnTo>
                  <a:lnTo>
                    <a:pt x="2897" y="5614"/>
                  </a:lnTo>
                  <a:lnTo>
                    <a:pt x="2879" y="5614"/>
                  </a:lnTo>
                  <a:lnTo>
                    <a:pt x="2923" y="5612"/>
                  </a:lnTo>
                  <a:lnTo>
                    <a:pt x="2967" y="5612"/>
                  </a:lnTo>
                  <a:lnTo>
                    <a:pt x="2989" y="5614"/>
                  </a:lnTo>
                  <a:lnTo>
                    <a:pt x="3007" y="5621"/>
                  </a:lnTo>
                  <a:lnTo>
                    <a:pt x="3029" y="5636"/>
                  </a:lnTo>
                  <a:lnTo>
                    <a:pt x="3044" y="5656"/>
                  </a:lnTo>
                  <a:lnTo>
                    <a:pt x="3053" y="5680"/>
                  </a:lnTo>
                  <a:lnTo>
                    <a:pt x="3053" y="5702"/>
                  </a:lnTo>
                  <a:lnTo>
                    <a:pt x="3050" y="5726"/>
                  </a:lnTo>
                  <a:lnTo>
                    <a:pt x="3039" y="5746"/>
                  </a:lnTo>
                  <a:lnTo>
                    <a:pt x="3022" y="5763"/>
                  </a:lnTo>
                  <a:lnTo>
                    <a:pt x="3000" y="5774"/>
                  </a:lnTo>
                  <a:lnTo>
                    <a:pt x="2974" y="5779"/>
                  </a:lnTo>
                  <a:lnTo>
                    <a:pt x="2967" y="5612"/>
                  </a:lnTo>
                  <a:close/>
                  <a:moveTo>
                    <a:pt x="3451" y="5554"/>
                  </a:moveTo>
                  <a:lnTo>
                    <a:pt x="3485" y="5717"/>
                  </a:lnTo>
                  <a:lnTo>
                    <a:pt x="3465" y="5719"/>
                  </a:lnTo>
                  <a:lnTo>
                    <a:pt x="3445" y="5715"/>
                  </a:lnTo>
                  <a:lnTo>
                    <a:pt x="3427" y="5708"/>
                  </a:lnTo>
                  <a:lnTo>
                    <a:pt x="3405" y="5691"/>
                  </a:lnTo>
                  <a:lnTo>
                    <a:pt x="3392" y="5669"/>
                  </a:lnTo>
                  <a:lnTo>
                    <a:pt x="3385" y="5647"/>
                  </a:lnTo>
                  <a:lnTo>
                    <a:pt x="3387" y="5621"/>
                  </a:lnTo>
                  <a:lnTo>
                    <a:pt x="3394" y="5599"/>
                  </a:lnTo>
                  <a:lnTo>
                    <a:pt x="3407" y="5579"/>
                  </a:lnTo>
                  <a:lnTo>
                    <a:pt x="3425" y="5563"/>
                  </a:lnTo>
                  <a:lnTo>
                    <a:pt x="3451" y="5554"/>
                  </a:lnTo>
                  <a:close/>
                  <a:moveTo>
                    <a:pt x="2136" y="5515"/>
                  </a:moveTo>
                  <a:lnTo>
                    <a:pt x="2165" y="5519"/>
                  </a:lnTo>
                  <a:lnTo>
                    <a:pt x="2169" y="5519"/>
                  </a:lnTo>
                  <a:lnTo>
                    <a:pt x="2183" y="5524"/>
                  </a:lnTo>
                  <a:lnTo>
                    <a:pt x="2200" y="5528"/>
                  </a:lnTo>
                  <a:lnTo>
                    <a:pt x="2216" y="5532"/>
                  </a:lnTo>
                  <a:lnTo>
                    <a:pt x="2233" y="5535"/>
                  </a:lnTo>
                  <a:lnTo>
                    <a:pt x="2249" y="5539"/>
                  </a:lnTo>
                  <a:lnTo>
                    <a:pt x="2266" y="5544"/>
                  </a:lnTo>
                  <a:lnTo>
                    <a:pt x="2282" y="5548"/>
                  </a:lnTo>
                  <a:lnTo>
                    <a:pt x="2299" y="5552"/>
                  </a:lnTo>
                  <a:lnTo>
                    <a:pt x="2315" y="5555"/>
                  </a:lnTo>
                  <a:lnTo>
                    <a:pt x="2322" y="5555"/>
                  </a:lnTo>
                  <a:lnTo>
                    <a:pt x="2346" y="5565"/>
                  </a:lnTo>
                  <a:lnTo>
                    <a:pt x="2366" y="5581"/>
                  </a:lnTo>
                  <a:lnTo>
                    <a:pt x="2381" y="5601"/>
                  </a:lnTo>
                  <a:lnTo>
                    <a:pt x="2386" y="5623"/>
                  </a:lnTo>
                  <a:lnTo>
                    <a:pt x="2388" y="5649"/>
                  </a:lnTo>
                  <a:lnTo>
                    <a:pt x="2381" y="5671"/>
                  </a:lnTo>
                  <a:lnTo>
                    <a:pt x="2368" y="5693"/>
                  </a:lnTo>
                  <a:lnTo>
                    <a:pt x="2348" y="5709"/>
                  </a:lnTo>
                  <a:lnTo>
                    <a:pt x="2330" y="5719"/>
                  </a:lnTo>
                  <a:lnTo>
                    <a:pt x="2310" y="5722"/>
                  </a:lnTo>
                  <a:lnTo>
                    <a:pt x="2288" y="5720"/>
                  </a:lnTo>
                  <a:lnTo>
                    <a:pt x="2280" y="5719"/>
                  </a:lnTo>
                  <a:lnTo>
                    <a:pt x="2264" y="5715"/>
                  </a:lnTo>
                  <a:lnTo>
                    <a:pt x="2245" y="5711"/>
                  </a:lnTo>
                  <a:lnTo>
                    <a:pt x="2227" y="5708"/>
                  </a:lnTo>
                  <a:lnTo>
                    <a:pt x="2211" y="5702"/>
                  </a:lnTo>
                  <a:lnTo>
                    <a:pt x="2192" y="5698"/>
                  </a:lnTo>
                  <a:lnTo>
                    <a:pt x="2176" y="5695"/>
                  </a:lnTo>
                  <a:lnTo>
                    <a:pt x="2158" y="5689"/>
                  </a:lnTo>
                  <a:lnTo>
                    <a:pt x="2141" y="5686"/>
                  </a:lnTo>
                  <a:lnTo>
                    <a:pt x="2125" y="5680"/>
                  </a:lnTo>
                  <a:lnTo>
                    <a:pt x="2121" y="5680"/>
                  </a:lnTo>
                  <a:lnTo>
                    <a:pt x="2099" y="5671"/>
                  </a:lnTo>
                  <a:lnTo>
                    <a:pt x="2081" y="5656"/>
                  </a:lnTo>
                  <a:lnTo>
                    <a:pt x="2066" y="5631"/>
                  </a:lnTo>
                  <a:lnTo>
                    <a:pt x="2059" y="5605"/>
                  </a:lnTo>
                  <a:lnTo>
                    <a:pt x="2060" y="5579"/>
                  </a:lnTo>
                  <a:lnTo>
                    <a:pt x="2071" y="5555"/>
                  </a:lnTo>
                  <a:lnTo>
                    <a:pt x="2088" y="5535"/>
                  </a:lnTo>
                  <a:lnTo>
                    <a:pt x="2110" y="5522"/>
                  </a:lnTo>
                  <a:lnTo>
                    <a:pt x="2136" y="5515"/>
                  </a:lnTo>
                  <a:close/>
                  <a:moveTo>
                    <a:pt x="3608" y="5515"/>
                  </a:moveTo>
                  <a:lnTo>
                    <a:pt x="3592" y="5519"/>
                  </a:lnTo>
                  <a:lnTo>
                    <a:pt x="3575" y="5524"/>
                  </a:lnTo>
                  <a:lnTo>
                    <a:pt x="3559" y="5528"/>
                  </a:lnTo>
                  <a:lnTo>
                    <a:pt x="3548" y="5532"/>
                  </a:lnTo>
                  <a:lnTo>
                    <a:pt x="3544" y="5532"/>
                  </a:lnTo>
                  <a:lnTo>
                    <a:pt x="3528" y="5535"/>
                  </a:lnTo>
                  <a:lnTo>
                    <a:pt x="3511" y="5539"/>
                  </a:lnTo>
                  <a:lnTo>
                    <a:pt x="3495" y="5544"/>
                  </a:lnTo>
                  <a:lnTo>
                    <a:pt x="3478" y="5548"/>
                  </a:lnTo>
                  <a:lnTo>
                    <a:pt x="3462" y="5552"/>
                  </a:lnTo>
                  <a:lnTo>
                    <a:pt x="3451" y="5554"/>
                  </a:lnTo>
                  <a:lnTo>
                    <a:pt x="3548" y="5530"/>
                  </a:lnTo>
                  <a:lnTo>
                    <a:pt x="3608" y="5515"/>
                  </a:lnTo>
                  <a:close/>
                  <a:moveTo>
                    <a:pt x="3630" y="5511"/>
                  </a:moveTo>
                  <a:lnTo>
                    <a:pt x="3650" y="5513"/>
                  </a:lnTo>
                  <a:lnTo>
                    <a:pt x="3676" y="5524"/>
                  </a:lnTo>
                  <a:lnTo>
                    <a:pt x="3694" y="5541"/>
                  </a:lnTo>
                  <a:lnTo>
                    <a:pt x="3707" y="5559"/>
                  </a:lnTo>
                  <a:lnTo>
                    <a:pt x="3713" y="5583"/>
                  </a:lnTo>
                  <a:lnTo>
                    <a:pt x="3714" y="5605"/>
                  </a:lnTo>
                  <a:lnTo>
                    <a:pt x="3709" y="5629"/>
                  </a:lnTo>
                  <a:lnTo>
                    <a:pt x="3696" y="5649"/>
                  </a:lnTo>
                  <a:lnTo>
                    <a:pt x="3678" y="5665"/>
                  </a:lnTo>
                  <a:lnTo>
                    <a:pt x="3654" y="5676"/>
                  </a:lnTo>
                  <a:lnTo>
                    <a:pt x="3652" y="5676"/>
                  </a:lnTo>
                  <a:lnTo>
                    <a:pt x="3636" y="5680"/>
                  </a:lnTo>
                  <a:lnTo>
                    <a:pt x="3619" y="5686"/>
                  </a:lnTo>
                  <a:lnTo>
                    <a:pt x="3601" y="5689"/>
                  </a:lnTo>
                  <a:lnTo>
                    <a:pt x="3584" y="5695"/>
                  </a:lnTo>
                  <a:lnTo>
                    <a:pt x="3566" y="5698"/>
                  </a:lnTo>
                  <a:lnTo>
                    <a:pt x="3550" y="5702"/>
                  </a:lnTo>
                  <a:lnTo>
                    <a:pt x="3548" y="5704"/>
                  </a:lnTo>
                  <a:lnTo>
                    <a:pt x="3531" y="5708"/>
                  </a:lnTo>
                  <a:lnTo>
                    <a:pt x="3515" y="5711"/>
                  </a:lnTo>
                  <a:lnTo>
                    <a:pt x="3496" y="5715"/>
                  </a:lnTo>
                  <a:lnTo>
                    <a:pt x="3485" y="5717"/>
                  </a:lnTo>
                  <a:lnTo>
                    <a:pt x="3548" y="5616"/>
                  </a:lnTo>
                  <a:lnTo>
                    <a:pt x="3608" y="5515"/>
                  </a:lnTo>
                  <a:lnTo>
                    <a:pt x="3608" y="5515"/>
                  </a:lnTo>
                  <a:lnTo>
                    <a:pt x="3630" y="5511"/>
                  </a:lnTo>
                  <a:close/>
                  <a:moveTo>
                    <a:pt x="1537" y="5264"/>
                  </a:moveTo>
                  <a:lnTo>
                    <a:pt x="1564" y="5273"/>
                  </a:lnTo>
                  <a:lnTo>
                    <a:pt x="1570" y="5277"/>
                  </a:lnTo>
                  <a:lnTo>
                    <a:pt x="1584" y="5284"/>
                  </a:lnTo>
                  <a:lnTo>
                    <a:pt x="1599" y="5293"/>
                  </a:lnTo>
                  <a:lnTo>
                    <a:pt x="1614" y="5301"/>
                  </a:lnTo>
                  <a:lnTo>
                    <a:pt x="1626" y="5308"/>
                  </a:lnTo>
                  <a:lnTo>
                    <a:pt x="1641" y="5315"/>
                  </a:lnTo>
                  <a:lnTo>
                    <a:pt x="1656" y="5323"/>
                  </a:lnTo>
                  <a:lnTo>
                    <a:pt x="1672" y="5330"/>
                  </a:lnTo>
                  <a:lnTo>
                    <a:pt x="1687" y="5337"/>
                  </a:lnTo>
                  <a:lnTo>
                    <a:pt x="1701" y="5345"/>
                  </a:lnTo>
                  <a:lnTo>
                    <a:pt x="1709" y="5348"/>
                  </a:lnTo>
                  <a:lnTo>
                    <a:pt x="1729" y="5363"/>
                  </a:lnTo>
                  <a:lnTo>
                    <a:pt x="1744" y="5381"/>
                  </a:lnTo>
                  <a:lnTo>
                    <a:pt x="1755" y="5409"/>
                  </a:lnTo>
                  <a:lnTo>
                    <a:pt x="1755" y="5436"/>
                  </a:lnTo>
                  <a:lnTo>
                    <a:pt x="1747" y="5460"/>
                  </a:lnTo>
                  <a:lnTo>
                    <a:pt x="1733" y="5480"/>
                  </a:lnTo>
                  <a:lnTo>
                    <a:pt x="1714" y="5497"/>
                  </a:lnTo>
                  <a:lnTo>
                    <a:pt x="1691" y="5506"/>
                  </a:lnTo>
                  <a:lnTo>
                    <a:pt x="1663" y="5508"/>
                  </a:lnTo>
                  <a:lnTo>
                    <a:pt x="1636" y="5500"/>
                  </a:lnTo>
                  <a:lnTo>
                    <a:pt x="1628" y="5497"/>
                  </a:lnTo>
                  <a:lnTo>
                    <a:pt x="1612" y="5488"/>
                  </a:lnTo>
                  <a:lnTo>
                    <a:pt x="1597" y="5480"/>
                  </a:lnTo>
                  <a:lnTo>
                    <a:pt x="1581" y="5473"/>
                  </a:lnTo>
                  <a:lnTo>
                    <a:pt x="1566" y="5466"/>
                  </a:lnTo>
                  <a:lnTo>
                    <a:pt x="1549" y="5456"/>
                  </a:lnTo>
                  <a:lnTo>
                    <a:pt x="1535" y="5449"/>
                  </a:lnTo>
                  <a:lnTo>
                    <a:pt x="1518" y="5440"/>
                  </a:lnTo>
                  <a:lnTo>
                    <a:pt x="1504" y="5433"/>
                  </a:lnTo>
                  <a:lnTo>
                    <a:pt x="1489" y="5423"/>
                  </a:lnTo>
                  <a:lnTo>
                    <a:pt x="1484" y="5422"/>
                  </a:lnTo>
                  <a:lnTo>
                    <a:pt x="1463" y="5407"/>
                  </a:lnTo>
                  <a:lnTo>
                    <a:pt x="1451" y="5389"/>
                  </a:lnTo>
                  <a:lnTo>
                    <a:pt x="1441" y="5367"/>
                  </a:lnTo>
                  <a:lnTo>
                    <a:pt x="1440" y="5337"/>
                  </a:lnTo>
                  <a:lnTo>
                    <a:pt x="1449" y="5312"/>
                  </a:lnTo>
                  <a:lnTo>
                    <a:pt x="1463" y="5290"/>
                  </a:lnTo>
                  <a:lnTo>
                    <a:pt x="1484" y="5273"/>
                  </a:lnTo>
                  <a:lnTo>
                    <a:pt x="1509" y="5264"/>
                  </a:lnTo>
                  <a:lnTo>
                    <a:pt x="1537" y="5264"/>
                  </a:lnTo>
                  <a:close/>
                  <a:moveTo>
                    <a:pt x="4255" y="5256"/>
                  </a:moveTo>
                  <a:lnTo>
                    <a:pt x="4278" y="5262"/>
                  </a:lnTo>
                  <a:lnTo>
                    <a:pt x="4300" y="5275"/>
                  </a:lnTo>
                  <a:lnTo>
                    <a:pt x="4315" y="5291"/>
                  </a:lnTo>
                  <a:lnTo>
                    <a:pt x="4326" y="5312"/>
                  </a:lnTo>
                  <a:lnTo>
                    <a:pt x="4332" y="5334"/>
                  </a:lnTo>
                  <a:lnTo>
                    <a:pt x="4332" y="5356"/>
                  </a:lnTo>
                  <a:lnTo>
                    <a:pt x="4324" y="5378"/>
                  </a:lnTo>
                  <a:lnTo>
                    <a:pt x="4310" y="5398"/>
                  </a:lnTo>
                  <a:lnTo>
                    <a:pt x="4289" y="5414"/>
                  </a:lnTo>
                  <a:lnTo>
                    <a:pt x="4286" y="5416"/>
                  </a:lnTo>
                  <a:lnTo>
                    <a:pt x="4271" y="5423"/>
                  </a:lnTo>
                  <a:lnTo>
                    <a:pt x="4256" y="5433"/>
                  </a:lnTo>
                  <a:lnTo>
                    <a:pt x="4240" y="5440"/>
                  </a:lnTo>
                  <a:lnTo>
                    <a:pt x="4225" y="5449"/>
                  </a:lnTo>
                  <a:lnTo>
                    <a:pt x="4209" y="5456"/>
                  </a:lnTo>
                  <a:lnTo>
                    <a:pt x="4194" y="5466"/>
                  </a:lnTo>
                  <a:lnTo>
                    <a:pt x="4178" y="5473"/>
                  </a:lnTo>
                  <a:lnTo>
                    <a:pt x="4163" y="5480"/>
                  </a:lnTo>
                  <a:lnTo>
                    <a:pt x="4147" y="5488"/>
                  </a:lnTo>
                  <a:lnTo>
                    <a:pt x="4137" y="5493"/>
                  </a:lnTo>
                  <a:lnTo>
                    <a:pt x="4114" y="5500"/>
                  </a:lnTo>
                  <a:lnTo>
                    <a:pt x="4088" y="5500"/>
                  </a:lnTo>
                  <a:lnTo>
                    <a:pt x="4064" y="5493"/>
                  </a:lnTo>
                  <a:lnTo>
                    <a:pt x="4044" y="5480"/>
                  </a:lnTo>
                  <a:lnTo>
                    <a:pt x="4029" y="5462"/>
                  </a:lnTo>
                  <a:lnTo>
                    <a:pt x="4020" y="5442"/>
                  </a:lnTo>
                  <a:lnTo>
                    <a:pt x="4017" y="5420"/>
                  </a:lnTo>
                  <a:lnTo>
                    <a:pt x="4018" y="5398"/>
                  </a:lnTo>
                  <a:lnTo>
                    <a:pt x="4028" y="5376"/>
                  </a:lnTo>
                  <a:lnTo>
                    <a:pt x="4042" y="5357"/>
                  </a:lnTo>
                  <a:lnTo>
                    <a:pt x="4062" y="5343"/>
                  </a:lnTo>
                  <a:lnTo>
                    <a:pt x="4073" y="5337"/>
                  </a:lnTo>
                  <a:lnTo>
                    <a:pt x="4088" y="5330"/>
                  </a:lnTo>
                  <a:lnTo>
                    <a:pt x="4103" y="5323"/>
                  </a:lnTo>
                  <a:lnTo>
                    <a:pt x="4117" y="5315"/>
                  </a:lnTo>
                  <a:lnTo>
                    <a:pt x="4132" y="5308"/>
                  </a:lnTo>
                  <a:lnTo>
                    <a:pt x="4147" y="5301"/>
                  </a:lnTo>
                  <a:lnTo>
                    <a:pt x="4161" y="5293"/>
                  </a:lnTo>
                  <a:lnTo>
                    <a:pt x="4176" y="5284"/>
                  </a:lnTo>
                  <a:lnTo>
                    <a:pt x="4191" y="5277"/>
                  </a:lnTo>
                  <a:lnTo>
                    <a:pt x="4205" y="5269"/>
                  </a:lnTo>
                  <a:lnTo>
                    <a:pt x="4207" y="5267"/>
                  </a:lnTo>
                  <a:lnTo>
                    <a:pt x="4229" y="5258"/>
                  </a:lnTo>
                  <a:lnTo>
                    <a:pt x="4255" y="5256"/>
                  </a:lnTo>
                  <a:close/>
                  <a:moveTo>
                    <a:pt x="995" y="4873"/>
                  </a:moveTo>
                  <a:lnTo>
                    <a:pt x="1018" y="4881"/>
                  </a:lnTo>
                  <a:lnTo>
                    <a:pt x="1038" y="4893"/>
                  </a:lnTo>
                  <a:lnTo>
                    <a:pt x="1038" y="4895"/>
                  </a:lnTo>
                  <a:lnTo>
                    <a:pt x="1051" y="4906"/>
                  </a:lnTo>
                  <a:lnTo>
                    <a:pt x="1064" y="4917"/>
                  </a:lnTo>
                  <a:lnTo>
                    <a:pt x="1075" y="4928"/>
                  </a:lnTo>
                  <a:lnTo>
                    <a:pt x="1088" y="4939"/>
                  </a:lnTo>
                  <a:lnTo>
                    <a:pt x="1101" y="4950"/>
                  </a:lnTo>
                  <a:lnTo>
                    <a:pt x="1112" y="4959"/>
                  </a:lnTo>
                  <a:lnTo>
                    <a:pt x="1125" y="4970"/>
                  </a:lnTo>
                  <a:lnTo>
                    <a:pt x="1137" y="4981"/>
                  </a:lnTo>
                  <a:lnTo>
                    <a:pt x="1150" y="4992"/>
                  </a:lnTo>
                  <a:lnTo>
                    <a:pt x="1161" y="5002"/>
                  </a:lnTo>
                  <a:lnTo>
                    <a:pt x="1178" y="5020"/>
                  </a:lnTo>
                  <a:lnTo>
                    <a:pt x="1189" y="5042"/>
                  </a:lnTo>
                  <a:lnTo>
                    <a:pt x="1192" y="5069"/>
                  </a:lnTo>
                  <a:lnTo>
                    <a:pt x="1187" y="5095"/>
                  </a:lnTo>
                  <a:lnTo>
                    <a:pt x="1174" y="5117"/>
                  </a:lnTo>
                  <a:lnTo>
                    <a:pt x="1154" y="5135"/>
                  </a:lnTo>
                  <a:lnTo>
                    <a:pt x="1132" y="5146"/>
                  </a:lnTo>
                  <a:lnTo>
                    <a:pt x="1106" y="5150"/>
                  </a:lnTo>
                  <a:lnTo>
                    <a:pt x="1081" y="5145"/>
                  </a:lnTo>
                  <a:lnTo>
                    <a:pt x="1055" y="5130"/>
                  </a:lnTo>
                  <a:lnTo>
                    <a:pt x="1044" y="5121"/>
                  </a:lnTo>
                  <a:lnTo>
                    <a:pt x="1029" y="5110"/>
                  </a:lnTo>
                  <a:lnTo>
                    <a:pt x="1017" y="5099"/>
                  </a:lnTo>
                  <a:lnTo>
                    <a:pt x="1004" y="5088"/>
                  </a:lnTo>
                  <a:lnTo>
                    <a:pt x="991" y="5077"/>
                  </a:lnTo>
                  <a:lnTo>
                    <a:pt x="978" y="5064"/>
                  </a:lnTo>
                  <a:lnTo>
                    <a:pt x="965" y="5053"/>
                  </a:lnTo>
                  <a:lnTo>
                    <a:pt x="952" y="5042"/>
                  </a:lnTo>
                  <a:lnTo>
                    <a:pt x="940" y="5031"/>
                  </a:lnTo>
                  <a:lnTo>
                    <a:pt x="927" y="5018"/>
                  </a:lnTo>
                  <a:lnTo>
                    <a:pt x="925" y="5018"/>
                  </a:lnTo>
                  <a:lnTo>
                    <a:pt x="907" y="4994"/>
                  </a:lnTo>
                  <a:lnTo>
                    <a:pt x="899" y="4969"/>
                  </a:lnTo>
                  <a:lnTo>
                    <a:pt x="899" y="4943"/>
                  </a:lnTo>
                  <a:lnTo>
                    <a:pt x="907" y="4919"/>
                  </a:lnTo>
                  <a:lnTo>
                    <a:pt x="921" y="4899"/>
                  </a:lnTo>
                  <a:lnTo>
                    <a:pt x="941" y="4882"/>
                  </a:lnTo>
                  <a:lnTo>
                    <a:pt x="965" y="4873"/>
                  </a:lnTo>
                  <a:lnTo>
                    <a:pt x="995" y="4873"/>
                  </a:lnTo>
                  <a:close/>
                  <a:moveTo>
                    <a:pt x="4777" y="4862"/>
                  </a:moveTo>
                  <a:lnTo>
                    <a:pt x="4802" y="4864"/>
                  </a:lnTo>
                  <a:lnTo>
                    <a:pt x="4826" y="4871"/>
                  </a:lnTo>
                  <a:lnTo>
                    <a:pt x="4846" y="4886"/>
                  </a:lnTo>
                  <a:lnTo>
                    <a:pt x="4863" y="4908"/>
                  </a:lnTo>
                  <a:lnTo>
                    <a:pt x="4872" y="4934"/>
                  </a:lnTo>
                  <a:lnTo>
                    <a:pt x="4870" y="4961"/>
                  </a:lnTo>
                  <a:lnTo>
                    <a:pt x="4861" y="4985"/>
                  </a:lnTo>
                  <a:lnTo>
                    <a:pt x="4844" y="5007"/>
                  </a:lnTo>
                  <a:lnTo>
                    <a:pt x="4833" y="5018"/>
                  </a:lnTo>
                  <a:lnTo>
                    <a:pt x="4821" y="5031"/>
                  </a:lnTo>
                  <a:lnTo>
                    <a:pt x="4808" y="5042"/>
                  </a:lnTo>
                  <a:lnTo>
                    <a:pt x="4795" y="5053"/>
                  </a:lnTo>
                  <a:lnTo>
                    <a:pt x="4782" y="5064"/>
                  </a:lnTo>
                  <a:lnTo>
                    <a:pt x="4769" y="5077"/>
                  </a:lnTo>
                  <a:lnTo>
                    <a:pt x="4756" y="5088"/>
                  </a:lnTo>
                  <a:lnTo>
                    <a:pt x="4742" y="5099"/>
                  </a:lnTo>
                  <a:lnTo>
                    <a:pt x="4729" y="5110"/>
                  </a:lnTo>
                  <a:lnTo>
                    <a:pt x="4716" y="5121"/>
                  </a:lnTo>
                  <a:lnTo>
                    <a:pt x="4716" y="5121"/>
                  </a:lnTo>
                  <a:lnTo>
                    <a:pt x="4692" y="5135"/>
                  </a:lnTo>
                  <a:lnTo>
                    <a:pt x="4669" y="5141"/>
                  </a:lnTo>
                  <a:lnTo>
                    <a:pt x="4643" y="5139"/>
                  </a:lnTo>
                  <a:lnTo>
                    <a:pt x="4619" y="5130"/>
                  </a:lnTo>
                  <a:lnTo>
                    <a:pt x="4601" y="5113"/>
                  </a:lnTo>
                  <a:lnTo>
                    <a:pt x="4586" y="5091"/>
                  </a:lnTo>
                  <a:lnTo>
                    <a:pt x="4579" y="5064"/>
                  </a:lnTo>
                  <a:lnTo>
                    <a:pt x="4581" y="5038"/>
                  </a:lnTo>
                  <a:lnTo>
                    <a:pt x="4592" y="5013"/>
                  </a:lnTo>
                  <a:lnTo>
                    <a:pt x="4608" y="4992"/>
                  </a:lnTo>
                  <a:lnTo>
                    <a:pt x="4610" y="4992"/>
                  </a:lnTo>
                  <a:lnTo>
                    <a:pt x="4623" y="4981"/>
                  </a:lnTo>
                  <a:lnTo>
                    <a:pt x="4634" y="4970"/>
                  </a:lnTo>
                  <a:lnTo>
                    <a:pt x="4647" y="4959"/>
                  </a:lnTo>
                  <a:lnTo>
                    <a:pt x="4659" y="4950"/>
                  </a:lnTo>
                  <a:lnTo>
                    <a:pt x="4672" y="4939"/>
                  </a:lnTo>
                  <a:lnTo>
                    <a:pt x="4683" y="4928"/>
                  </a:lnTo>
                  <a:lnTo>
                    <a:pt x="4696" y="4917"/>
                  </a:lnTo>
                  <a:lnTo>
                    <a:pt x="4709" y="4906"/>
                  </a:lnTo>
                  <a:lnTo>
                    <a:pt x="4720" y="4895"/>
                  </a:lnTo>
                  <a:lnTo>
                    <a:pt x="4731" y="4884"/>
                  </a:lnTo>
                  <a:lnTo>
                    <a:pt x="4753" y="4870"/>
                  </a:lnTo>
                  <a:lnTo>
                    <a:pt x="4777" y="4862"/>
                  </a:lnTo>
                  <a:close/>
                  <a:moveTo>
                    <a:pt x="551" y="4363"/>
                  </a:moveTo>
                  <a:lnTo>
                    <a:pt x="575" y="4369"/>
                  </a:lnTo>
                  <a:lnTo>
                    <a:pt x="597" y="4380"/>
                  </a:lnTo>
                  <a:lnTo>
                    <a:pt x="617" y="4400"/>
                  </a:lnTo>
                  <a:lnTo>
                    <a:pt x="625" y="4413"/>
                  </a:lnTo>
                  <a:lnTo>
                    <a:pt x="634" y="4426"/>
                  </a:lnTo>
                  <a:lnTo>
                    <a:pt x="643" y="4440"/>
                  </a:lnTo>
                  <a:lnTo>
                    <a:pt x="652" y="4453"/>
                  </a:lnTo>
                  <a:lnTo>
                    <a:pt x="663" y="4466"/>
                  </a:lnTo>
                  <a:lnTo>
                    <a:pt x="672" y="4481"/>
                  </a:lnTo>
                  <a:lnTo>
                    <a:pt x="681" y="4494"/>
                  </a:lnTo>
                  <a:lnTo>
                    <a:pt x="690" y="4506"/>
                  </a:lnTo>
                  <a:lnTo>
                    <a:pt x="701" y="4519"/>
                  </a:lnTo>
                  <a:lnTo>
                    <a:pt x="711" y="4532"/>
                  </a:lnTo>
                  <a:lnTo>
                    <a:pt x="711" y="4534"/>
                  </a:lnTo>
                  <a:lnTo>
                    <a:pt x="723" y="4556"/>
                  </a:lnTo>
                  <a:lnTo>
                    <a:pt x="729" y="4578"/>
                  </a:lnTo>
                  <a:lnTo>
                    <a:pt x="727" y="4602"/>
                  </a:lnTo>
                  <a:lnTo>
                    <a:pt x="718" y="4624"/>
                  </a:lnTo>
                  <a:lnTo>
                    <a:pt x="705" y="4642"/>
                  </a:lnTo>
                  <a:lnTo>
                    <a:pt x="687" y="4657"/>
                  </a:lnTo>
                  <a:lnTo>
                    <a:pt x="663" y="4666"/>
                  </a:lnTo>
                  <a:lnTo>
                    <a:pt x="639" y="4668"/>
                  </a:lnTo>
                  <a:lnTo>
                    <a:pt x="615" y="4662"/>
                  </a:lnTo>
                  <a:lnTo>
                    <a:pt x="595" y="4651"/>
                  </a:lnTo>
                  <a:lnTo>
                    <a:pt x="579" y="4635"/>
                  </a:lnTo>
                  <a:lnTo>
                    <a:pt x="577" y="4633"/>
                  </a:lnTo>
                  <a:lnTo>
                    <a:pt x="566" y="4620"/>
                  </a:lnTo>
                  <a:lnTo>
                    <a:pt x="557" y="4605"/>
                  </a:lnTo>
                  <a:lnTo>
                    <a:pt x="546" y="4593"/>
                  </a:lnTo>
                  <a:lnTo>
                    <a:pt x="537" y="4578"/>
                  </a:lnTo>
                  <a:lnTo>
                    <a:pt x="526" y="4563"/>
                  </a:lnTo>
                  <a:lnTo>
                    <a:pt x="516" y="4550"/>
                  </a:lnTo>
                  <a:lnTo>
                    <a:pt x="506" y="4536"/>
                  </a:lnTo>
                  <a:lnTo>
                    <a:pt x="496" y="4521"/>
                  </a:lnTo>
                  <a:lnTo>
                    <a:pt x="485" y="4506"/>
                  </a:lnTo>
                  <a:lnTo>
                    <a:pt x="478" y="4495"/>
                  </a:lnTo>
                  <a:lnTo>
                    <a:pt x="471" y="4481"/>
                  </a:lnTo>
                  <a:lnTo>
                    <a:pt x="465" y="4464"/>
                  </a:lnTo>
                  <a:lnTo>
                    <a:pt x="465" y="4435"/>
                  </a:lnTo>
                  <a:lnTo>
                    <a:pt x="473" y="4411"/>
                  </a:lnTo>
                  <a:lnTo>
                    <a:pt x="485" y="4391"/>
                  </a:lnTo>
                  <a:lnTo>
                    <a:pt x="506" y="4376"/>
                  </a:lnTo>
                  <a:lnTo>
                    <a:pt x="527" y="4367"/>
                  </a:lnTo>
                  <a:lnTo>
                    <a:pt x="551" y="4363"/>
                  </a:lnTo>
                  <a:close/>
                  <a:moveTo>
                    <a:pt x="5205" y="4354"/>
                  </a:moveTo>
                  <a:lnTo>
                    <a:pt x="5235" y="4354"/>
                  </a:lnTo>
                  <a:lnTo>
                    <a:pt x="5262" y="4363"/>
                  </a:lnTo>
                  <a:lnTo>
                    <a:pt x="5282" y="4380"/>
                  </a:lnTo>
                  <a:lnTo>
                    <a:pt x="5297" y="4402"/>
                  </a:lnTo>
                  <a:lnTo>
                    <a:pt x="5304" y="4428"/>
                  </a:lnTo>
                  <a:lnTo>
                    <a:pt x="5302" y="4455"/>
                  </a:lnTo>
                  <a:lnTo>
                    <a:pt x="5289" y="4483"/>
                  </a:lnTo>
                  <a:lnTo>
                    <a:pt x="5284" y="4492"/>
                  </a:lnTo>
                  <a:lnTo>
                    <a:pt x="5273" y="4506"/>
                  </a:lnTo>
                  <a:lnTo>
                    <a:pt x="5264" y="4521"/>
                  </a:lnTo>
                  <a:lnTo>
                    <a:pt x="5255" y="4536"/>
                  </a:lnTo>
                  <a:lnTo>
                    <a:pt x="5244" y="4550"/>
                  </a:lnTo>
                  <a:lnTo>
                    <a:pt x="5235" y="4563"/>
                  </a:lnTo>
                  <a:lnTo>
                    <a:pt x="5224" y="4578"/>
                  </a:lnTo>
                  <a:lnTo>
                    <a:pt x="5214" y="4593"/>
                  </a:lnTo>
                  <a:lnTo>
                    <a:pt x="5203" y="4605"/>
                  </a:lnTo>
                  <a:lnTo>
                    <a:pt x="5192" y="4620"/>
                  </a:lnTo>
                  <a:lnTo>
                    <a:pt x="5191" y="4624"/>
                  </a:lnTo>
                  <a:lnTo>
                    <a:pt x="5170" y="4642"/>
                  </a:lnTo>
                  <a:lnTo>
                    <a:pt x="5148" y="4653"/>
                  </a:lnTo>
                  <a:lnTo>
                    <a:pt x="5123" y="4657"/>
                  </a:lnTo>
                  <a:lnTo>
                    <a:pt x="5097" y="4653"/>
                  </a:lnTo>
                  <a:lnTo>
                    <a:pt x="5073" y="4640"/>
                  </a:lnTo>
                  <a:lnTo>
                    <a:pt x="5055" y="4622"/>
                  </a:lnTo>
                  <a:lnTo>
                    <a:pt x="5044" y="4598"/>
                  </a:lnTo>
                  <a:lnTo>
                    <a:pt x="5040" y="4572"/>
                  </a:lnTo>
                  <a:lnTo>
                    <a:pt x="5044" y="4547"/>
                  </a:lnTo>
                  <a:lnTo>
                    <a:pt x="5057" y="4523"/>
                  </a:lnTo>
                  <a:lnTo>
                    <a:pt x="5059" y="4519"/>
                  </a:lnTo>
                  <a:lnTo>
                    <a:pt x="5068" y="4506"/>
                  </a:lnTo>
                  <a:lnTo>
                    <a:pt x="5079" y="4494"/>
                  </a:lnTo>
                  <a:lnTo>
                    <a:pt x="5088" y="4481"/>
                  </a:lnTo>
                  <a:lnTo>
                    <a:pt x="5097" y="4466"/>
                  </a:lnTo>
                  <a:lnTo>
                    <a:pt x="5106" y="4453"/>
                  </a:lnTo>
                  <a:lnTo>
                    <a:pt x="5115" y="4440"/>
                  </a:lnTo>
                  <a:lnTo>
                    <a:pt x="5126" y="4426"/>
                  </a:lnTo>
                  <a:lnTo>
                    <a:pt x="5136" y="4413"/>
                  </a:lnTo>
                  <a:lnTo>
                    <a:pt x="5145" y="4400"/>
                  </a:lnTo>
                  <a:lnTo>
                    <a:pt x="5150" y="4389"/>
                  </a:lnTo>
                  <a:lnTo>
                    <a:pt x="5165" y="4373"/>
                  </a:lnTo>
                  <a:lnTo>
                    <a:pt x="5183" y="4360"/>
                  </a:lnTo>
                  <a:lnTo>
                    <a:pt x="5205" y="4354"/>
                  </a:lnTo>
                  <a:close/>
                  <a:moveTo>
                    <a:pt x="249" y="3767"/>
                  </a:moveTo>
                  <a:lnTo>
                    <a:pt x="273" y="3771"/>
                  </a:lnTo>
                  <a:lnTo>
                    <a:pt x="293" y="3782"/>
                  </a:lnTo>
                  <a:lnTo>
                    <a:pt x="311" y="3799"/>
                  </a:lnTo>
                  <a:lnTo>
                    <a:pt x="324" y="3822"/>
                  </a:lnTo>
                  <a:lnTo>
                    <a:pt x="326" y="3826"/>
                  </a:lnTo>
                  <a:lnTo>
                    <a:pt x="332" y="3843"/>
                  </a:lnTo>
                  <a:lnTo>
                    <a:pt x="337" y="3857"/>
                  </a:lnTo>
                  <a:lnTo>
                    <a:pt x="342" y="3874"/>
                  </a:lnTo>
                  <a:lnTo>
                    <a:pt x="350" y="3888"/>
                  </a:lnTo>
                  <a:lnTo>
                    <a:pt x="355" y="3905"/>
                  </a:lnTo>
                  <a:lnTo>
                    <a:pt x="361" y="3920"/>
                  </a:lnTo>
                  <a:lnTo>
                    <a:pt x="368" y="3934"/>
                  </a:lnTo>
                  <a:lnTo>
                    <a:pt x="374" y="3951"/>
                  </a:lnTo>
                  <a:lnTo>
                    <a:pt x="381" y="3965"/>
                  </a:lnTo>
                  <a:lnTo>
                    <a:pt x="385" y="3973"/>
                  </a:lnTo>
                  <a:lnTo>
                    <a:pt x="388" y="3987"/>
                  </a:lnTo>
                  <a:lnTo>
                    <a:pt x="390" y="4004"/>
                  </a:lnTo>
                  <a:lnTo>
                    <a:pt x="388" y="4030"/>
                  </a:lnTo>
                  <a:lnTo>
                    <a:pt x="379" y="4052"/>
                  </a:lnTo>
                  <a:lnTo>
                    <a:pt x="364" y="4068"/>
                  </a:lnTo>
                  <a:lnTo>
                    <a:pt x="346" y="4081"/>
                  </a:lnTo>
                  <a:lnTo>
                    <a:pt x="326" y="4088"/>
                  </a:lnTo>
                  <a:lnTo>
                    <a:pt x="304" y="4090"/>
                  </a:lnTo>
                  <a:lnTo>
                    <a:pt x="282" y="4086"/>
                  </a:lnTo>
                  <a:lnTo>
                    <a:pt x="262" y="4077"/>
                  </a:lnTo>
                  <a:lnTo>
                    <a:pt x="244" y="4063"/>
                  </a:lnTo>
                  <a:lnTo>
                    <a:pt x="231" y="4041"/>
                  </a:lnTo>
                  <a:lnTo>
                    <a:pt x="227" y="4031"/>
                  </a:lnTo>
                  <a:lnTo>
                    <a:pt x="220" y="4015"/>
                  </a:lnTo>
                  <a:lnTo>
                    <a:pt x="212" y="3998"/>
                  </a:lnTo>
                  <a:lnTo>
                    <a:pt x="207" y="3984"/>
                  </a:lnTo>
                  <a:lnTo>
                    <a:pt x="200" y="3967"/>
                  </a:lnTo>
                  <a:lnTo>
                    <a:pt x="194" y="3951"/>
                  </a:lnTo>
                  <a:lnTo>
                    <a:pt x="187" y="3934"/>
                  </a:lnTo>
                  <a:lnTo>
                    <a:pt x="181" y="3918"/>
                  </a:lnTo>
                  <a:lnTo>
                    <a:pt x="174" y="3901"/>
                  </a:lnTo>
                  <a:lnTo>
                    <a:pt x="169" y="3885"/>
                  </a:lnTo>
                  <a:lnTo>
                    <a:pt x="167" y="3879"/>
                  </a:lnTo>
                  <a:lnTo>
                    <a:pt x="161" y="3859"/>
                  </a:lnTo>
                  <a:lnTo>
                    <a:pt x="163" y="3837"/>
                  </a:lnTo>
                  <a:lnTo>
                    <a:pt x="170" y="3811"/>
                  </a:lnTo>
                  <a:lnTo>
                    <a:pt x="185" y="3791"/>
                  </a:lnTo>
                  <a:lnTo>
                    <a:pt x="205" y="3778"/>
                  </a:lnTo>
                  <a:lnTo>
                    <a:pt x="227" y="3769"/>
                  </a:lnTo>
                  <a:lnTo>
                    <a:pt x="249" y="3767"/>
                  </a:lnTo>
                  <a:close/>
                  <a:moveTo>
                    <a:pt x="5528" y="3754"/>
                  </a:moveTo>
                  <a:lnTo>
                    <a:pt x="5551" y="3760"/>
                  </a:lnTo>
                  <a:lnTo>
                    <a:pt x="5572" y="3773"/>
                  </a:lnTo>
                  <a:lnTo>
                    <a:pt x="5588" y="3791"/>
                  </a:lnTo>
                  <a:lnTo>
                    <a:pt x="5599" y="3813"/>
                  </a:lnTo>
                  <a:lnTo>
                    <a:pt x="5603" y="3839"/>
                  </a:lnTo>
                  <a:lnTo>
                    <a:pt x="5597" y="3866"/>
                  </a:lnTo>
                  <a:lnTo>
                    <a:pt x="5597" y="3868"/>
                  </a:lnTo>
                  <a:lnTo>
                    <a:pt x="5592" y="3885"/>
                  </a:lnTo>
                  <a:lnTo>
                    <a:pt x="5584" y="3901"/>
                  </a:lnTo>
                  <a:lnTo>
                    <a:pt x="5579" y="3918"/>
                  </a:lnTo>
                  <a:lnTo>
                    <a:pt x="5573" y="3934"/>
                  </a:lnTo>
                  <a:lnTo>
                    <a:pt x="5566" y="3951"/>
                  </a:lnTo>
                  <a:lnTo>
                    <a:pt x="5561" y="3967"/>
                  </a:lnTo>
                  <a:lnTo>
                    <a:pt x="5553" y="3984"/>
                  </a:lnTo>
                  <a:lnTo>
                    <a:pt x="5546" y="3998"/>
                  </a:lnTo>
                  <a:lnTo>
                    <a:pt x="5540" y="4015"/>
                  </a:lnTo>
                  <a:lnTo>
                    <a:pt x="5535" y="4026"/>
                  </a:lnTo>
                  <a:lnTo>
                    <a:pt x="5522" y="4048"/>
                  </a:lnTo>
                  <a:lnTo>
                    <a:pt x="5504" y="4064"/>
                  </a:lnTo>
                  <a:lnTo>
                    <a:pt x="5480" y="4075"/>
                  </a:lnTo>
                  <a:lnTo>
                    <a:pt x="5456" y="4077"/>
                  </a:lnTo>
                  <a:lnTo>
                    <a:pt x="5430" y="4074"/>
                  </a:lnTo>
                  <a:lnTo>
                    <a:pt x="5407" y="4061"/>
                  </a:lnTo>
                  <a:lnTo>
                    <a:pt x="5388" y="4041"/>
                  </a:lnTo>
                  <a:lnTo>
                    <a:pt x="5377" y="4015"/>
                  </a:lnTo>
                  <a:lnTo>
                    <a:pt x="5374" y="3989"/>
                  </a:lnTo>
                  <a:lnTo>
                    <a:pt x="5381" y="3962"/>
                  </a:lnTo>
                  <a:lnTo>
                    <a:pt x="5385" y="3951"/>
                  </a:lnTo>
                  <a:lnTo>
                    <a:pt x="5392" y="3934"/>
                  </a:lnTo>
                  <a:lnTo>
                    <a:pt x="5398" y="3920"/>
                  </a:lnTo>
                  <a:lnTo>
                    <a:pt x="5405" y="3905"/>
                  </a:lnTo>
                  <a:lnTo>
                    <a:pt x="5410" y="3888"/>
                  </a:lnTo>
                  <a:lnTo>
                    <a:pt x="5416" y="3874"/>
                  </a:lnTo>
                  <a:lnTo>
                    <a:pt x="5423" y="3857"/>
                  </a:lnTo>
                  <a:lnTo>
                    <a:pt x="5429" y="3843"/>
                  </a:lnTo>
                  <a:lnTo>
                    <a:pt x="5434" y="3826"/>
                  </a:lnTo>
                  <a:lnTo>
                    <a:pt x="5440" y="3811"/>
                  </a:lnTo>
                  <a:lnTo>
                    <a:pt x="5440" y="3810"/>
                  </a:lnTo>
                  <a:lnTo>
                    <a:pt x="5445" y="3800"/>
                  </a:lnTo>
                  <a:lnTo>
                    <a:pt x="5451" y="3791"/>
                  </a:lnTo>
                  <a:lnTo>
                    <a:pt x="5458" y="3782"/>
                  </a:lnTo>
                  <a:lnTo>
                    <a:pt x="5480" y="3764"/>
                  </a:lnTo>
                  <a:lnTo>
                    <a:pt x="5504" y="3754"/>
                  </a:lnTo>
                  <a:lnTo>
                    <a:pt x="5528" y="3754"/>
                  </a:lnTo>
                  <a:close/>
                  <a:moveTo>
                    <a:pt x="93" y="3116"/>
                  </a:moveTo>
                  <a:lnTo>
                    <a:pt x="115" y="3120"/>
                  </a:lnTo>
                  <a:lnTo>
                    <a:pt x="137" y="3129"/>
                  </a:lnTo>
                  <a:lnTo>
                    <a:pt x="156" y="3144"/>
                  </a:lnTo>
                  <a:lnTo>
                    <a:pt x="170" y="3164"/>
                  </a:lnTo>
                  <a:lnTo>
                    <a:pt x="178" y="3190"/>
                  </a:lnTo>
                  <a:lnTo>
                    <a:pt x="178" y="3202"/>
                  </a:lnTo>
                  <a:lnTo>
                    <a:pt x="179" y="3221"/>
                  </a:lnTo>
                  <a:lnTo>
                    <a:pt x="183" y="3237"/>
                  </a:lnTo>
                  <a:lnTo>
                    <a:pt x="185" y="3254"/>
                  </a:lnTo>
                  <a:lnTo>
                    <a:pt x="187" y="3272"/>
                  </a:lnTo>
                  <a:lnTo>
                    <a:pt x="189" y="3289"/>
                  </a:lnTo>
                  <a:lnTo>
                    <a:pt x="192" y="3305"/>
                  </a:lnTo>
                  <a:lnTo>
                    <a:pt x="194" y="3322"/>
                  </a:lnTo>
                  <a:lnTo>
                    <a:pt x="198" y="3338"/>
                  </a:lnTo>
                  <a:lnTo>
                    <a:pt x="200" y="3351"/>
                  </a:lnTo>
                  <a:lnTo>
                    <a:pt x="200" y="3368"/>
                  </a:lnTo>
                  <a:lnTo>
                    <a:pt x="200" y="3382"/>
                  </a:lnTo>
                  <a:lnTo>
                    <a:pt x="190" y="3408"/>
                  </a:lnTo>
                  <a:lnTo>
                    <a:pt x="176" y="3426"/>
                  </a:lnTo>
                  <a:lnTo>
                    <a:pt x="158" y="3439"/>
                  </a:lnTo>
                  <a:lnTo>
                    <a:pt x="137" y="3446"/>
                  </a:lnTo>
                  <a:lnTo>
                    <a:pt x="115" y="3450"/>
                  </a:lnTo>
                  <a:lnTo>
                    <a:pt x="93" y="3446"/>
                  </a:lnTo>
                  <a:lnTo>
                    <a:pt x="73" y="3437"/>
                  </a:lnTo>
                  <a:lnTo>
                    <a:pt x="57" y="3424"/>
                  </a:lnTo>
                  <a:lnTo>
                    <a:pt x="42" y="3404"/>
                  </a:lnTo>
                  <a:lnTo>
                    <a:pt x="35" y="3380"/>
                  </a:lnTo>
                  <a:lnTo>
                    <a:pt x="31" y="3366"/>
                  </a:lnTo>
                  <a:lnTo>
                    <a:pt x="29" y="3349"/>
                  </a:lnTo>
                  <a:lnTo>
                    <a:pt x="26" y="3331"/>
                  </a:lnTo>
                  <a:lnTo>
                    <a:pt x="24" y="3313"/>
                  </a:lnTo>
                  <a:lnTo>
                    <a:pt x="22" y="3294"/>
                  </a:lnTo>
                  <a:lnTo>
                    <a:pt x="18" y="3276"/>
                  </a:lnTo>
                  <a:lnTo>
                    <a:pt x="16" y="3259"/>
                  </a:lnTo>
                  <a:lnTo>
                    <a:pt x="15" y="3241"/>
                  </a:lnTo>
                  <a:lnTo>
                    <a:pt x="11" y="3223"/>
                  </a:lnTo>
                  <a:lnTo>
                    <a:pt x="11" y="3210"/>
                  </a:lnTo>
                  <a:lnTo>
                    <a:pt x="11" y="3190"/>
                  </a:lnTo>
                  <a:lnTo>
                    <a:pt x="15" y="3171"/>
                  </a:lnTo>
                  <a:lnTo>
                    <a:pt x="29" y="3146"/>
                  </a:lnTo>
                  <a:lnTo>
                    <a:pt x="48" y="3129"/>
                  </a:lnTo>
                  <a:lnTo>
                    <a:pt x="70" y="3120"/>
                  </a:lnTo>
                  <a:lnTo>
                    <a:pt x="93" y="3116"/>
                  </a:lnTo>
                  <a:close/>
                  <a:moveTo>
                    <a:pt x="5663" y="3102"/>
                  </a:moveTo>
                  <a:lnTo>
                    <a:pt x="5685" y="3103"/>
                  </a:lnTo>
                  <a:lnTo>
                    <a:pt x="5707" y="3113"/>
                  </a:lnTo>
                  <a:lnTo>
                    <a:pt x="5725" y="3125"/>
                  </a:lnTo>
                  <a:lnTo>
                    <a:pt x="5740" y="3144"/>
                  </a:lnTo>
                  <a:lnTo>
                    <a:pt x="5749" y="3168"/>
                  </a:lnTo>
                  <a:lnTo>
                    <a:pt x="5751" y="3195"/>
                  </a:lnTo>
                  <a:lnTo>
                    <a:pt x="5749" y="3204"/>
                  </a:lnTo>
                  <a:lnTo>
                    <a:pt x="5747" y="3223"/>
                  </a:lnTo>
                  <a:lnTo>
                    <a:pt x="5746" y="3241"/>
                  </a:lnTo>
                  <a:lnTo>
                    <a:pt x="5744" y="3259"/>
                  </a:lnTo>
                  <a:lnTo>
                    <a:pt x="5742" y="3276"/>
                  </a:lnTo>
                  <a:lnTo>
                    <a:pt x="5738" y="3294"/>
                  </a:lnTo>
                  <a:lnTo>
                    <a:pt x="5736" y="3313"/>
                  </a:lnTo>
                  <a:lnTo>
                    <a:pt x="5733" y="3331"/>
                  </a:lnTo>
                  <a:lnTo>
                    <a:pt x="5731" y="3349"/>
                  </a:lnTo>
                  <a:lnTo>
                    <a:pt x="5727" y="3366"/>
                  </a:lnTo>
                  <a:lnTo>
                    <a:pt x="5720" y="3391"/>
                  </a:lnTo>
                  <a:lnTo>
                    <a:pt x="5703" y="3412"/>
                  </a:lnTo>
                  <a:lnTo>
                    <a:pt x="5683" y="3426"/>
                  </a:lnTo>
                  <a:lnTo>
                    <a:pt x="5659" y="3435"/>
                  </a:lnTo>
                  <a:lnTo>
                    <a:pt x="5632" y="3435"/>
                  </a:lnTo>
                  <a:lnTo>
                    <a:pt x="5606" y="3426"/>
                  </a:lnTo>
                  <a:lnTo>
                    <a:pt x="5586" y="3412"/>
                  </a:lnTo>
                  <a:lnTo>
                    <a:pt x="5570" y="3390"/>
                  </a:lnTo>
                  <a:lnTo>
                    <a:pt x="5562" y="3366"/>
                  </a:lnTo>
                  <a:lnTo>
                    <a:pt x="5562" y="3338"/>
                  </a:lnTo>
                  <a:lnTo>
                    <a:pt x="5566" y="3322"/>
                  </a:lnTo>
                  <a:lnTo>
                    <a:pt x="5568" y="3305"/>
                  </a:lnTo>
                  <a:lnTo>
                    <a:pt x="5570" y="3289"/>
                  </a:lnTo>
                  <a:lnTo>
                    <a:pt x="5573" y="3272"/>
                  </a:lnTo>
                  <a:lnTo>
                    <a:pt x="5575" y="3254"/>
                  </a:lnTo>
                  <a:lnTo>
                    <a:pt x="5577" y="3237"/>
                  </a:lnTo>
                  <a:lnTo>
                    <a:pt x="5579" y="3221"/>
                  </a:lnTo>
                  <a:lnTo>
                    <a:pt x="5581" y="3202"/>
                  </a:lnTo>
                  <a:lnTo>
                    <a:pt x="5583" y="3186"/>
                  </a:lnTo>
                  <a:lnTo>
                    <a:pt x="5584" y="3177"/>
                  </a:lnTo>
                  <a:lnTo>
                    <a:pt x="5590" y="3157"/>
                  </a:lnTo>
                  <a:lnTo>
                    <a:pt x="5599" y="3138"/>
                  </a:lnTo>
                  <a:lnTo>
                    <a:pt x="5617" y="3118"/>
                  </a:lnTo>
                  <a:lnTo>
                    <a:pt x="5639" y="3107"/>
                  </a:lnTo>
                  <a:lnTo>
                    <a:pt x="5663" y="3102"/>
                  </a:lnTo>
                  <a:close/>
                  <a:moveTo>
                    <a:pt x="110" y="2449"/>
                  </a:moveTo>
                  <a:lnTo>
                    <a:pt x="134" y="2454"/>
                  </a:lnTo>
                  <a:lnTo>
                    <a:pt x="156" y="2469"/>
                  </a:lnTo>
                  <a:lnTo>
                    <a:pt x="172" y="2489"/>
                  </a:lnTo>
                  <a:lnTo>
                    <a:pt x="181" y="2513"/>
                  </a:lnTo>
                  <a:lnTo>
                    <a:pt x="183" y="2542"/>
                  </a:lnTo>
                  <a:lnTo>
                    <a:pt x="183" y="2544"/>
                  </a:lnTo>
                  <a:lnTo>
                    <a:pt x="181" y="2550"/>
                  </a:lnTo>
                  <a:lnTo>
                    <a:pt x="181" y="2555"/>
                  </a:lnTo>
                  <a:lnTo>
                    <a:pt x="179" y="2561"/>
                  </a:lnTo>
                  <a:lnTo>
                    <a:pt x="179" y="2566"/>
                  </a:lnTo>
                  <a:lnTo>
                    <a:pt x="179" y="2572"/>
                  </a:lnTo>
                  <a:lnTo>
                    <a:pt x="178" y="2577"/>
                  </a:lnTo>
                  <a:lnTo>
                    <a:pt x="178" y="2583"/>
                  </a:lnTo>
                  <a:lnTo>
                    <a:pt x="178" y="2588"/>
                  </a:lnTo>
                  <a:lnTo>
                    <a:pt x="176" y="2594"/>
                  </a:lnTo>
                  <a:lnTo>
                    <a:pt x="176" y="2599"/>
                  </a:lnTo>
                  <a:lnTo>
                    <a:pt x="176" y="2605"/>
                  </a:lnTo>
                  <a:lnTo>
                    <a:pt x="174" y="2610"/>
                  </a:lnTo>
                  <a:lnTo>
                    <a:pt x="174" y="2616"/>
                  </a:lnTo>
                  <a:lnTo>
                    <a:pt x="174" y="2623"/>
                  </a:lnTo>
                  <a:lnTo>
                    <a:pt x="172" y="2628"/>
                  </a:lnTo>
                  <a:lnTo>
                    <a:pt x="172" y="2634"/>
                  </a:lnTo>
                  <a:lnTo>
                    <a:pt x="172" y="2639"/>
                  </a:lnTo>
                  <a:lnTo>
                    <a:pt x="172" y="2645"/>
                  </a:lnTo>
                  <a:lnTo>
                    <a:pt x="170" y="2650"/>
                  </a:lnTo>
                  <a:lnTo>
                    <a:pt x="170" y="2656"/>
                  </a:lnTo>
                  <a:lnTo>
                    <a:pt x="170" y="2661"/>
                  </a:lnTo>
                  <a:lnTo>
                    <a:pt x="170" y="2667"/>
                  </a:lnTo>
                  <a:lnTo>
                    <a:pt x="169" y="2672"/>
                  </a:lnTo>
                  <a:lnTo>
                    <a:pt x="169" y="2678"/>
                  </a:lnTo>
                  <a:lnTo>
                    <a:pt x="169" y="2683"/>
                  </a:lnTo>
                  <a:lnTo>
                    <a:pt x="169" y="2691"/>
                  </a:lnTo>
                  <a:lnTo>
                    <a:pt x="167" y="2696"/>
                  </a:lnTo>
                  <a:lnTo>
                    <a:pt x="167" y="2702"/>
                  </a:lnTo>
                  <a:lnTo>
                    <a:pt x="167" y="2704"/>
                  </a:lnTo>
                  <a:lnTo>
                    <a:pt x="161" y="2727"/>
                  </a:lnTo>
                  <a:lnTo>
                    <a:pt x="150" y="2748"/>
                  </a:lnTo>
                  <a:lnTo>
                    <a:pt x="132" y="2766"/>
                  </a:lnTo>
                  <a:lnTo>
                    <a:pt x="110" y="2777"/>
                  </a:lnTo>
                  <a:lnTo>
                    <a:pt x="86" y="2781"/>
                  </a:lnTo>
                  <a:lnTo>
                    <a:pt x="64" y="2779"/>
                  </a:lnTo>
                  <a:lnTo>
                    <a:pt x="44" y="2772"/>
                  </a:lnTo>
                  <a:lnTo>
                    <a:pt x="26" y="2759"/>
                  </a:lnTo>
                  <a:lnTo>
                    <a:pt x="11" y="2740"/>
                  </a:lnTo>
                  <a:lnTo>
                    <a:pt x="2" y="2718"/>
                  </a:lnTo>
                  <a:lnTo>
                    <a:pt x="0" y="2693"/>
                  </a:lnTo>
                  <a:lnTo>
                    <a:pt x="0" y="2691"/>
                  </a:lnTo>
                  <a:lnTo>
                    <a:pt x="0" y="2683"/>
                  </a:lnTo>
                  <a:lnTo>
                    <a:pt x="0" y="2678"/>
                  </a:lnTo>
                  <a:lnTo>
                    <a:pt x="2" y="2672"/>
                  </a:lnTo>
                  <a:lnTo>
                    <a:pt x="2" y="2665"/>
                  </a:lnTo>
                  <a:lnTo>
                    <a:pt x="2" y="2660"/>
                  </a:lnTo>
                  <a:lnTo>
                    <a:pt x="2" y="2654"/>
                  </a:lnTo>
                  <a:lnTo>
                    <a:pt x="4" y="2649"/>
                  </a:lnTo>
                  <a:lnTo>
                    <a:pt x="4" y="2641"/>
                  </a:lnTo>
                  <a:lnTo>
                    <a:pt x="4" y="2636"/>
                  </a:lnTo>
                  <a:lnTo>
                    <a:pt x="5" y="2630"/>
                  </a:lnTo>
                  <a:lnTo>
                    <a:pt x="5" y="2623"/>
                  </a:lnTo>
                  <a:lnTo>
                    <a:pt x="5" y="2617"/>
                  </a:lnTo>
                  <a:lnTo>
                    <a:pt x="5" y="2612"/>
                  </a:lnTo>
                  <a:lnTo>
                    <a:pt x="7" y="2606"/>
                  </a:lnTo>
                  <a:lnTo>
                    <a:pt x="7" y="2599"/>
                  </a:lnTo>
                  <a:lnTo>
                    <a:pt x="7" y="2594"/>
                  </a:lnTo>
                  <a:lnTo>
                    <a:pt x="9" y="2588"/>
                  </a:lnTo>
                  <a:lnTo>
                    <a:pt x="9" y="2583"/>
                  </a:lnTo>
                  <a:lnTo>
                    <a:pt x="9" y="2575"/>
                  </a:lnTo>
                  <a:lnTo>
                    <a:pt x="11" y="2570"/>
                  </a:lnTo>
                  <a:lnTo>
                    <a:pt x="11" y="2564"/>
                  </a:lnTo>
                  <a:lnTo>
                    <a:pt x="13" y="2559"/>
                  </a:lnTo>
                  <a:lnTo>
                    <a:pt x="13" y="2551"/>
                  </a:lnTo>
                  <a:lnTo>
                    <a:pt x="13" y="2546"/>
                  </a:lnTo>
                  <a:lnTo>
                    <a:pt x="15" y="2540"/>
                  </a:lnTo>
                  <a:lnTo>
                    <a:pt x="15" y="2535"/>
                  </a:lnTo>
                  <a:lnTo>
                    <a:pt x="15" y="2528"/>
                  </a:lnTo>
                  <a:lnTo>
                    <a:pt x="16" y="2522"/>
                  </a:lnTo>
                  <a:lnTo>
                    <a:pt x="16" y="2520"/>
                  </a:lnTo>
                  <a:lnTo>
                    <a:pt x="24" y="2496"/>
                  </a:lnTo>
                  <a:lnTo>
                    <a:pt x="38" y="2474"/>
                  </a:lnTo>
                  <a:lnTo>
                    <a:pt x="60" y="2456"/>
                  </a:lnTo>
                  <a:lnTo>
                    <a:pt x="86" y="2449"/>
                  </a:lnTo>
                  <a:lnTo>
                    <a:pt x="110" y="2449"/>
                  </a:lnTo>
                  <a:close/>
                  <a:moveTo>
                    <a:pt x="5661" y="2434"/>
                  </a:moveTo>
                  <a:lnTo>
                    <a:pt x="5683" y="2438"/>
                  </a:lnTo>
                  <a:lnTo>
                    <a:pt x="5703" y="2447"/>
                  </a:lnTo>
                  <a:lnTo>
                    <a:pt x="5722" y="2462"/>
                  </a:lnTo>
                  <a:lnTo>
                    <a:pt x="5735" y="2482"/>
                  </a:lnTo>
                  <a:lnTo>
                    <a:pt x="5742" y="2506"/>
                  </a:lnTo>
                  <a:lnTo>
                    <a:pt x="5744" y="2522"/>
                  </a:lnTo>
                  <a:lnTo>
                    <a:pt x="5746" y="2540"/>
                  </a:lnTo>
                  <a:lnTo>
                    <a:pt x="5747" y="2559"/>
                  </a:lnTo>
                  <a:lnTo>
                    <a:pt x="5749" y="2577"/>
                  </a:lnTo>
                  <a:lnTo>
                    <a:pt x="5751" y="2595"/>
                  </a:lnTo>
                  <a:lnTo>
                    <a:pt x="5753" y="2614"/>
                  </a:lnTo>
                  <a:lnTo>
                    <a:pt x="5755" y="2632"/>
                  </a:lnTo>
                  <a:lnTo>
                    <a:pt x="5757" y="2650"/>
                  </a:lnTo>
                  <a:lnTo>
                    <a:pt x="5758" y="2669"/>
                  </a:lnTo>
                  <a:lnTo>
                    <a:pt x="5758" y="2678"/>
                  </a:lnTo>
                  <a:lnTo>
                    <a:pt x="5757" y="2705"/>
                  </a:lnTo>
                  <a:lnTo>
                    <a:pt x="5744" y="2731"/>
                  </a:lnTo>
                  <a:lnTo>
                    <a:pt x="5725" y="2751"/>
                  </a:lnTo>
                  <a:lnTo>
                    <a:pt x="5703" y="2762"/>
                  </a:lnTo>
                  <a:lnTo>
                    <a:pt x="5678" y="2768"/>
                  </a:lnTo>
                  <a:lnTo>
                    <a:pt x="5654" y="2764"/>
                  </a:lnTo>
                  <a:lnTo>
                    <a:pt x="5630" y="2753"/>
                  </a:lnTo>
                  <a:lnTo>
                    <a:pt x="5612" y="2738"/>
                  </a:lnTo>
                  <a:lnTo>
                    <a:pt x="5599" y="2716"/>
                  </a:lnTo>
                  <a:lnTo>
                    <a:pt x="5592" y="2691"/>
                  </a:lnTo>
                  <a:lnTo>
                    <a:pt x="5592" y="2682"/>
                  </a:lnTo>
                  <a:lnTo>
                    <a:pt x="5590" y="2663"/>
                  </a:lnTo>
                  <a:lnTo>
                    <a:pt x="5588" y="2647"/>
                  </a:lnTo>
                  <a:lnTo>
                    <a:pt x="5586" y="2628"/>
                  </a:lnTo>
                  <a:lnTo>
                    <a:pt x="5584" y="2612"/>
                  </a:lnTo>
                  <a:lnTo>
                    <a:pt x="5583" y="2595"/>
                  </a:lnTo>
                  <a:lnTo>
                    <a:pt x="5581" y="2577"/>
                  </a:lnTo>
                  <a:lnTo>
                    <a:pt x="5579" y="2561"/>
                  </a:lnTo>
                  <a:lnTo>
                    <a:pt x="5577" y="2544"/>
                  </a:lnTo>
                  <a:lnTo>
                    <a:pt x="5575" y="2528"/>
                  </a:lnTo>
                  <a:lnTo>
                    <a:pt x="5575" y="2502"/>
                  </a:lnTo>
                  <a:lnTo>
                    <a:pt x="5584" y="2478"/>
                  </a:lnTo>
                  <a:lnTo>
                    <a:pt x="5599" y="2458"/>
                  </a:lnTo>
                  <a:lnTo>
                    <a:pt x="5617" y="2443"/>
                  </a:lnTo>
                  <a:lnTo>
                    <a:pt x="5639" y="2436"/>
                  </a:lnTo>
                  <a:lnTo>
                    <a:pt x="5661" y="2434"/>
                  </a:lnTo>
                  <a:close/>
                  <a:moveTo>
                    <a:pt x="260" y="1800"/>
                  </a:moveTo>
                  <a:lnTo>
                    <a:pt x="284" y="1801"/>
                  </a:lnTo>
                  <a:lnTo>
                    <a:pt x="306" y="1811"/>
                  </a:lnTo>
                  <a:lnTo>
                    <a:pt x="324" y="1827"/>
                  </a:lnTo>
                  <a:lnTo>
                    <a:pt x="339" y="1849"/>
                  </a:lnTo>
                  <a:lnTo>
                    <a:pt x="346" y="1869"/>
                  </a:lnTo>
                  <a:lnTo>
                    <a:pt x="346" y="1891"/>
                  </a:lnTo>
                  <a:lnTo>
                    <a:pt x="341" y="1913"/>
                  </a:lnTo>
                  <a:lnTo>
                    <a:pt x="339" y="1917"/>
                  </a:lnTo>
                  <a:lnTo>
                    <a:pt x="337" y="1922"/>
                  </a:lnTo>
                  <a:lnTo>
                    <a:pt x="335" y="1928"/>
                  </a:lnTo>
                  <a:lnTo>
                    <a:pt x="333" y="1933"/>
                  </a:lnTo>
                  <a:lnTo>
                    <a:pt x="332" y="1937"/>
                  </a:lnTo>
                  <a:lnTo>
                    <a:pt x="330" y="1943"/>
                  </a:lnTo>
                  <a:lnTo>
                    <a:pt x="328" y="1948"/>
                  </a:lnTo>
                  <a:lnTo>
                    <a:pt x="326" y="1954"/>
                  </a:lnTo>
                  <a:lnTo>
                    <a:pt x="324" y="1959"/>
                  </a:lnTo>
                  <a:lnTo>
                    <a:pt x="322" y="1963"/>
                  </a:lnTo>
                  <a:lnTo>
                    <a:pt x="321" y="1968"/>
                  </a:lnTo>
                  <a:lnTo>
                    <a:pt x="319" y="1974"/>
                  </a:lnTo>
                  <a:lnTo>
                    <a:pt x="317" y="1979"/>
                  </a:lnTo>
                  <a:lnTo>
                    <a:pt x="315" y="1985"/>
                  </a:lnTo>
                  <a:lnTo>
                    <a:pt x="313" y="1988"/>
                  </a:lnTo>
                  <a:lnTo>
                    <a:pt x="311" y="1994"/>
                  </a:lnTo>
                  <a:lnTo>
                    <a:pt x="310" y="1999"/>
                  </a:lnTo>
                  <a:lnTo>
                    <a:pt x="308" y="2005"/>
                  </a:lnTo>
                  <a:lnTo>
                    <a:pt x="306" y="2010"/>
                  </a:lnTo>
                  <a:lnTo>
                    <a:pt x="304" y="2014"/>
                  </a:lnTo>
                  <a:lnTo>
                    <a:pt x="302" y="2020"/>
                  </a:lnTo>
                  <a:lnTo>
                    <a:pt x="300" y="2025"/>
                  </a:lnTo>
                  <a:lnTo>
                    <a:pt x="299" y="2031"/>
                  </a:lnTo>
                  <a:lnTo>
                    <a:pt x="297" y="2036"/>
                  </a:lnTo>
                  <a:lnTo>
                    <a:pt x="295" y="2042"/>
                  </a:lnTo>
                  <a:lnTo>
                    <a:pt x="293" y="2045"/>
                  </a:lnTo>
                  <a:lnTo>
                    <a:pt x="291" y="2051"/>
                  </a:lnTo>
                  <a:lnTo>
                    <a:pt x="291" y="2056"/>
                  </a:lnTo>
                  <a:lnTo>
                    <a:pt x="289" y="2062"/>
                  </a:lnTo>
                  <a:lnTo>
                    <a:pt x="288" y="2065"/>
                  </a:lnTo>
                  <a:lnTo>
                    <a:pt x="275" y="2091"/>
                  </a:lnTo>
                  <a:lnTo>
                    <a:pt x="256" y="2108"/>
                  </a:lnTo>
                  <a:lnTo>
                    <a:pt x="234" y="2120"/>
                  </a:lnTo>
                  <a:lnTo>
                    <a:pt x="209" y="2124"/>
                  </a:lnTo>
                  <a:lnTo>
                    <a:pt x="183" y="2120"/>
                  </a:lnTo>
                  <a:lnTo>
                    <a:pt x="159" y="2109"/>
                  </a:lnTo>
                  <a:lnTo>
                    <a:pt x="141" y="2091"/>
                  </a:lnTo>
                  <a:lnTo>
                    <a:pt x="128" y="2067"/>
                  </a:lnTo>
                  <a:lnTo>
                    <a:pt x="125" y="2042"/>
                  </a:lnTo>
                  <a:lnTo>
                    <a:pt x="128" y="2016"/>
                  </a:lnTo>
                  <a:lnTo>
                    <a:pt x="130" y="2010"/>
                  </a:lnTo>
                  <a:lnTo>
                    <a:pt x="130" y="2005"/>
                  </a:lnTo>
                  <a:lnTo>
                    <a:pt x="132" y="1999"/>
                  </a:lnTo>
                  <a:lnTo>
                    <a:pt x="134" y="1994"/>
                  </a:lnTo>
                  <a:lnTo>
                    <a:pt x="136" y="1988"/>
                  </a:lnTo>
                  <a:lnTo>
                    <a:pt x="137" y="1983"/>
                  </a:lnTo>
                  <a:lnTo>
                    <a:pt x="139" y="1977"/>
                  </a:lnTo>
                  <a:lnTo>
                    <a:pt x="141" y="1972"/>
                  </a:lnTo>
                  <a:lnTo>
                    <a:pt x="143" y="1966"/>
                  </a:lnTo>
                  <a:lnTo>
                    <a:pt x="145" y="1961"/>
                  </a:lnTo>
                  <a:lnTo>
                    <a:pt x="147" y="1955"/>
                  </a:lnTo>
                  <a:lnTo>
                    <a:pt x="150" y="1950"/>
                  </a:lnTo>
                  <a:lnTo>
                    <a:pt x="152" y="1944"/>
                  </a:lnTo>
                  <a:lnTo>
                    <a:pt x="154" y="1939"/>
                  </a:lnTo>
                  <a:lnTo>
                    <a:pt x="156" y="1933"/>
                  </a:lnTo>
                  <a:lnTo>
                    <a:pt x="158" y="1928"/>
                  </a:lnTo>
                  <a:lnTo>
                    <a:pt x="159" y="1922"/>
                  </a:lnTo>
                  <a:lnTo>
                    <a:pt x="161" y="1917"/>
                  </a:lnTo>
                  <a:lnTo>
                    <a:pt x="163" y="1911"/>
                  </a:lnTo>
                  <a:lnTo>
                    <a:pt x="165" y="1906"/>
                  </a:lnTo>
                  <a:lnTo>
                    <a:pt x="167" y="1900"/>
                  </a:lnTo>
                  <a:lnTo>
                    <a:pt x="169" y="1895"/>
                  </a:lnTo>
                  <a:lnTo>
                    <a:pt x="170" y="1889"/>
                  </a:lnTo>
                  <a:lnTo>
                    <a:pt x="172" y="1884"/>
                  </a:lnTo>
                  <a:lnTo>
                    <a:pt x="174" y="1878"/>
                  </a:lnTo>
                  <a:lnTo>
                    <a:pt x="176" y="1873"/>
                  </a:lnTo>
                  <a:lnTo>
                    <a:pt x="179" y="1869"/>
                  </a:lnTo>
                  <a:lnTo>
                    <a:pt x="181" y="1864"/>
                  </a:lnTo>
                  <a:lnTo>
                    <a:pt x="183" y="1858"/>
                  </a:lnTo>
                  <a:lnTo>
                    <a:pt x="185" y="1853"/>
                  </a:lnTo>
                  <a:lnTo>
                    <a:pt x="198" y="1829"/>
                  </a:lnTo>
                  <a:lnTo>
                    <a:pt x="216" y="1812"/>
                  </a:lnTo>
                  <a:lnTo>
                    <a:pt x="238" y="1803"/>
                  </a:lnTo>
                  <a:lnTo>
                    <a:pt x="260" y="1800"/>
                  </a:lnTo>
                  <a:close/>
                  <a:moveTo>
                    <a:pt x="5496" y="1787"/>
                  </a:moveTo>
                  <a:lnTo>
                    <a:pt x="5518" y="1790"/>
                  </a:lnTo>
                  <a:lnTo>
                    <a:pt x="5539" y="1800"/>
                  </a:lnTo>
                  <a:lnTo>
                    <a:pt x="5557" y="1816"/>
                  </a:lnTo>
                  <a:lnTo>
                    <a:pt x="5570" y="1838"/>
                  </a:lnTo>
                  <a:lnTo>
                    <a:pt x="5573" y="1847"/>
                  </a:lnTo>
                  <a:lnTo>
                    <a:pt x="5579" y="1864"/>
                  </a:lnTo>
                  <a:lnTo>
                    <a:pt x="5584" y="1880"/>
                  </a:lnTo>
                  <a:lnTo>
                    <a:pt x="5592" y="1897"/>
                  </a:lnTo>
                  <a:lnTo>
                    <a:pt x="5597" y="1913"/>
                  </a:lnTo>
                  <a:lnTo>
                    <a:pt x="5603" y="1930"/>
                  </a:lnTo>
                  <a:lnTo>
                    <a:pt x="5610" y="1946"/>
                  </a:lnTo>
                  <a:lnTo>
                    <a:pt x="5615" y="1963"/>
                  </a:lnTo>
                  <a:lnTo>
                    <a:pt x="5621" y="1981"/>
                  </a:lnTo>
                  <a:lnTo>
                    <a:pt x="5626" y="1998"/>
                  </a:lnTo>
                  <a:lnTo>
                    <a:pt x="5626" y="2001"/>
                  </a:lnTo>
                  <a:lnTo>
                    <a:pt x="5630" y="2018"/>
                  </a:lnTo>
                  <a:lnTo>
                    <a:pt x="5632" y="2034"/>
                  </a:lnTo>
                  <a:lnTo>
                    <a:pt x="5625" y="2062"/>
                  </a:lnTo>
                  <a:lnTo>
                    <a:pt x="5610" y="2084"/>
                  </a:lnTo>
                  <a:lnTo>
                    <a:pt x="5592" y="2098"/>
                  </a:lnTo>
                  <a:lnTo>
                    <a:pt x="5570" y="2108"/>
                  </a:lnTo>
                  <a:lnTo>
                    <a:pt x="5544" y="2111"/>
                  </a:lnTo>
                  <a:lnTo>
                    <a:pt x="5520" y="2108"/>
                  </a:lnTo>
                  <a:lnTo>
                    <a:pt x="5500" y="2097"/>
                  </a:lnTo>
                  <a:lnTo>
                    <a:pt x="5482" y="2078"/>
                  </a:lnTo>
                  <a:lnTo>
                    <a:pt x="5469" y="2053"/>
                  </a:lnTo>
                  <a:lnTo>
                    <a:pt x="5467" y="2049"/>
                  </a:lnTo>
                  <a:lnTo>
                    <a:pt x="5462" y="2032"/>
                  </a:lnTo>
                  <a:lnTo>
                    <a:pt x="5456" y="2018"/>
                  </a:lnTo>
                  <a:lnTo>
                    <a:pt x="5451" y="2001"/>
                  </a:lnTo>
                  <a:lnTo>
                    <a:pt x="5445" y="1985"/>
                  </a:lnTo>
                  <a:lnTo>
                    <a:pt x="5440" y="1970"/>
                  </a:lnTo>
                  <a:lnTo>
                    <a:pt x="5434" y="1954"/>
                  </a:lnTo>
                  <a:lnTo>
                    <a:pt x="5429" y="1939"/>
                  </a:lnTo>
                  <a:lnTo>
                    <a:pt x="5423" y="1922"/>
                  </a:lnTo>
                  <a:lnTo>
                    <a:pt x="5416" y="1908"/>
                  </a:lnTo>
                  <a:lnTo>
                    <a:pt x="5414" y="1900"/>
                  </a:lnTo>
                  <a:lnTo>
                    <a:pt x="5409" y="1877"/>
                  </a:lnTo>
                  <a:lnTo>
                    <a:pt x="5409" y="1853"/>
                  </a:lnTo>
                  <a:lnTo>
                    <a:pt x="5418" y="1829"/>
                  </a:lnTo>
                  <a:lnTo>
                    <a:pt x="5432" y="1809"/>
                  </a:lnTo>
                  <a:lnTo>
                    <a:pt x="5451" y="1796"/>
                  </a:lnTo>
                  <a:lnTo>
                    <a:pt x="5473" y="1789"/>
                  </a:lnTo>
                  <a:lnTo>
                    <a:pt x="5496" y="1787"/>
                  </a:lnTo>
                  <a:close/>
                  <a:moveTo>
                    <a:pt x="5178" y="1196"/>
                  </a:moveTo>
                  <a:lnTo>
                    <a:pt x="5203" y="1202"/>
                  </a:lnTo>
                  <a:lnTo>
                    <a:pt x="5225" y="1213"/>
                  </a:lnTo>
                  <a:lnTo>
                    <a:pt x="5244" y="1231"/>
                  </a:lnTo>
                  <a:lnTo>
                    <a:pt x="5255" y="1246"/>
                  </a:lnTo>
                  <a:lnTo>
                    <a:pt x="5264" y="1260"/>
                  </a:lnTo>
                  <a:lnTo>
                    <a:pt x="5273" y="1275"/>
                  </a:lnTo>
                  <a:lnTo>
                    <a:pt x="5284" y="1288"/>
                  </a:lnTo>
                  <a:lnTo>
                    <a:pt x="5293" y="1303"/>
                  </a:lnTo>
                  <a:lnTo>
                    <a:pt x="5302" y="1317"/>
                  </a:lnTo>
                  <a:lnTo>
                    <a:pt x="5311" y="1332"/>
                  </a:lnTo>
                  <a:lnTo>
                    <a:pt x="5321" y="1347"/>
                  </a:lnTo>
                  <a:lnTo>
                    <a:pt x="5330" y="1361"/>
                  </a:lnTo>
                  <a:lnTo>
                    <a:pt x="5339" y="1376"/>
                  </a:lnTo>
                  <a:lnTo>
                    <a:pt x="5350" y="1402"/>
                  </a:lnTo>
                  <a:lnTo>
                    <a:pt x="5352" y="1427"/>
                  </a:lnTo>
                  <a:lnTo>
                    <a:pt x="5344" y="1451"/>
                  </a:lnTo>
                  <a:lnTo>
                    <a:pt x="5332" y="1473"/>
                  </a:lnTo>
                  <a:lnTo>
                    <a:pt x="5313" y="1491"/>
                  </a:lnTo>
                  <a:lnTo>
                    <a:pt x="5288" y="1502"/>
                  </a:lnTo>
                  <a:lnTo>
                    <a:pt x="5262" y="1504"/>
                  </a:lnTo>
                  <a:lnTo>
                    <a:pt x="5236" y="1497"/>
                  </a:lnTo>
                  <a:lnTo>
                    <a:pt x="5214" y="1484"/>
                  </a:lnTo>
                  <a:lnTo>
                    <a:pt x="5196" y="1464"/>
                  </a:lnTo>
                  <a:lnTo>
                    <a:pt x="5189" y="1451"/>
                  </a:lnTo>
                  <a:lnTo>
                    <a:pt x="5180" y="1436"/>
                  </a:lnTo>
                  <a:lnTo>
                    <a:pt x="5170" y="1424"/>
                  </a:lnTo>
                  <a:lnTo>
                    <a:pt x="5161" y="1409"/>
                  </a:lnTo>
                  <a:lnTo>
                    <a:pt x="5152" y="1396"/>
                  </a:lnTo>
                  <a:lnTo>
                    <a:pt x="5145" y="1381"/>
                  </a:lnTo>
                  <a:lnTo>
                    <a:pt x="5136" y="1369"/>
                  </a:lnTo>
                  <a:lnTo>
                    <a:pt x="5126" y="1354"/>
                  </a:lnTo>
                  <a:lnTo>
                    <a:pt x="5115" y="1341"/>
                  </a:lnTo>
                  <a:lnTo>
                    <a:pt x="5108" y="1328"/>
                  </a:lnTo>
                  <a:lnTo>
                    <a:pt x="5095" y="1304"/>
                  </a:lnTo>
                  <a:lnTo>
                    <a:pt x="5092" y="1277"/>
                  </a:lnTo>
                  <a:lnTo>
                    <a:pt x="5097" y="1253"/>
                  </a:lnTo>
                  <a:lnTo>
                    <a:pt x="5108" y="1231"/>
                  </a:lnTo>
                  <a:lnTo>
                    <a:pt x="5126" y="1213"/>
                  </a:lnTo>
                  <a:lnTo>
                    <a:pt x="5152" y="1200"/>
                  </a:lnTo>
                  <a:lnTo>
                    <a:pt x="5178" y="1196"/>
                  </a:lnTo>
                  <a:close/>
                  <a:moveTo>
                    <a:pt x="810" y="864"/>
                  </a:moveTo>
                  <a:lnTo>
                    <a:pt x="793" y="1772"/>
                  </a:lnTo>
                  <a:lnTo>
                    <a:pt x="35" y="1336"/>
                  </a:lnTo>
                  <a:lnTo>
                    <a:pt x="810" y="864"/>
                  </a:lnTo>
                  <a:close/>
                  <a:moveTo>
                    <a:pt x="4735" y="699"/>
                  </a:moveTo>
                  <a:lnTo>
                    <a:pt x="4762" y="705"/>
                  </a:lnTo>
                  <a:lnTo>
                    <a:pt x="4786" y="719"/>
                  </a:lnTo>
                  <a:lnTo>
                    <a:pt x="4795" y="728"/>
                  </a:lnTo>
                  <a:lnTo>
                    <a:pt x="4808" y="740"/>
                  </a:lnTo>
                  <a:lnTo>
                    <a:pt x="4821" y="751"/>
                  </a:lnTo>
                  <a:lnTo>
                    <a:pt x="4833" y="763"/>
                  </a:lnTo>
                  <a:lnTo>
                    <a:pt x="4846" y="774"/>
                  </a:lnTo>
                  <a:lnTo>
                    <a:pt x="4859" y="785"/>
                  </a:lnTo>
                  <a:lnTo>
                    <a:pt x="4872" y="798"/>
                  </a:lnTo>
                  <a:lnTo>
                    <a:pt x="4885" y="809"/>
                  </a:lnTo>
                  <a:lnTo>
                    <a:pt x="4896" y="822"/>
                  </a:lnTo>
                  <a:lnTo>
                    <a:pt x="4909" y="835"/>
                  </a:lnTo>
                  <a:lnTo>
                    <a:pt x="4910" y="837"/>
                  </a:lnTo>
                  <a:lnTo>
                    <a:pt x="4927" y="859"/>
                  </a:lnTo>
                  <a:lnTo>
                    <a:pt x="4936" y="884"/>
                  </a:lnTo>
                  <a:lnTo>
                    <a:pt x="4934" y="912"/>
                  </a:lnTo>
                  <a:lnTo>
                    <a:pt x="4927" y="938"/>
                  </a:lnTo>
                  <a:lnTo>
                    <a:pt x="4910" y="956"/>
                  </a:lnTo>
                  <a:lnTo>
                    <a:pt x="4890" y="971"/>
                  </a:lnTo>
                  <a:lnTo>
                    <a:pt x="4866" y="980"/>
                  </a:lnTo>
                  <a:lnTo>
                    <a:pt x="4841" y="980"/>
                  </a:lnTo>
                  <a:lnTo>
                    <a:pt x="4817" y="972"/>
                  </a:lnTo>
                  <a:lnTo>
                    <a:pt x="4793" y="956"/>
                  </a:lnTo>
                  <a:lnTo>
                    <a:pt x="4791" y="954"/>
                  </a:lnTo>
                  <a:lnTo>
                    <a:pt x="4780" y="941"/>
                  </a:lnTo>
                  <a:lnTo>
                    <a:pt x="4767" y="930"/>
                  </a:lnTo>
                  <a:lnTo>
                    <a:pt x="4756" y="919"/>
                  </a:lnTo>
                  <a:lnTo>
                    <a:pt x="4744" y="908"/>
                  </a:lnTo>
                  <a:lnTo>
                    <a:pt x="4733" y="897"/>
                  </a:lnTo>
                  <a:lnTo>
                    <a:pt x="4720" y="886"/>
                  </a:lnTo>
                  <a:lnTo>
                    <a:pt x="4709" y="875"/>
                  </a:lnTo>
                  <a:lnTo>
                    <a:pt x="4696" y="864"/>
                  </a:lnTo>
                  <a:lnTo>
                    <a:pt x="4683" y="853"/>
                  </a:lnTo>
                  <a:lnTo>
                    <a:pt x="4674" y="846"/>
                  </a:lnTo>
                  <a:lnTo>
                    <a:pt x="4658" y="824"/>
                  </a:lnTo>
                  <a:lnTo>
                    <a:pt x="4648" y="802"/>
                  </a:lnTo>
                  <a:lnTo>
                    <a:pt x="4647" y="776"/>
                  </a:lnTo>
                  <a:lnTo>
                    <a:pt x="4652" y="752"/>
                  </a:lnTo>
                  <a:lnTo>
                    <a:pt x="4663" y="730"/>
                  </a:lnTo>
                  <a:lnTo>
                    <a:pt x="4681" y="714"/>
                  </a:lnTo>
                  <a:lnTo>
                    <a:pt x="4705" y="701"/>
                  </a:lnTo>
                  <a:lnTo>
                    <a:pt x="4735" y="699"/>
                  </a:lnTo>
                  <a:close/>
                  <a:moveTo>
                    <a:pt x="4191" y="320"/>
                  </a:moveTo>
                  <a:lnTo>
                    <a:pt x="4218" y="329"/>
                  </a:lnTo>
                  <a:lnTo>
                    <a:pt x="4225" y="332"/>
                  </a:lnTo>
                  <a:lnTo>
                    <a:pt x="4240" y="340"/>
                  </a:lnTo>
                  <a:lnTo>
                    <a:pt x="4256" y="349"/>
                  </a:lnTo>
                  <a:lnTo>
                    <a:pt x="4271" y="358"/>
                  </a:lnTo>
                  <a:lnTo>
                    <a:pt x="4286" y="365"/>
                  </a:lnTo>
                  <a:lnTo>
                    <a:pt x="4302" y="375"/>
                  </a:lnTo>
                  <a:lnTo>
                    <a:pt x="4317" y="384"/>
                  </a:lnTo>
                  <a:lnTo>
                    <a:pt x="4332" y="391"/>
                  </a:lnTo>
                  <a:lnTo>
                    <a:pt x="4346" y="400"/>
                  </a:lnTo>
                  <a:lnTo>
                    <a:pt x="4363" y="409"/>
                  </a:lnTo>
                  <a:lnTo>
                    <a:pt x="4368" y="413"/>
                  </a:lnTo>
                  <a:lnTo>
                    <a:pt x="4385" y="426"/>
                  </a:lnTo>
                  <a:lnTo>
                    <a:pt x="4398" y="444"/>
                  </a:lnTo>
                  <a:lnTo>
                    <a:pt x="4408" y="472"/>
                  </a:lnTo>
                  <a:lnTo>
                    <a:pt x="4408" y="499"/>
                  </a:lnTo>
                  <a:lnTo>
                    <a:pt x="4399" y="525"/>
                  </a:lnTo>
                  <a:lnTo>
                    <a:pt x="4385" y="545"/>
                  </a:lnTo>
                  <a:lnTo>
                    <a:pt x="4363" y="560"/>
                  </a:lnTo>
                  <a:lnTo>
                    <a:pt x="4337" y="569"/>
                  </a:lnTo>
                  <a:lnTo>
                    <a:pt x="4311" y="567"/>
                  </a:lnTo>
                  <a:lnTo>
                    <a:pt x="4282" y="558"/>
                  </a:lnTo>
                  <a:lnTo>
                    <a:pt x="4277" y="552"/>
                  </a:lnTo>
                  <a:lnTo>
                    <a:pt x="4262" y="545"/>
                  </a:lnTo>
                  <a:lnTo>
                    <a:pt x="4247" y="536"/>
                  </a:lnTo>
                  <a:lnTo>
                    <a:pt x="4233" y="529"/>
                  </a:lnTo>
                  <a:lnTo>
                    <a:pt x="4220" y="519"/>
                  </a:lnTo>
                  <a:lnTo>
                    <a:pt x="4205" y="512"/>
                  </a:lnTo>
                  <a:lnTo>
                    <a:pt x="4191" y="505"/>
                  </a:lnTo>
                  <a:lnTo>
                    <a:pt x="4176" y="496"/>
                  </a:lnTo>
                  <a:lnTo>
                    <a:pt x="4161" y="488"/>
                  </a:lnTo>
                  <a:lnTo>
                    <a:pt x="4147" y="481"/>
                  </a:lnTo>
                  <a:lnTo>
                    <a:pt x="4141" y="477"/>
                  </a:lnTo>
                  <a:lnTo>
                    <a:pt x="4121" y="463"/>
                  </a:lnTo>
                  <a:lnTo>
                    <a:pt x="4106" y="442"/>
                  </a:lnTo>
                  <a:lnTo>
                    <a:pt x="4097" y="415"/>
                  </a:lnTo>
                  <a:lnTo>
                    <a:pt x="4097" y="389"/>
                  </a:lnTo>
                  <a:lnTo>
                    <a:pt x="4104" y="365"/>
                  </a:lnTo>
                  <a:lnTo>
                    <a:pt x="4121" y="345"/>
                  </a:lnTo>
                  <a:lnTo>
                    <a:pt x="4141" y="329"/>
                  </a:lnTo>
                  <a:lnTo>
                    <a:pt x="4165" y="321"/>
                  </a:lnTo>
                  <a:lnTo>
                    <a:pt x="4191" y="320"/>
                  </a:lnTo>
                  <a:close/>
                  <a:moveTo>
                    <a:pt x="1751" y="235"/>
                  </a:moveTo>
                  <a:lnTo>
                    <a:pt x="1780" y="241"/>
                  </a:lnTo>
                  <a:lnTo>
                    <a:pt x="1802" y="252"/>
                  </a:lnTo>
                  <a:lnTo>
                    <a:pt x="1821" y="270"/>
                  </a:lnTo>
                  <a:lnTo>
                    <a:pt x="1832" y="290"/>
                  </a:lnTo>
                  <a:lnTo>
                    <a:pt x="1837" y="314"/>
                  </a:lnTo>
                  <a:lnTo>
                    <a:pt x="1835" y="338"/>
                  </a:lnTo>
                  <a:lnTo>
                    <a:pt x="1826" y="362"/>
                  </a:lnTo>
                  <a:lnTo>
                    <a:pt x="1810" y="382"/>
                  </a:lnTo>
                  <a:lnTo>
                    <a:pt x="1788" y="397"/>
                  </a:lnTo>
                  <a:lnTo>
                    <a:pt x="1786" y="397"/>
                  </a:lnTo>
                  <a:lnTo>
                    <a:pt x="1782" y="398"/>
                  </a:lnTo>
                  <a:lnTo>
                    <a:pt x="1777" y="400"/>
                  </a:lnTo>
                  <a:lnTo>
                    <a:pt x="1773" y="402"/>
                  </a:lnTo>
                  <a:lnTo>
                    <a:pt x="1769" y="404"/>
                  </a:lnTo>
                  <a:lnTo>
                    <a:pt x="1764" y="406"/>
                  </a:lnTo>
                  <a:lnTo>
                    <a:pt x="1760" y="409"/>
                  </a:lnTo>
                  <a:lnTo>
                    <a:pt x="1755" y="411"/>
                  </a:lnTo>
                  <a:lnTo>
                    <a:pt x="1751" y="413"/>
                  </a:lnTo>
                  <a:lnTo>
                    <a:pt x="1745" y="415"/>
                  </a:lnTo>
                  <a:lnTo>
                    <a:pt x="1742" y="417"/>
                  </a:lnTo>
                  <a:lnTo>
                    <a:pt x="1736" y="419"/>
                  </a:lnTo>
                  <a:lnTo>
                    <a:pt x="1733" y="420"/>
                  </a:lnTo>
                  <a:lnTo>
                    <a:pt x="1729" y="422"/>
                  </a:lnTo>
                  <a:lnTo>
                    <a:pt x="1723" y="426"/>
                  </a:lnTo>
                  <a:lnTo>
                    <a:pt x="1720" y="428"/>
                  </a:lnTo>
                  <a:lnTo>
                    <a:pt x="1714" y="430"/>
                  </a:lnTo>
                  <a:lnTo>
                    <a:pt x="1711" y="431"/>
                  </a:lnTo>
                  <a:lnTo>
                    <a:pt x="1705" y="433"/>
                  </a:lnTo>
                  <a:lnTo>
                    <a:pt x="1701" y="435"/>
                  </a:lnTo>
                  <a:lnTo>
                    <a:pt x="1698" y="437"/>
                  </a:lnTo>
                  <a:lnTo>
                    <a:pt x="1692" y="441"/>
                  </a:lnTo>
                  <a:lnTo>
                    <a:pt x="1689" y="442"/>
                  </a:lnTo>
                  <a:lnTo>
                    <a:pt x="1683" y="444"/>
                  </a:lnTo>
                  <a:lnTo>
                    <a:pt x="1680" y="446"/>
                  </a:lnTo>
                  <a:lnTo>
                    <a:pt x="1676" y="448"/>
                  </a:lnTo>
                  <a:lnTo>
                    <a:pt x="1670" y="452"/>
                  </a:lnTo>
                  <a:lnTo>
                    <a:pt x="1667" y="453"/>
                  </a:lnTo>
                  <a:lnTo>
                    <a:pt x="1661" y="455"/>
                  </a:lnTo>
                  <a:lnTo>
                    <a:pt x="1658" y="457"/>
                  </a:lnTo>
                  <a:lnTo>
                    <a:pt x="1654" y="459"/>
                  </a:lnTo>
                  <a:lnTo>
                    <a:pt x="1648" y="463"/>
                  </a:lnTo>
                  <a:lnTo>
                    <a:pt x="1645" y="464"/>
                  </a:lnTo>
                  <a:lnTo>
                    <a:pt x="1641" y="466"/>
                  </a:lnTo>
                  <a:lnTo>
                    <a:pt x="1619" y="474"/>
                  </a:lnTo>
                  <a:lnTo>
                    <a:pt x="1599" y="475"/>
                  </a:lnTo>
                  <a:lnTo>
                    <a:pt x="1571" y="470"/>
                  </a:lnTo>
                  <a:lnTo>
                    <a:pt x="1551" y="459"/>
                  </a:lnTo>
                  <a:lnTo>
                    <a:pt x="1535" y="441"/>
                  </a:lnTo>
                  <a:lnTo>
                    <a:pt x="1524" y="420"/>
                  </a:lnTo>
                  <a:lnTo>
                    <a:pt x="1518" y="398"/>
                  </a:lnTo>
                  <a:lnTo>
                    <a:pt x="1520" y="375"/>
                  </a:lnTo>
                  <a:lnTo>
                    <a:pt x="1527" y="353"/>
                  </a:lnTo>
                  <a:lnTo>
                    <a:pt x="1542" y="332"/>
                  </a:lnTo>
                  <a:lnTo>
                    <a:pt x="1564" y="318"/>
                  </a:lnTo>
                  <a:lnTo>
                    <a:pt x="1568" y="314"/>
                  </a:lnTo>
                  <a:lnTo>
                    <a:pt x="1573" y="312"/>
                  </a:lnTo>
                  <a:lnTo>
                    <a:pt x="1577" y="310"/>
                  </a:lnTo>
                  <a:lnTo>
                    <a:pt x="1582" y="309"/>
                  </a:lnTo>
                  <a:lnTo>
                    <a:pt x="1586" y="305"/>
                  </a:lnTo>
                  <a:lnTo>
                    <a:pt x="1592" y="303"/>
                  </a:lnTo>
                  <a:lnTo>
                    <a:pt x="1597" y="301"/>
                  </a:lnTo>
                  <a:lnTo>
                    <a:pt x="1601" y="298"/>
                  </a:lnTo>
                  <a:lnTo>
                    <a:pt x="1606" y="296"/>
                  </a:lnTo>
                  <a:lnTo>
                    <a:pt x="1610" y="294"/>
                  </a:lnTo>
                  <a:lnTo>
                    <a:pt x="1615" y="292"/>
                  </a:lnTo>
                  <a:lnTo>
                    <a:pt x="1619" y="288"/>
                  </a:lnTo>
                  <a:lnTo>
                    <a:pt x="1625" y="287"/>
                  </a:lnTo>
                  <a:lnTo>
                    <a:pt x="1628" y="285"/>
                  </a:lnTo>
                  <a:lnTo>
                    <a:pt x="1634" y="283"/>
                  </a:lnTo>
                  <a:lnTo>
                    <a:pt x="1639" y="281"/>
                  </a:lnTo>
                  <a:lnTo>
                    <a:pt x="1643" y="277"/>
                  </a:lnTo>
                  <a:lnTo>
                    <a:pt x="1648" y="276"/>
                  </a:lnTo>
                  <a:lnTo>
                    <a:pt x="1652" y="274"/>
                  </a:lnTo>
                  <a:lnTo>
                    <a:pt x="1658" y="272"/>
                  </a:lnTo>
                  <a:lnTo>
                    <a:pt x="1661" y="268"/>
                  </a:lnTo>
                  <a:lnTo>
                    <a:pt x="1667" y="266"/>
                  </a:lnTo>
                  <a:lnTo>
                    <a:pt x="1672" y="265"/>
                  </a:lnTo>
                  <a:lnTo>
                    <a:pt x="1676" y="263"/>
                  </a:lnTo>
                  <a:lnTo>
                    <a:pt x="1681" y="261"/>
                  </a:lnTo>
                  <a:lnTo>
                    <a:pt x="1685" y="259"/>
                  </a:lnTo>
                  <a:lnTo>
                    <a:pt x="1691" y="255"/>
                  </a:lnTo>
                  <a:lnTo>
                    <a:pt x="1696" y="254"/>
                  </a:lnTo>
                  <a:lnTo>
                    <a:pt x="1700" y="252"/>
                  </a:lnTo>
                  <a:lnTo>
                    <a:pt x="1705" y="250"/>
                  </a:lnTo>
                  <a:lnTo>
                    <a:pt x="1709" y="248"/>
                  </a:lnTo>
                  <a:lnTo>
                    <a:pt x="1714" y="246"/>
                  </a:lnTo>
                  <a:lnTo>
                    <a:pt x="1720" y="243"/>
                  </a:lnTo>
                  <a:lnTo>
                    <a:pt x="1720" y="243"/>
                  </a:lnTo>
                  <a:lnTo>
                    <a:pt x="1734" y="237"/>
                  </a:lnTo>
                  <a:lnTo>
                    <a:pt x="1751" y="235"/>
                  </a:lnTo>
                  <a:close/>
                  <a:moveTo>
                    <a:pt x="3560" y="83"/>
                  </a:moveTo>
                  <a:lnTo>
                    <a:pt x="3575" y="85"/>
                  </a:lnTo>
                  <a:lnTo>
                    <a:pt x="3584" y="87"/>
                  </a:lnTo>
                  <a:lnTo>
                    <a:pt x="3601" y="90"/>
                  </a:lnTo>
                  <a:lnTo>
                    <a:pt x="3619" y="96"/>
                  </a:lnTo>
                  <a:lnTo>
                    <a:pt x="3636" y="99"/>
                  </a:lnTo>
                  <a:lnTo>
                    <a:pt x="3652" y="105"/>
                  </a:lnTo>
                  <a:lnTo>
                    <a:pt x="3670" y="110"/>
                  </a:lnTo>
                  <a:lnTo>
                    <a:pt x="3687" y="114"/>
                  </a:lnTo>
                  <a:lnTo>
                    <a:pt x="3703" y="120"/>
                  </a:lnTo>
                  <a:lnTo>
                    <a:pt x="3722" y="125"/>
                  </a:lnTo>
                  <a:lnTo>
                    <a:pt x="3738" y="131"/>
                  </a:lnTo>
                  <a:lnTo>
                    <a:pt x="3742" y="131"/>
                  </a:lnTo>
                  <a:lnTo>
                    <a:pt x="3762" y="142"/>
                  </a:lnTo>
                  <a:lnTo>
                    <a:pt x="3780" y="156"/>
                  </a:lnTo>
                  <a:lnTo>
                    <a:pt x="3795" y="182"/>
                  </a:lnTo>
                  <a:lnTo>
                    <a:pt x="3800" y="208"/>
                  </a:lnTo>
                  <a:lnTo>
                    <a:pt x="3797" y="233"/>
                  </a:lnTo>
                  <a:lnTo>
                    <a:pt x="3786" y="257"/>
                  </a:lnTo>
                  <a:lnTo>
                    <a:pt x="3769" y="276"/>
                  </a:lnTo>
                  <a:lnTo>
                    <a:pt x="3745" y="290"/>
                  </a:lnTo>
                  <a:lnTo>
                    <a:pt x="3720" y="296"/>
                  </a:lnTo>
                  <a:lnTo>
                    <a:pt x="3691" y="290"/>
                  </a:lnTo>
                  <a:lnTo>
                    <a:pt x="3689" y="290"/>
                  </a:lnTo>
                  <a:lnTo>
                    <a:pt x="3672" y="285"/>
                  </a:lnTo>
                  <a:lnTo>
                    <a:pt x="3656" y="281"/>
                  </a:lnTo>
                  <a:lnTo>
                    <a:pt x="3641" y="276"/>
                  </a:lnTo>
                  <a:lnTo>
                    <a:pt x="3625" y="270"/>
                  </a:lnTo>
                  <a:lnTo>
                    <a:pt x="3608" y="266"/>
                  </a:lnTo>
                  <a:lnTo>
                    <a:pt x="3592" y="263"/>
                  </a:lnTo>
                  <a:lnTo>
                    <a:pt x="3575" y="257"/>
                  </a:lnTo>
                  <a:lnTo>
                    <a:pt x="3559" y="254"/>
                  </a:lnTo>
                  <a:lnTo>
                    <a:pt x="3548" y="250"/>
                  </a:lnTo>
                  <a:lnTo>
                    <a:pt x="3544" y="250"/>
                  </a:lnTo>
                  <a:lnTo>
                    <a:pt x="3535" y="248"/>
                  </a:lnTo>
                  <a:lnTo>
                    <a:pt x="3520" y="243"/>
                  </a:lnTo>
                  <a:lnTo>
                    <a:pt x="3506" y="233"/>
                  </a:lnTo>
                  <a:lnTo>
                    <a:pt x="3485" y="213"/>
                  </a:lnTo>
                  <a:lnTo>
                    <a:pt x="3474" y="189"/>
                  </a:lnTo>
                  <a:lnTo>
                    <a:pt x="3471" y="165"/>
                  </a:lnTo>
                  <a:lnTo>
                    <a:pt x="3474" y="142"/>
                  </a:lnTo>
                  <a:lnTo>
                    <a:pt x="3485" y="120"/>
                  </a:lnTo>
                  <a:lnTo>
                    <a:pt x="3502" y="101"/>
                  </a:lnTo>
                  <a:lnTo>
                    <a:pt x="3522" y="88"/>
                  </a:lnTo>
                  <a:lnTo>
                    <a:pt x="3548" y="83"/>
                  </a:lnTo>
                  <a:lnTo>
                    <a:pt x="3560" y="83"/>
                  </a:lnTo>
                  <a:close/>
                  <a:moveTo>
                    <a:pt x="2394" y="43"/>
                  </a:moveTo>
                  <a:lnTo>
                    <a:pt x="2408" y="44"/>
                  </a:lnTo>
                  <a:lnTo>
                    <a:pt x="2434" y="54"/>
                  </a:lnTo>
                  <a:lnTo>
                    <a:pt x="2452" y="66"/>
                  </a:lnTo>
                  <a:lnTo>
                    <a:pt x="2465" y="85"/>
                  </a:lnTo>
                  <a:lnTo>
                    <a:pt x="2473" y="105"/>
                  </a:lnTo>
                  <a:lnTo>
                    <a:pt x="2476" y="127"/>
                  </a:lnTo>
                  <a:lnTo>
                    <a:pt x="2473" y="149"/>
                  </a:lnTo>
                  <a:lnTo>
                    <a:pt x="2463" y="169"/>
                  </a:lnTo>
                  <a:lnTo>
                    <a:pt x="2451" y="187"/>
                  </a:lnTo>
                  <a:lnTo>
                    <a:pt x="2432" y="200"/>
                  </a:lnTo>
                  <a:lnTo>
                    <a:pt x="2407" y="208"/>
                  </a:lnTo>
                  <a:lnTo>
                    <a:pt x="2405" y="209"/>
                  </a:lnTo>
                  <a:lnTo>
                    <a:pt x="2399" y="209"/>
                  </a:lnTo>
                  <a:lnTo>
                    <a:pt x="2394" y="211"/>
                  </a:lnTo>
                  <a:lnTo>
                    <a:pt x="2388" y="211"/>
                  </a:lnTo>
                  <a:lnTo>
                    <a:pt x="2385" y="213"/>
                  </a:lnTo>
                  <a:lnTo>
                    <a:pt x="2379" y="213"/>
                  </a:lnTo>
                  <a:lnTo>
                    <a:pt x="2374" y="215"/>
                  </a:lnTo>
                  <a:lnTo>
                    <a:pt x="2370" y="215"/>
                  </a:lnTo>
                  <a:lnTo>
                    <a:pt x="2365" y="217"/>
                  </a:lnTo>
                  <a:lnTo>
                    <a:pt x="2359" y="217"/>
                  </a:lnTo>
                  <a:lnTo>
                    <a:pt x="2355" y="219"/>
                  </a:lnTo>
                  <a:lnTo>
                    <a:pt x="2350" y="219"/>
                  </a:lnTo>
                  <a:lnTo>
                    <a:pt x="2344" y="220"/>
                  </a:lnTo>
                  <a:lnTo>
                    <a:pt x="2339" y="220"/>
                  </a:lnTo>
                  <a:lnTo>
                    <a:pt x="2335" y="222"/>
                  </a:lnTo>
                  <a:lnTo>
                    <a:pt x="2330" y="222"/>
                  </a:lnTo>
                  <a:lnTo>
                    <a:pt x="2324" y="224"/>
                  </a:lnTo>
                  <a:lnTo>
                    <a:pt x="2321" y="226"/>
                  </a:lnTo>
                  <a:lnTo>
                    <a:pt x="2315" y="226"/>
                  </a:lnTo>
                  <a:lnTo>
                    <a:pt x="2310" y="228"/>
                  </a:lnTo>
                  <a:lnTo>
                    <a:pt x="2306" y="228"/>
                  </a:lnTo>
                  <a:lnTo>
                    <a:pt x="2300" y="230"/>
                  </a:lnTo>
                  <a:lnTo>
                    <a:pt x="2295" y="230"/>
                  </a:lnTo>
                  <a:lnTo>
                    <a:pt x="2291" y="231"/>
                  </a:lnTo>
                  <a:lnTo>
                    <a:pt x="2286" y="233"/>
                  </a:lnTo>
                  <a:lnTo>
                    <a:pt x="2280" y="233"/>
                  </a:lnTo>
                  <a:lnTo>
                    <a:pt x="2277" y="235"/>
                  </a:lnTo>
                  <a:lnTo>
                    <a:pt x="2271" y="235"/>
                  </a:lnTo>
                  <a:lnTo>
                    <a:pt x="2266" y="237"/>
                  </a:lnTo>
                  <a:lnTo>
                    <a:pt x="2260" y="239"/>
                  </a:lnTo>
                  <a:lnTo>
                    <a:pt x="2256" y="239"/>
                  </a:lnTo>
                  <a:lnTo>
                    <a:pt x="2251" y="241"/>
                  </a:lnTo>
                  <a:lnTo>
                    <a:pt x="2247" y="241"/>
                  </a:lnTo>
                  <a:lnTo>
                    <a:pt x="2222" y="243"/>
                  </a:lnTo>
                  <a:lnTo>
                    <a:pt x="2194" y="237"/>
                  </a:lnTo>
                  <a:lnTo>
                    <a:pt x="2174" y="224"/>
                  </a:lnTo>
                  <a:lnTo>
                    <a:pt x="2158" y="206"/>
                  </a:lnTo>
                  <a:lnTo>
                    <a:pt x="2148" y="186"/>
                  </a:lnTo>
                  <a:lnTo>
                    <a:pt x="2145" y="164"/>
                  </a:lnTo>
                  <a:lnTo>
                    <a:pt x="2147" y="142"/>
                  </a:lnTo>
                  <a:lnTo>
                    <a:pt x="2154" y="120"/>
                  </a:lnTo>
                  <a:lnTo>
                    <a:pt x="2169" y="101"/>
                  </a:lnTo>
                  <a:lnTo>
                    <a:pt x="2185" y="88"/>
                  </a:lnTo>
                  <a:lnTo>
                    <a:pt x="2209" y="79"/>
                  </a:lnTo>
                  <a:lnTo>
                    <a:pt x="2212" y="77"/>
                  </a:lnTo>
                  <a:lnTo>
                    <a:pt x="2218" y="76"/>
                  </a:lnTo>
                  <a:lnTo>
                    <a:pt x="2223" y="76"/>
                  </a:lnTo>
                  <a:lnTo>
                    <a:pt x="2229" y="74"/>
                  </a:lnTo>
                  <a:lnTo>
                    <a:pt x="2233" y="72"/>
                  </a:lnTo>
                  <a:lnTo>
                    <a:pt x="2238" y="72"/>
                  </a:lnTo>
                  <a:lnTo>
                    <a:pt x="2244" y="70"/>
                  </a:lnTo>
                  <a:lnTo>
                    <a:pt x="2249" y="68"/>
                  </a:lnTo>
                  <a:lnTo>
                    <a:pt x="2255" y="68"/>
                  </a:lnTo>
                  <a:lnTo>
                    <a:pt x="2260" y="66"/>
                  </a:lnTo>
                  <a:lnTo>
                    <a:pt x="2266" y="66"/>
                  </a:lnTo>
                  <a:lnTo>
                    <a:pt x="2269" y="65"/>
                  </a:lnTo>
                  <a:lnTo>
                    <a:pt x="2275" y="63"/>
                  </a:lnTo>
                  <a:lnTo>
                    <a:pt x="2280" y="63"/>
                  </a:lnTo>
                  <a:lnTo>
                    <a:pt x="2286" y="61"/>
                  </a:lnTo>
                  <a:lnTo>
                    <a:pt x="2291" y="61"/>
                  </a:lnTo>
                  <a:lnTo>
                    <a:pt x="2297" y="59"/>
                  </a:lnTo>
                  <a:lnTo>
                    <a:pt x="2302" y="57"/>
                  </a:lnTo>
                  <a:lnTo>
                    <a:pt x="2306" y="57"/>
                  </a:lnTo>
                  <a:lnTo>
                    <a:pt x="2311" y="55"/>
                  </a:lnTo>
                  <a:lnTo>
                    <a:pt x="2317" y="55"/>
                  </a:lnTo>
                  <a:lnTo>
                    <a:pt x="2322" y="54"/>
                  </a:lnTo>
                  <a:lnTo>
                    <a:pt x="2328" y="54"/>
                  </a:lnTo>
                  <a:lnTo>
                    <a:pt x="2333" y="52"/>
                  </a:lnTo>
                  <a:lnTo>
                    <a:pt x="2339" y="50"/>
                  </a:lnTo>
                  <a:lnTo>
                    <a:pt x="2344" y="50"/>
                  </a:lnTo>
                  <a:lnTo>
                    <a:pt x="2348" y="48"/>
                  </a:lnTo>
                  <a:lnTo>
                    <a:pt x="2354" y="48"/>
                  </a:lnTo>
                  <a:lnTo>
                    <a:pt x="2359" y="46"/>
                  </a:lnTo>
                  <a:lnTo>
                    <a:pt x="2365" y="46"/>
                  </a:lnTo>
                  <a:lnTo>
                    <a:pt x="2370" y="44"/>
                  </a:lnTo>
                  <a:lnTo>
                    <a:pt x="2375" y="44"/>
                  </a:lnTo>
                  <a:lnTo>
                    <a:pt x="2377" y="43"/>
                  </a:lnTo>
                  <a:lnTo>
                    <a:pt x="2394" y="43"/>
                  </a:lnTo>
                  <a:close/>
                  <a:moveTo>
                    <a:pt x="2892" y="0"/>
                  </a:moveTo>
                  <a:lnTo>
                    <a:pt x="2899" y="0"/>
                  </a:lnTo>
                  <a:lnTo>
                    <a:pt x="2918" y="0"/>
                  </a:lnTo>
                  <a:lnTo>
                    <a:pt x="2923" y="0"/>
                  </a:lnTo>
                  <a:lnTo>
                    <a:pt x="2936" y="0"/>
                  </a:lnTo>
                  <a:lnTo>
                    <a:pt x="2954" y="0"/>
                  </a:lnTo>
                  <a:lnTo>
                    <a:pt x="2973" y="2"/>
                  </a:lnTo>
                  <a:lnTo>
                    <a:pt x="2991" y="2"/>
                  </a:lnTo>
                  <a:lnTo>
                    <a:pt x="3009" y="2"/>
                  </a:lnTo>
                  <a:lnTo>
                    <a:pt x="3028" y="4"/>
                  </a:lnTo>
                  <a:lnTo>
                    <a:pt x="3046" y="4"/>
                  </a:lnTo>
                  <a:lnTo>
                    <a:pt x="3064" y="6"/>
                  </a:lnTo>
                  <a:lnTo>
                    <a:pt x="3092" y="11"/>
                  </a:lnTo>
                  <a:lnTo>
                    <a:pt x="3115" y="26"/>
                  </a:lnTo>
                  <a:lnTo>
                    <a:pt x="3132" y="46"/>
                  </a:lnTo>
                  <a:lnTo>
                    <a:pt x="3141" y="70"/>
                  </a:lnTo>
                  <a:lnTo>
                    <a:pt x="3143" y="96"/>
                  </a:lnTo>
                  <a:lnTo>
                    <a:pt x="3137" y="121"/>
                  </a:lnTo>
                  <a:lnTo>
                    <a:pt x="3121" y="145"/>
                  </a:lnTo>
                  <a:lnTo>
                    <a:pt x="3103" y="162"/>
                  </a:lnTo>
                  <a:lnTo>
                    <a:pt x="3079" y="171"/>
                  </a:lnTo>
                  <a:lnTo>
                    <a:pt x="3055" y="173"/>
                  </a:lnTo>
                  <a:lnTo>
                    <a:pt x="3037" y="173"/>
                  </a:lnTo>
                  <a:lnTo>
                    <a:pt x="3020" y="171"/>
                  </a:lnTo>
                  <a:lnTo>
                    <a:pt x="3002" y="171"/>
                  </a:lnTo>
                  <a:lnTo>
                    <a:pt x="2985" y="169"/>
                  </a:lnTo>
                  <a:lnTo>
                    <a:pt x="2967" y="169"/>
                  </a:lnTo>
                  <a:lnTo>
                    <a:pt x="2951" y="169"/>
                  </a:lnTo>
                  <a:lnTo>
                    <a:pt x="2932" y="167"/>
                  </a:lnTo>
                  <a:lnTo>
                    <a:pt x="2923" y="167"/>
                  </a:lnTo>
                  <a:lnTo>
                    <a:pt x="2916" y="167"/>
                  </a:lnTo>
                  <a:lnTo>
                    <a:pt x="2897" y="167"/>
                  </a:lnTo>
                  <a:lnTo>
                    <a:pt x="2892" y="167"/>
                  </a:lnTo>
                  <a:lnTo>
                    <a:pt x="2865" y="164"/>
                  </a:lnTo>
                  <a:lnTo>
                    <a:pt x="2841" y="151"/>
                  </a:lnTo>
                  <a:lnTo>
                    <a:pt x="2822" y="131"/>
                  </a:lnTo>
                  <a:lnTo>
                    <a:pt x="2811" y="109"/>
                  </a:lnTo>
                  <a:lnTo>
                    <a:pt x="2808" y="81"/>
                  </a:lnTo>
                  <a:lnTo>
                    <a:pt x="2813" y="55"/>
                  </a:lnTo>
                  <a:lnTo>
                    <a:pt x="2828" y="32"/>
                  </a:lnTo>
                  <a:lnTo>
                    <a:pt x="2846" y="13"/>
                  </a:lnTo>
                  <a:lnTo>
                    <a:pt x="2868" y="4"/>
                  </a:lnTo>
                  <a:lnTo>
                    <a:pt x="2892" y="0"/>
                  </a:lnTo>
                  <a:close/>
                </a:path>
              </a:pathLst>
            </a:custGeom>
            <a:solidFill>
              <a:srgbClr val="ffffff">
                <a:alpha val="1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4" name="Freeform 200"/>
            <p:cNvSpPr/>
            <p:nvPr/>
          </p:nvSpPr>
          <p:spPr>
            <a:xfrm>
              <a:off x="1442880" y="1044720"/>
              <a:ext cx="1343160" cy="1344600"/>
            </a:xfrm>
            <a:custGeom>
              <a:avLst/>
              <a:gdLst/>
              <a:ahLst/>
              <a:rect l="l" t="t" r="r" b="b"/>
              <a:pathLst>
                <a:path w="4438" h="4442">
                  <a:moveTo>
                    <a:pt x="2218" y="0"/>
                  </a:moveTo>
                  <a:lnTo>
                    <a:pt x="2258" y="0"/>
                  </a:lnTo>
                  <a:lnTo>
                    <a:pt x="2381" y="5"/>
                  </a:lnTo>
                  <a:lnTo>
                    <a:pt x="2500" y="16"/>
                  </a:lnTo>
                  <a:lnTo>
                    <a:pt x="2617" y="35"/>
                  </a:lnTo>
                  <a:lnTo>
                    <a:pt x="2665" y="44"/>
                  </a:lnTo>
                  <a:lnTo>
                    <a:pt x="2729" y="58"/>
                  </a:lnTo>
                  <a:lnTo>
                    <a:pt x="2830" y="84"/>
                  </a:lnTo>
                  <a:lnTo>
                    <a:pt x="2931" y="115"/>
                  </a:lnTo>
                  <a:lnTo>
                    <a:pt x="2947" y="123"/>
                  </a:lnTo>
                  <a:lnTo>
                    <a:pt x="3031" y="152"/>
                  </a:lnTo>
                  <a:lnTo>
                    <a:pt x="3031" y="154"/>
                  </a:lnTo>
                  <a:lnTo>
                    <a:pt x="3110" y="185"/>
                  </a:lnTo>
                  <a:lnTo>
                    <a:pt x="3132" y="196"/>
                  </a:lnTo>
                  <a:lnTo>
                    <a:pt x="3185" y="220"/>
                  </a:lnTo>
                  <a:lnTo>
                    <a:pt x="3229" y="242"/>
                  </a:lnTo>
                  <a:lnTo>
                    <a:pt x="3323" y="293"/>
                  </a:lnTo>
                  <a:lnTo>
                    <a:pt x="3440" y="365"/>
                  </a:lnTo>
                  <a:lnTo>
                    <a:pt x="3552" y="444"/>
                  </a:lnTo>
                  <a:lnTo>
                    <a:pt x="3632" y="508"/>
                  </a:lnTo>
                  <a:lnTo>
                    <a:pt x="3711" y="576"/>
                  </a:ln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67" y="2776"/>
                  </a:lnTo>
                  <a:lnTo>
                    <a:pt x="4337" y="2881"/>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19" y="3943"/>
                  </a:lnTo>
                  <a:lnTo>
                    <a:pt x="3524" y="4016"/>
                  </a:lnTo>
                  <a:lnTo>
                    <a:pt x="3425" y="4084"/>
                  </a:lnTo>
                  <a:lnTo>
                    <a:pt x="3323" y="4148"/>
                  </a:lnTo>
                  <a:lnTo>
                    <a:pt x="3229" y="4200"/>
                  </a:lnTo>
                  <a:lnTo>
                    <a:pt x="3132" y="4245"/>
                  </a:lnTo>
                  <a:lnTo>
                    <a:pt x="3031" y="4288"/>
                  </a:lnTo>
                  <a:lnTo>
                    <a:pt x="2931" y="4326"/>
                  </a:lnTo>
                  <a:lnTo>
                    <a:pt x="2823" y="4359"/>
                  </a:lnTo>
                  <a:lnTo>
                    <a:pt x="2713" y="4387"/>
                  </a:lnTo>
                  <a:lnTo>
                    <a:pt x="2592" y="4410"/>
                  </a:lnTo>
                  <a:lnTo>
                    <a:pt x="2469" y="4427"/>
                  </a:lnTo>
                  <a:lnTo>
                    <a:pt x="2345" y="4438"/>
                  </a:lnTo>
                  <a:lnTo>
                    <a:pt x="2218" y="4442"/>
                  </a:lnTo>
                  <a:lnTo>
                    <a:pt x="2070" y="4436"/>
                  </a:lnTo>
                  <a:lnTo>
                    <a:pt x="1925" y="4423"/>
                  </a:lnTo>
                  <a:lnTo>
                    <a:pt x="1782" y="4399"/>
                  </a:lnTo>
                  <a:lnTo>
                    <a:pt x="1643" y="4366"/>
                  </a:lnTo>
                  <a:lnTo>
                    <a:pt x="1508" y="4324"/>
                  </a:lnTo>
                  <a:lnTo>
                    <a:pt x="1405" y="4288"/>
                  </a:lnTo>
                  <a:lnTo>
                    <a:pt x="1306" y="4245"/>
                  </a:lnTo>
                  <a:lnTo>
                    <a:pt x="1209" y="4200"/>
                  </a:lnTo>
                  <a:lnTo>
                    <a:pt x="1114" y="4148"/>
                  </a:lnTo>
                  <a:lnTo>
                    <a:pt x="1011" y="4084"/>
                  </a:lnTo>
                  <a:lnTo>
                    <a:pt x="912" y="4016"/>
                  </a:lnTo>
                  <a:lnTo>
                    <a:pt x="817" y="3943"/>
                  </a:lnTo>
                  <a:lnTo>
                    <a:pt x="727" y="3864"/>
                  </a:lnTo>
                  <a:lnTo>
                    <a:pt x="650" y="3791"/>
                  </a:lnTo>
                  <a:lnTo>
                    <a:pt x="577" y="3714"/>
                  </a:lnTo>
                  <a:lnTo>
                    <a:pt x="524" y="3653"/>
                  </a:lnTo>
                  <a:lnTo>
                    <a:pt x="473" y="3592"/>
                  </a:lnTo>
                  <a:lnTo>
                    <a:pt x="410" y="3506"/>
                  </a:lnTo>
                  <a:lnTo>
                    <a:pt x="350" y="3418"/>
                  </a:lnTo>
                  <a:lnTo>
                    <a:pt x="295" y="3327"/>
                  </a:lnTo>
                  <a:lnTo>
                    <a:pt x="244" y="3231"/>
                  </a:lnTo>
                  <a:lnTo>
                    <a:pt x="220" y="3184"/>
                  </a:lnTo>
                  <a:lnTo>
                    <a:pt x="174" y="3084"/>
                  </a:lnTo>
                  <a:lnTo>
                    <a:pt x="136" y="2984"/>
                  </a:lnTo>
                  <a:lnTo>
                    <a:pt x="101" y="2881"/>
                  </a:lnTo>
                  <a:lnTo>
                    <a:pt x="70" y="2776"/>
                  </a:lnTo>
                  <a:lnTo>
                    <a:pt x="46" y="2668"/>
                  </a:lnTo>
                  <a:lnTo>
                    <a:pt x="26" y="2558"/>
                  </a:lnTo>
                  <a:lnTo>
                    <a:pt x="11" y="2448"/>
                  </a:lnTo>
                  <a:lnTo>
                    <a:pt x="4" y="2334"/>
                  </a:lnTo>
                  <a:lnTo>
                    <a:pt x="0" y="2221"/>
                  </a:lnTo>
                  <a:lnTo>
                    <a:pt x="4" y="2105"/>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93" y="1115"/>
                  </a:lnTo>
                  <a:lnTo>
                    <a:pt x="350" y="1023"/>
                  </a:lnTo>
                  <a:lnTo>
                    <a:pt x="410" y="935"/>
                  </a:lnTo>
                  <a:lnTo>
                    <a:pt x="473" y="849"/>
                  </a:lnTo>
                  <a:lnTo>
                    <a:pt x="524" y="787"/>
                  </a:lnTo>
                  <a:lnTo>
                    <a:pt x="577" y="726"/>
                  </a:lnTo>
                  <a:lnTo>
                    <a:pt x="650" y="649"/>
                  </a:lnTo>
                  <a:lnTo>
                    <a:pt x="727" y="576"/>
                  </a:lnTo>
                  <a:lnTo>
                    <a:pt x="766" y="543"/>
                  </a:lnTo>
                  <a:lnTo>
                    <a:pt x="876" y="453"/>
                  </a:lnTo>
                  <a:lnTo>
                    <a:pt x="993" y="368"/>
                  </a:lnTo>
                  <a:lnTo>
                    <a:pt x="1114" y="293"/>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5" name="Freeform 201"/>
            <p:cNvSpPr/>
            <p:nvPr/>
          </p:nvSpPr>
          <p:spPr>
            <a:xfrm>
              <a:off x="1442880" y="1044720"/>
              <a:ext cx="1343160" cy="1289160"/>
            </a:xfrm>
            <a:custGeom>
              <a:avLst/>
              <a:gdLst/>
              <a:ahLst/>
              <a:rect l="l" t="t" r="r" b="b"/>
              <a:pathLst>
                <a:path w="4438" h="4255">
                  <a:moveTo>
                    <a:pt x="793" y="2569"/>
                  </a:moveTo>
                  <a:lnTo>
                    <a:pt x="815" y="2569"/>
                  </a:lnTo>
                  <a:lnTo>
                    <a:pt x="837" y="2573"/>
                  </a:lnTo>
                  <a:lnTo>
                    <a:pt x="856" y="2580"/>
                  </a:lnTo>
                  <a:lnTo>
                    <a:pt x="868" y="2589"/>
                  </a:lnTo>
                  <a:lnTo>
                    <a:pt x="870" y="2593"/>
                  </a:lnTo>
                  <a:lnTo>
                    <a:pt x="872" y="2597"/>
                  </a:lnTo>
                  <a:lnTo>
                    <a:pt x="872" y="2600"/>
                  </a:lnTo>
                  <a:lnTo>
                    <a:pt x="868" y="2602"/>
                  </a:lnTo>
                  <a:lnTo>
                    <a:pt x="863" y="2604"/>
                  </a:lnTo>
                  <a:lnTo>
                    <a:pt x="857" y="2606"/>
                  </a:lnTo>
                  <a:lnTo>
                    <a:pt x="850" y="2606"/>
                  </a:lnTo>
                  <a:lnTo>
                    <a:pt x="841" y="2606"/>
                  </a:lnTo>
                  <a:lnTo>
                    <a:pt x="821" y="2604"/>
                  </a:lnTo>
                  <a:lnTo>
                    <a:pt x="802" y="2600"/>
                  </a:lnTo>
                  <a:lnTo>
                    <a:pt x="788" y="2595"/>
                  </a:lnTo>
                  <a:lnTo>
                    <a:pt x="777" y="2587"/>
                  </a:lnTo>
                  <a:lnTo>
                    <a:pt x="771" y="2582"/>
                  </a:lnTo>
                  <a:lnTo>
                    <a:pt x="771" y="2576"/>
                  </a:lnTo>
                  <a:lnTo>
                    <a:pt x="779" y="2573"/>
                  </a:lnTo>
                  <a:lnTo>
                    <a:pt x="793" y="2569"/>
                  </a:lnTo>
                  <a:close/>
                  <a:moveTo>
                    <a:pt x="696" y="2523"/>
                  </a:moveTo>
                  <a:lnTo>
                    <a:pt x="711" y="2525"/>
                  </a:lnTo>
                  <a:lnTo>
                    <a:pt x="722" y="2532"/>
                  </a:lnTo>
                  <a:lnTo>
                    <a:pt x="727" y="2545"/>
                  </a:lnTo>
                  <a:lnTo>
                    <a:pt x="727" y="2560"/>
                  </a:lnTo>
                  <a:lnTo>
                    <a:pt x="725" y="2573"/>
                  </a:lnTo>
                  <a:lnTo>
                    <a:pt x="716" y="2586"/>
                  </a:lnTo>
                  <a:lnTo>
                    <a:pt x="703" y="2595"/>
                  </a:lnTo>
                  <a:lnTo>
                    <a:pt x="687" y="2599"/>
                  </a:lnTo>
                  <a:lnTo>
                    <a:pt x="678" y="2597"/>
                  </a:lnTo>
                  <a:lnTo>
                    <a:pt x="665" y="2593"/>
                  </a:lnTo>
                  <a:lnTo>
                    <a:pt x="650" y="2586"/>
                  </a:lnTo>
                  <a:lnTo>
                    <a:pt x="639" y="2576"/>
                  </a:lnTo>
                  <a:lnTo>
                    <a:pt x="632" y="2565"/>
                  </a:lnTo>
                  <a:lnTo>
                    <a:pt x="628" y="2554"/>
                  </a:lnTo>
                  <a:lnTo>
                    <a:pt x="630" y="2543"/>
                  </a:lnTo>
                  <a:lnTo>
                    <a:pt x="639" y="2534"/>
                  </a:lnTo>
                  <a:lnTo>
                    <a:pt x="654" y="2527"/>
                  </a:lnTo>
                  <a:lnTo>
                    <a:pt x="678" y="2523"/>
                  </a:lnTo>
                  <a:lnTo>
                    <a:pt x="687" y="2523"/>
                  </a:lnTo>
                  <a:lnTo>
                    <a:pt x="696" y="2523"/>
                  </a:lnTo>
                  <a:close/>
                  <a:moveTo>
                    <a:pt x="475" y="2455"/>
                  </a:moveTo>
                  <a:lnTo>
                    <a:pt x="486" y="2455"/>
                  </a:lnTo>
                  <a:lnTo>
                    <a:pt x="497" y="2457"/>
                  </a:lnTo>
                  <a:lnTo>
                    <a:pt x="513" y="2463"/>
                  </a:lnTo>
                  <a:lnTo>
                    <a:pt x="528" y="2470"/>
                  </a:lnTo>
                  <a:lnTo>
                    <a:pt x="539" y="2479"/>
                  </a:lnTo>
                  <a:lnTo>
                    <a:pt x="544" y="2488"/>
                  </a:lnTo>
                  <a:lnTo>
                    <a:pt x="542" y="2496"/>
                  </a:lnTo>
                  <a:lnTo>
                    <a:pt x="535" y="2501"/>
                  </a:lnTo>
                  <a:lnTo>
                    <a:pt x="519" y="2503"/>
                  </a:lnTo>
                  <a:lnTo>
                    <a:pt x="508" y="2503"/>
                  </a:lnTo>
                  <a:lnTo>
                    <a:pt x="497" y="2501"/>
                  </a:lnTo>
                  <a:lnTo>
                    <a:pt x="478" y="2496"/>
                  </a:lnTo>
                  <a:lnTo>
                    <a:pt x="464" y="2488"/>
                  </a:lnTo>
                  <a:lnTo>
                    <a:pt x="454" y="2479"/>
                  </a:lnTo>
                  <a:lnTo>
                    <a:pt x="449" y="2470"/>
                  </a:lnTo>
                  <a:lnTo>
                    <a:pt x="449" y="2463"/>
                  </a:lnTo>
                  <a:lnTo>
                    <a:pt x="458" y="2457"/>
                  </a:lnTo>
                  <a:lnTo>
                    <a:pt x="475" y="2455"/>
                  </a:lnTo>
                  <a:close/>
                  <a:moveTo>
                    <a:pt x="176" y="2406"/>
                  </a:moveTo>
                  <a:lnTo>
                    <a:pt x="183" y="2410"/>
                  </a:lnTo>
                  <a:lnTo>
                    <a:pt x="185" y="2421"/>
                  </a:lnTo>
                  <a:lnTo>
                    <a:pt x="185" y="2435"/>
                  </a:lnTo>
                  <a:lnTo>
                    <a:pt x="182" y="2455"/>
                  </a:lnTo>
                  <a:lnTo>
                    <a:pt x="178" y="2479"/>
                  </a:lnTo>
                  <a:lnTo>
                    <a:pt x="174" y="2505"/>
                  </a:lnTo>
                  <a:lnTo>
                    <a:pt x="171" y="2531"/>
                  </a:lnTo>
                  <a:lnTo>
                    <a:pt x="167" y="2556"/>
                  </a:lnTo>
                  <a:lnTo>
                    <a:pt x="167" y="2582"/>
                  </a:lnTo>
                  <a:lnTo>
                    <a:pt x="167" y="2604"/>
                  </a:lnTo>
                  <a:lnTo>
                    <a:pt x="172" y="2624"/>
                  </a:lnTo>
                  <a:lnTo>
                    <a:pt x="180" y="2641"/>
                  </a:lnTo>
                  <a:lnTo>
                    <a:pt x="192" y="2650"/>
                  </a:lnTo>
                  <a:lnTo>
                    <a:pt x="209" y="2654"/>
                  </a:lnTo>
                  <a:lnTo>
                    <a:pt x="231" y="2655"/>
                  </a:lnTo>
                  <a:lnTo>
                    <a:pt x="246" y="2661"/>
                  </a:lnTo>
                  <a:lnTo>
                    <a:pt x="253" y="2670"/>
                  </a:lnTo>
                  <a:lnTo>
                    <a:pt x="257" y="2683"/>
                  </a:lnTo>
                  <a:lnTo>
                    <a:pt x="257" y="2698"/>
                  </a:lnTo>
                  <a:lnTo>
                    <a:pt x="257" y="2714"/>
                  </a:lnTo>
                  <a:lnTo>
                    <a:pt x="257" y="2731"/>
                  </a:lnTo>
                  <a:lnTo>
                    <a:pt x="260" y="2749"/>
                  </a:lnTo>
                  <a:lnTo>
                    <a:pt x="268" y="2765"/>
                  </a:lnTo>
                  <a:lnTo>
                    <a:pt x="288" y="2793"/>
                  </a:lnTo>
                  <a:lnTo>
                    <a:pt x="310" y="2817"/>
                  </a:lnTo>
                  <a:lnTo>
                    <a:pt x="335" y="2833"/>
                  </a:lnTo>
                  <a:lnTo>
                    <a:pt x="359" y="2842"/>
                  </a:lnTo>
                  <a:lnTo>
                    <a:pt x="379" y="2844"/>
                  </a:lnTo>
                  <a:lnTo>
                    <a:pt x="398" y="2841"/>
                  </a:lnTo>
                  <a:lnTo>
                    <a:pt x="418" y="2837"/>
                  </a:lnTo>
                  <a:lnTo>
                    <a:pt x="443" y="2837"/>
                  </a:lnTo>
                  <a:lnTo>
                    <a:pt x="469" y="2839"/>
                  </a:lnTo>
                  <a:lnTo>
                    <a:pt x="497" y="2841"/>
                  </a:lnTo>
                  <a:lnTo>
                    <a:pt x="519" y="2842"/>
                  </a:lnTo>
                  <a:lnTo>
                    <a:pt x="539" y="2839"/>
                  </a:lnTo>
                  <a:lnTo>
                    <a:pt x="559" y="2831"/>
                  </a:lnTo>
                  <a:lnTo>
                    <a:pt x="573" y="2820"/>
                  </a:lnTo>
                  <a:lnTo>
                    <a:pt x="590" y="2808"/>
                  </a:lnTo>
                  <a:lnTo>
                    <a:pt x="605" y="2797"/>
                  </a:lnTo>
                  <a:lnTo>
                    <a:pt x="619" y="2787"/>
                  </a:lnTo>
                  <a:lnTo>
                    <a:pt x="634" y="2782"/>
                  </a:lnTo>
                  <a:lnTo>
                    <a:pt x="645" y="2782"/>
                  </a:lnTo>
                  <a:lnTo>
                    <a:pt x="656" y="2789"/>
                  </a:lnTo>
                  <a:lnTo>
                    <a:pt x="665" y="2804"/>
                  </a:lnTo>
                  <a:lnTo>
                    <a:pt x="669" y="2811"/>
                  </a:lnTo>
                  <a:lnTo>
                    <a:pt x="674" y="2817"/>
                  </a:lnTo>
                  <a:lnTo>
                    <a:pt x="678" y="2822"/>
                  </a:lnTo>
                  <a:lnTo>
                    <a:pt x="696" y="2833"/>
                  </a:lnTo>
                  <a:lnTo>
                    <a:pt x="716" y="2839"/>
                  </a:lnTo>
                  <a:lnTo>
                    <a:pt x="740" y="2841"/>
                  </a:lnTo>
                  <a:lnTo>
                    <a:pt x="766" y="2841"/>
                  </a:lnTo>
                  <a:lnTo>
                    <a:pt x="797" y="2837"/>
                  </a:lnTo>
                  <a:lnTo>
                    <a:pt x="826" y="2837"/>
                  </a:lnTo>
                  <a:lnTo>
                    <a:pt x="868" y="2835"/>
                  </a:lnTo>
                  <a:lnTo>
                    <a:pt x="901" y="2833"/>
                  </a:lnTo>
                  <a:lnTo>
                    <a:pt x="938" y="2837"/>
                  </a:lnTo>
                  <a:lnTo>
                    <a:pt x="971" y="2842"/>
                  </a:lnTo>
                  <a:lnTo>
                    <a:pt x="1008" y="2855"/>
                  </a:lnTo>
                  <a:lnTo>
                    <a:pt x="1046" y="2874"/>
                  </a:lnTo>
                  <a:lnTo>
                    <a:pt x="1084" y="2897"/>
                  </a:lnTo>
                  <a:lnTo>
                    <a:pt x="1121" y="2923"/>
                  </a:lnTo>
                  <a:lnTo>
                    <a:pt x="1156" y="2947"/>
                  </a:lnTo>
                  <a:lnTo>
                    <a:pt x="1189" y="2969"/>
                  </a:lnTo>
                  <a:lnTo>
                    <a:pt x="1220" y="2987"/>
                  </a:lnTo>
                  <a:lnTo>
                    <a:pt x="1251" y="2998"/>
                  </a:lnTo>
                  <a:lnTo>
                    <a:pt x="1282" y="3002"/>
                  </a:lnTo>
                  <a:lnTo>
                    <a:pt x="1304" y="3006"/>
                  </a:lnTo>
                  <a:lnTo>
                    <a:pt x="1321" y="3015"/>
                  </a:lnTo>
                  <a:lnTo>
                    <a:pt x="1332" y="3028"/>
                  </a:lnTo>
                  <a:lnTo>
                    <a:pt x="1337" y="3046"/>
                  </a:lnTo>
                  <a:lnTo>
                    <a:pt x="1341" y="3068"/>
                  </a:lnTo>
                  <a:lnTo>
                    <a:pt x="1341" y="3090"/>
                  </a:lnTo>
                  <a:lnTo>
                    <a:pt x="1341" y="3116"/>
                  </a:lnTo>
                  <a:lnTo>
                    <a:pt x="1341" y="3141"/>
                  </a:lnTo>
                  <a:lnTo>
                    <a:pt x="1345" y="3163"/>
                  </a:lnTo>
                  <a:lnTo>
                    <a:pt x="1354" y="3180"/>
                  </a:lnTo>
                  <a:lnTo>
                    <a:pt x="1368" y="3193"/>
                  </a:lnTo>
                  <a:lnTo>
                    <a:pt x="1387" y="3204"/>
                  </a:lnTo>
                  <a:lnTo>
                    <a:pt x="1410" y="3211"/>
                  </a:lnTo>
                  <a:lnTo>
                    <a:pt x="1438" y="3218"/>
                  </a:lnTo>
                  <a:lnTo>
                    <a:pt x="1465" y="3226"/>
                  </a:lnTo>
                  <a:lnTo>
                    <a:pt x="1497" y="3235"/>
                  </a:lnTo>
                  <a:lnTo>
                    <a:pt x="1530" y="3244"/>
                  </a:lnTo>
                  <a:lnTo>
                    <a:pt x="1566" y="3257"/>
                  </a:lnTo>
                  <a:lnTo>
                    <a:pt x="1601" y="3264"/>
                  </a:lnTo>
                  <a:lnTo>
                    <a:pt x="1632" y="3273"/>
                  </a:lnTo>
                  <a:lnTo>
                    <a:pt x="1661" y="3281"/>
                  </a:lnTo>
                  <a:lnTo>
                    <a:pt x="1693" y="3294"/>
                  </a:lnTo>
                  <a:lnTo>
                    <a:pt x="1725" y="3308"/>
                  </a:lnTo>
                  <a:lnTo>
                    <a:pt x="1764" y="3330"/>
                  </a:lnTo>
                  <a:lnTo>
                    <a:pt x="1801" y="3354"/>
                  </a:lnTo>
                  <a:lnTo>
                    <a:pt x="1830" y="3376"/>
                  </a:lnTo>
                  <a:lnTo>
                    <a:pt x="1848" y="3396"/>
                  </a:lnTo>
                  <a:lnTo>
                    <a:pt x="1857" y="3416"/>
                  </a:lnTo>
                  <a:lnTo>
                    <a:pt x="1859" y="3438"/>
                  </a:lnTo>
                  <a:lnTo>
                    <a:pt x="1850" y="3464"/>
                  </a:lnTo>
                  <a:lnTo>
                    <a:pt x="1834" y="3492"/>
                  </a:lnTo>
                  <a:lnTo>
                    <a:pt x="1812" y="3523"/>
                  </a:lnTo>
                  <a:lnTo>
                    <a:pt x="1784" y="3559"/>
                  </a:lnTo>
                  <a:lnTo>
                    <a:pt x="1755" y="3598"/>
                  </a:lnTo>
                  <a:lnTo>
                    <a:pt x="1727" y="3640"/>
                  </a:lnTo>
                  <a:lnTo>
                    <a:pt x="1704" y="3682"/>
                  </a:lnTo>
                  <a:lnTo>
                    <a:pt x="1687" y="3726"/>
                  </a:lnTo>
                  <a:lnTo>
                    <a:pt x="1678" y="3770"/>
                  </a:lnTo>
                  <a:lnTo>
                    <a:pt x="1672" y="3814"/>
                  </a:lnTo>
                  <a:lnTo>
                    <a:pt x="1661" y="3855"/>
                  </a:lnTo>
                  <a:lnTo>
                    <a:pt x="1643" y="3891"/>
                  </a:lnTo>
                  <a:lnTo>
                    <a:pt x="1621" y="3924"/>
                  </a:lnTo>
                  <a:lnTo>
                    <a:pt x="1597" y="3952"/>
                  </a:lnTo>
                  <a:lnTo>
                    <a:pt x="1568" y="3970"/>
                  </a:lnTo>
                  <a:lnTo>
                    <a:pt x="1539" y="3979"/>
                  </a:lnTo>
                  <a:lnTo>
                    <a:pt x="1506" y="3989"/>
                  </a:lnTo>
                  <a:lnTo>
                    <a:pt x="1473" y="4003"/>
                  </a:lnTo>
                  <a:lnTo>
                    <a:pt x="1447" y="4022"/>
                  </a:lnTo>
                  <a:lnTo>
                    <a:pt x="1425" y="4044"/>
                  </a:lnTo>
                  <a:lnTo>
                    <a:pt x="1410" y="4067"/>
                  </a:lnTo>
                  <a:lnTo>
                    <a:pt x="1405" y="4093"/>
                  </a:lnTo>
                  <a:lnTo>
                    <a:pt x="1403" y="4106"/>
                  </a:lnTo>
                  <a:lnTo>
                    <a:pt x="1398" y="4117"/>
                  </a:lnTo>
                  <a:lnTo>
                    <a:pt x="1388" y="4124"/>
                  </a:lnTo>
                  <a:lnTo>
                    <a:pt x="1377" y="4132"/>
                  </a:lnTo>
                  <a:lnTo>
                    <a:pt x="1367" y="4139"/>
                  </a:lnTo>
                  <a:lnTo>
                    <a:pt x="1356" y="4150"/>
                  </a:lnTo>
                  <a:lnTo>
                    <a:pt x="1346" y="4165"/>
                  </a:lnTo>
                  <a:lnTo>
                    <a:pt x="1339" y="4185"/>
                  </a:lnTo>
                  <a:lnTo>
                    <a:pt x="1335" y="4211"/>
                  </a:lnTo>
                  <a:lnTo>
                    <a:pt x="1328" y="4255"/>
                  </a:lnTo>
                  <a:lnTo>
                    <a:pt x="1209" y="4200"/>
                  </a:lnTo>
                  <a:lnTo>
                    <a:pt x="1121" y="4152"/>
                  </a:lnTo>
                  <a:lnTo>
                    <a:pt x="1114" y="4148"/>
                  </a:lnTo>
                  <a:lnTo>
                    <a:pt x="1024" y="4093"/>
                  </a:lnTo>
                  <a:lnTo>
                    <a:pt x="938" y="4034"/>
                  </a:lnTo>
                  <a:lnTo>
                    <a:pt x="868" y="3983"/>
                  </a:lnTo>
                  <a:lnTo>
                    <a:pt x="766" y="3899"/>
                  </a:lnTo>
                  <a:lnTo>
                    <a:pt x="727" y="3864"/>
                  </a:lnTo>
                  <a:lnTo>
                    <a:pt x="678" y="3820"/>
                  </a:lnTo>
                  <a:lnTo>
                    <a:pt x="661" y="3803"/>
                  </a:lnTo>
                  <a:lnTo>
                    <a:pt x="638" y="3772"/>
                  </a:lnTo>
                  <a:lnTo>
                    <a:pt x="610" y="3743"/>
                  </a:lnTo>
                  <a:lnTo>
                    <a:pt x="581" y="3719"/>
                  </a:lnTo>
                  <a:lnTo>
                    <a:pt x="577" y="3714"/>
                  </a:lnTo>
                  <a:lnTo>
                    <a:pt x="497" y="3620"/>
                  </a:lnTo>
                  <a:lnTo>
                    <a:pt x="493" y="3616"/>
                  </a:lnTo>
                  <a:lnTo>
                    <a:pt x="493" y="3598"/>
                  </a:lnTo>
                  <a:lnTo>
                    <a:pt x="489" y="3580"/>
                  </a:lnTo>
                  <a:lnTo>
                    <a:pt x="475" y="3556"/>
                  </a:lnTo>
                  <a:lnTo>
                    <a:pt x="454" y="3532"/>
                  </a:lnTo>
                  <a:lnTo>
                    <a:pt x="431" y="3506"/>
                  </a:lnTo>
                  <a:lnTo>
                    <a:pt x="405" y="3479"/>
                  </a:lnTo>
                  <a:lnTo>
                    <a:pt x="381" y="3451"/>
                  </a:lnTo>
                  <a:lnTo>
                    <a:pt x="359" y="3426"/>
                  </a:lnTo>
                  <a:lnTo>
                    <a:pt x="350" y="3413"/>
                  </a:lnTo>
                  <a:lnTo>
                    <a:pt x="343" y="3400"/>
                  </a:lnTo>
                  <a:lnTo>
                    <a:pt x="334" y="3374"/>
                  </a:lnTo>
                  <a:lnTo>
                    <a:pt x="326" y="3347"/>
                  </a:lnTo>
                  <a:lnTo>
                    <a:pt x="321" y="3317"/>
                  </a:lnTo>
                  <a:lnTo>
                    <a:pt x="321" y="3288"/>
                  </a:lnTo>
                  <a:lnTo>
                    <a:pt x="323" y="3259"/>
                  </a:lnTo>
                  <a:lnTo>
                    <a:pt x="330" y="3235"/>
                  </a:lnTo>
                  <a:lnTo>
                    <a:pt x="343" y="3213"/>
                  </a:lnTo>
                  <a:lnTo>
                    <a:pt x="359" y="3198"/>
                  </a:lnTo>
                  <a:lnTo>
                    <a:pt x="365" y="3196"/>
                  </a:lnTo>
                  <a:lnTo>
                    <a:pt x="383" y="3184"/>
                  </a:lnTo>
                  <a:lnTo>
                    <a:pt x="396" y="3167"/>
                  </a:lnTo>
                  <a:lnTo>
                    <a:pt x="405" y="3149"/>
                  </a:lnTo>
                  <a:lnTo>
                    <a:pt x="410" y="3130"/>
                  </a:lnTo>
                  <a:lnTo>
                    <a:pt x="418" y="3112"/>
                  </a:lnTo>
                  <a:lnTo>
                    <a:pt x="425" y="3096"/>
                  </a:lnTo>
                  <a:lnTo>
                    <a:pt x="438" y="3081"/>
                  </a:lnTo>
                  <a:lnTo>
                    <a:pt x="456" y="3072"/>
                  </a:lnTo>
                  <a:lnTo>
                    <a:pt x="475" y="3064"/>
                  </a:lnTo>
                  <a:lnTo>
                    <a:pt x="484" y="3051"/>
                  </a:lnTo>
                  <a:lnTo>
                    <a:pt x="487" y="3037"/>
                  </a:lnTo>
                  <a:lnTo>
                    <a:pt x="486" y="3020"/>
                  </a:lnTo>
                  <a:lnTo>
                    <a:pt x="482" y="3002"/>
                  </a:lnTo>
                  <a:lnTo>
                    <a:pt x="473" y="2984"/>
                  </a:lnTo>
                  <a:lnTo>
                    <a:pt x="465" y="2965"/>
                  </a:lnTo>
                  <a:lnTo>
                    <a:pt x="456" y="2949"/>
                  </a:lnTo>
                  <a:lnTo>
                    <a:pt x="445" y="2938"/>
                  </a:lnTo>
                  <a:lnTo>
                    <a:pt x="429" y="2932"/>
                  </a:lnTo>
                  <a:lnTo>
                    <a:pt x="409" y="2929"/>
                  </a:lnTo>
                  <a:lnTo>
                    <a:pt x="385" y="2927"/>
                  </a:lnTo>
                  <a:lnTo>
                    <a:pt x="359" y="2927"/>
                  </a:lnTo>
                  <a:lnTo>
                    <a:pt x="337" y="2927"/>
                  </a:lnTo>
                  <a:lnTo>
                    <a:pt x="317" y="2925"/>
                  </a:lnTo>
                  <a:lnTo>
                    <a:pt x="299" y="2921"/>
                  </a:lnTo>
                  <a:lnTo>
                    <a:pt x="284" y="2916"/>
                  </a:lnTo>
                  <a:lnTo>
                    <a:pt x="273" y="2907"/>
                  </a:lnTo>
                  <a:lnTo>
                    <a:pt x="266" y="2890"/>
                  </a:lnTo>
                  <a:lnTo>
                    <a:pt x="260" y="2872"/>
                  </a:lnTo>
                  <a:lnTo>
                    <a:pt x="253" y="2852"/>
                  </a:lnTo>
                  <a:lnTo>
                    <a:pt x="246" y="2830"/>
                  </a:lnTo>
                  <a:lnTo>
                    <a:pt x="236" y="2806"/>
                  </a:lnTo>
                  <a:lnTo>
                    <a:pt x="225" y="2786"/>
                  </a:lnTo>
                  <a:lnTo>
                    <a:pt x="213" y="2767"/>
                  </a:lnTo>
                  <a:lnTo>
                    <a:pt x="196" y="2753"/>
                  </a:lnTo>
                  <a:lnTo>
                    <a:pt x="176" y="2743"/>
                  </a:lnTo>
                  <a:lnTo>
                    <a:pt x="150" y="2740"/>
                  </a:lnTo>
                  <a:lnTo>
                    <a:pt x="116" y="2734"/>
                  </a:lnTo>
                  <a:lnTo>
                    <a:pt x="84" y="2723"/>
                  </a:lnTo>
                  <a:lnTo>
                    <a:pt x="53" y="2709"/>
                  </a:lnTo>
                  <a:lnTo>
                    <a:pt x="46" y="2668"/>
                  </a:lnTo>
                  <a:lnTo>
                    <a:pt x="26" y="2558"/>
                  </a:lnTo>
                  <a:lnTo>
                    <a:pt x="20" y="2516"/>
                  </a:lnTo>
                  <a:lnTo>
                    <a:pt x="37" y="2499"/>
                  </a:lnTo>
                  <a:lnTo>
                    <a:pt x="55" y="2483"/>
                  </a:lnTo>
                  <a:lnTo>
                    <a:pt x="75" y="2466"/>
                  </a:lnTo>
                  <a:lnTo>
                    <a:pt x="95" y="2450"/>
                  </a:lnTo>
                  <a:lnTo>
                    <a:pt x="114" y="2435"/>
                  </a:lnTo>
                  <a:lnTo>
                    <a:pt x="134" y="2422"/>
                  </a:lnTo>
                  <a:lnTo>
                    <a:pt x="150" y="2411"/>
                  </a:lnTo>
                  <a:lnTo>
                    <a:pt x="165" y="2406"/>
                  </a:lnTo>
                  <a:lnTo>
                    <a:pt x="176" y="2406"/>
                  </a:lnTo>
                  <a:close/>
                  <a:moveTo>
                    <a:pt x="324" y="2389"/>
                  </a:moveTo>
                  <a:lnTo>
                    <a:pt x="343" y="2389"/>
                  </a:lnTo>
                  <a:lnTo>
                    <a:pt x="352" y="2389"/>
                  </a:lnTo>
                  <a:lnTo>
                    <a:pt x="359" y="2391"/>
                  </a:lnTo>
                  <a:lnTo>
                    <a:pt x="377" y="2397"/>
                  </a:lnTo>
                  <a:lnTo>
                    <a:pt x="390" y="2406"/>
                  </a:lnTo>
                  <a:lnTo>
                    <a:pt x="401" y="2415"/>
                  </a:lnTo>
                  <a:lnTo>
                    <a:pt x="409" y="2426"/>
                  </a:lnTo>
                  <a:lnTo>
                    <a:pt x="410" y="2437"/>
                  </a:lnTo>
                  <a:lnTo>
                    <a:pt x="407" y="2444"/>
                  </a:lnTo>
                  <a:lnTo>
                    <a:pt x="396" y="2450"/>
                  </a:lnTo>
                  <a:lnTo>
                    <a:pt x="379" y="2450"/>
                  </a:lnTo>
                  <a:lnTo>
                    <a:pt x="370" y="2450"/>
                  </a:lnTo>
                  <a:lnTo>
                    <a:pt x="359" y="2446"/>
                  </a:lnTo>
                  <a:lnTo>
                    <a:pt x="343" y="2439"/>
                  </a:lnTo>
                  <a:lnTo>
                    <a:pt x="328" y="2430"/>
                  </a:lnTo>
                  <a:lnTo>
                    <a:pt x="317" y="2421"/>
                  </a:lnTo>
                  <a:lnTo>
                    <a:pt x="312" y="2410"/>
                  </a:lnTo>
                  <a:lnTo>
                    <a:pt x="310" y="2400"/>
                  </a:lnTo>
                  <a:lnTo>
                    <a:pt x="313" y="2393"/>
                  </a:lnTo>
                  <a:lnTo>
                    <a:pt x="324" y="2389"/>
                  </a:lnTo>
                  <a:close/>
                  <a:moveTo>
                    <a:pt x="460" y="2300"/>
                  </a:moveTo>
                  <a:lnTo>
                    <a:pt x="478" y="2303"/>
                  </a:lnTo>
                  <a:lnTo>
                    <a:pt x="497" y="2311"/>
                  </a:lnTo>
                  <a:lnTo>
                    <a:pt x="511" y="2320"/>
                  </a:lnTo>
                  <a:lnTo>
                    <a:pt x="526" y="2331"/>
                  </a:lnTo>
                  <a:lnTo>
                    <a:pt x="537" y="2344"/>
                  </a:lnTo>
                  <a:lnTo>
                    <a:pt x="546" y="2356"/>
                  </a:lnTo>
                  <a:lnTo>
                    <a:pt x="551" y="2367"/>
                  </a:lnTo>
                  <a:lnTo>
                    <a:pt x="555" y="2377"/>
                  </a:lnTo>
                  <a:lnTo>
                    <a:pt x="553" y="2382"/>
                  </a:lnTo>
                  <a:lnTo>
                    <a:pt x="548" y="2382"/>
                  </a:lnTo>
                  <a:lnTo>
                    <a:pt x="537" y="2378"/>
                  </a:lnTo>
                  <a:lnTo>
                    <a:pt x="522" y="2371"/>
                  </a:lnTo>
                  <a:lnTo>
                    <a:pt x="509" y="2369"/>
                  </a:lnTo>
                  <a:lnTo>
                    <a:pt x="497" y="2369"/>
                  </a:lnTo>
                  <a:lnTo>
                    <a:pt x="478" y="2375"/>
                  </a:lnTo>
                  <a:lnTo>
                    <a:pt x="462" y="2380"/>
                  </a:lnTo>
                  <a:lnTo>
                    <a:pt x="447" y="2382"/>
                  </a:lnTo>
                  <a:lnTo>
                    <a:pt x="432" y="2378"/>
                  </a:lnTo>
                  <a:lnTo>
                    <a:pt x="420" y="2367"/>
                  </a:lnTo>
                  <a:lnTo>
                    <a:pt x="414" y="2353"/>
                  </a:lnTo>
                  <a:lnTo>
                    <a:pt x="416" y="2336"/>
                  </a:lnTo>
                  <a:lnTo>
                    <a:pt x="423" y="2320"/>
                  </a:lnTo>
                  <a:lnTo>
                    <a:pt x="438" y="2309"/>
                  </a:lnTo>
                  <a:lnTo>
                    <a:pt x="460" y="2300"/>
                  </a:lnTo>
                  <a:close/>
                  <a:moveTo>
                    <a:pt x="2418" y="2155"/>
                  </a:moveTo>
                  <a:lnTo>
                    <a:pt x="2423" y="2157"/>
                  </a:lnTo>
                  <a:lnTo>
                    <a:pt x="2427" y="2160"/>
                  </a:lnTo>
                  <a:lnTo>
                    <a:pt x="2431" y="2164"/>
                  </a:lnTo>
                  <a:lnTo>
                    <a:pt x="2431" y="2169"/>
                  </a:lnTo>
                  <a:lnTo>
                    <a:pt x="2431" y="2177"/>
                  </a:lnTo>
                  <a:lnTo>
                    <a:pt x="2429" y="2184"/>
                  </a:lnTo>
                  <a:lnTo>
                    <a:pt x="2425" y="2191"/>
                  </a:lnTo>
                  <a:lnTo>
                    <a:pt x="2421" y="2197"/>
                  </a:lnTo>
                  <a:lnTo>
                    <a:pt x="2416" y="2201"/>
                  </a:lnTo>
                  <a:lnTo>
                    <a:pt x="2410" y="2204"/>
                  </a:lnTo>
                  <a:lnTo>
                    <a:pt x="2407" y="2204"/>
                  </a:lnTo>
                  <a:lnTo>
                    <a:pt x="2401" y="2202"/>
                  </a:lnTo>
                  <a:lnTo>
                    <a:pt x="2396" y="2197"/>
                  </a:lnTo>
                  <a:lnTo>
                    <a:pt x="2387" y="2184"/>
                  </a:lnTo>
                  <a:lnTo>
                    <a:pt x="2385" y="2173"/>
                  </a:lnTo>
                  <a:lnTo>
                    <a:pt x="2390" y="2166"/>
                  </a:lnTo>
                  <a:lnTo>
                    <a:pt x="2401" y="2160"/>
                  </a:lnTo>
                  <a:lnTo>
                    <a:pt x="2407" y="2157"/>
                  </a:lnTo>
                  <a:lnTo>
                    <a:pt x="2410" y="2157"/>
                  </a:lnTo>
                  <a:lnTo>
                    <a:pt x="2418" y="2155"/>
                  </a:lnTo>
                  <a:close/>
                  <a:moveTo>
                    <a:pt x="2354" y="2041"/>
                  </a:moveTo>
                  <a:lnTo>
                    <a:pt x="2359" y="2043"/>
                  </a:lnTo>
                  <a:lnTo>
                    <a:pt x="2363" y="2045"/>
                  </a:lnTo>
                  <a:lnTo>
                    <a:pt x="2367" y="2050"/>
                  </a:lnTo>
                  <a:lnTo>
                    <a:pt x="2368" y="2056"/>
                  </a:lnTo>
                  <a:lnTo>
                    <a:pt x="2368" y="2063"/>
                  </a:lnTo>
                  <a:lnTo>
                    <a:pt x="2365" y="2074"/>
                  </a:lnTo>
                  <a:lnTo>
                    <a:pt x="2357" y="2083"/>
                  </a:lnTo>
                  <a:lnTo>
                    <a:pt x="2350" y="2089"/>
                  </a:lnTo>
                  <a:lnTo>
                    <a:pt x="2343" y="2091"/>
                  </a:lnTo>
                  <a:lnTo>
                    <a:pt x="2334" y="2083"/>
                  </a:lnTo>
                  <a:lnTo>
                    <a:pt x="2324" y="2070"/>
                  </a:lnTo>
                  <a:lnTo>
                    <a:pt x="2323" y="2059"/>
                  </a:lnTo>
                  <a:lnTo>
                    <a:pt x="2326" y="2052"/>
                  </a:lnTo>
                  <a:lnTo>
                    <a:pt x="2339" y="2046"/>
                  </a:lnTo>
                  <a:lnTo>
                    <a:pt x="2346" y="2043"/>
                  </a:lnTo>
                  <a:lnTo>
                    <a:pt x="2354" y="2041"/>
                  </a:lnTo>
                  <a:close/>
                  <a:moveTo>
                    <a:pt x="2453" y="2017"/>
                  </a:moveTo>
                  <a:lnTo>
                    <a:pt x="2460" y="2017"/>
                  </a:lnTo>
                  <a:lnTo>
                    <a:pt x="2464" y="2019"/>
                  </a:lnTo>
                  <a:lnTo>
                    <a:pt x="2467" y="2024"/>
                  </a:lnTo>
                  <a:lnTo>
                    <a:pt x="2469" y="2030"/>
                  </a:lnTo>
                  <a:lnTo>
                    <a:pt x="2469" y="2037"/>
                  </a:lnTo>
                  <a:lnTo>
                    <a:pt x="2467" y="2045"/>
                  </a:lnTo>
                  <a:lnTo>
                    <a:pt x="2464" y="2050"/>
                  </a:lnTo>
                  <a:lnTo>
                    <a:pt x="2460" y="2056"/>
                  </a:lnTo>
                  <a:lnTo>
                    <a:pt x="2456" y="2061"/>
                  </a:lnTo>
                  <a:lnTo>
                    <a:pt x="2451" y="2065"/>
                  </a:lnTo>
                  <a:lnTo>
                    <a:pt x="2445" y="2065"/>
                  </a:lnTo>
                  <a:lnTo>
                    <a:pt x="2442" y="2065"/>
                  </a:lnTo>
                  <a:lnTo>
                    <a:pt x="2438" y="2061"/>
                  </a:lnTo>
                  <a:lnTo>
                    <a:pt x="2434" y="2057"/>
                  </a:lnTo>
                  <a:lnTo>
                    <a:pt x="2425" y="2045"/>
                  </a:lnTo>
                  <a:lnTo>
                    <a:pt x="2423" y="2034"/>
                  </a:lnTo>
                  <a:lnTo>
                    <a:pt x="2429" y="2026"/>
                  </a:lnTo>
                  <a:lnTo>
                    <a:pt x="2440" y="2021"/>
                  </a:lnTo>
                  <a:lnTo>
                    <a:pt x="2445" y="2017"/>
                  </a:lnTo>
                  <a:lnTo>
                    <a:pt x="2453" y="2017"/>
                  </a:lnTo>
                  <a:close/>
                  <a:moveTo>
                    <a:pt x="868" y="1595"/>
                  </a:moveTo>
                  <a:lnTo>
                    <a:pt x="879" y="1597"/>
                  </a:lnTo>
                  <a:lnTo>
                    <a:pt x="888" y="1605"/>
                  </a:lnTo>
                  <a:lnTo>
                    <a:pt x="894" y="1614"/>
                  </a:lnTo>
                  <a:lnTo>
                    <a:pt x="896" y="1627"/>
                  </a:lnTo>
                  <a:lnTo>
                    <a:pt x="892" y="1636"/>
                  </a:lnTo>
                  <a:lnTo>
                    <a:pt x="887" y="1643"/>
                  </a:lnTo>
                  <a:lnTo>
                    <a:pt x="876" y="1647"/>
                  </a:lnTo>
                  <a:lnTo>
                    <a:pt x="868" y="1647"/>
                  </a:lnTo>
                  <a:lnTo>
                    <a:pt x="856" y="1641"/>
                  </a:lnTo>
                  <a:lnTo>
                    <a:pt x="846" y="1632"/>
                  </a:lnTo>
                  <a:lnTo>
                    <a:pt x="841" y="1621"/>
                  </a:lnTo>
                  <a:lnTo>
                    <a:pt x="841" y="1610"/>
                  </a:lnTo>
                  <a:lnTo>
                    <a:pt x="848" y="1601"/>
                  </a:lnTo>
                  <a:lnTo>
                    <a:pt x="861" y="1595"/>
                  </a:lnTo>
                  <a:lnTo>
                    <a:pt x="868" y="1595"/>
                  </a:lnTo>
                  <a:close/>
                  <a:moveTo>
                    <a:pt x="938" y="1551"/>
                  </a:moveTo>
                  <a:lnTo>
                    <a:pt x="953" y="1553"/>
                  </a:lnTo>
                  <a:lnTo>
                    <a:pt x="964" y="1560"/>
                  </a:lnTo>
                  <a:lnTo>
                    <a:pt x="971" y="1571"/>
                  </a:lnTo>
                  <a:lnTo>
                    <a:pt x="975" y="1584"/>
                  </a:lnTo>
                  <a:lnTo>
                    <a:pt x="975" y="1597"/>
                  </a:lnTo>
                  <a:lnTo>
                    <a:pt x="969" y="1610"/>
                  </a:lnTo>
                  <a:lnTo>
                    <a:pt x="960" y="1617"/>
                  </a:lnTo>
                  <a:lnTo>
                    <a:pt x="947" y="1621"/>
                  </a:lnTo>
                  <a:lnTo>
                    <a:pt x="938" y="1619"/>
                  </a:lnTo>
                  <a:lnTo>
                    <a:pt x="923" y="1614"/>
                  </a:lnTo>
                  <a:lnTo>
                    <a:pt x="910" y="1605"/>
                  </a:lnTo>
                  <a:lnTo>
                    <a:pt x="903" y="1592"/>
                  </a:lnTo>
                  <a:lnTo>
                    <a:pt x="901" y="1579"/>
                  </a:lnTo>
                  <a:lnTo>
                    <a:pt x="903" y="1568"/>
                  </a:lnTo>
                  <a:lnTo>
                    <a:pt x="912" y="1559"/>
                  </a:lnTo>
                  <a:lnTo>
                    <a:pt x="927" y="1553"/>
                  </a:lnTo>
                  <a:lnTo>
                    <a:pt x="932" y="1551"/>
                  </a:lnTo>
                  <a:lnTo>
                    <a:pt x="938" y="1551"/>
                  </a:lnTo>
                  <a:close/>
                  <a:moveTo>
                    <a:pt x="1110" y="1329"/>
                  </a:moveTo>
                  <a:lnTo>
                    <a:pt x="1121" y="1329"/>
                  </a:lnTo>
                  <a:lnTo>
                    <a:pt x="1127" y="1331"/>
                  </a:lnTo>
                  <a:lnTo>
                    <a:pt x="1132" y="1331"/>
                  </a:lnTo>
                  <a:lnTo>
                    <a:pt x="1161" y="1333"/>
                  </a:lnTo>
                  <a:lnTo>
                    <a:pt x="1183" y="1340"/>
                  </a:lnTo>
                  <a:lnTo>
                    <a:pt x="1202" y="1351"/>
                  </a:lnTo>
                  <a:lnTo>
                    <a:pt x="1214" y="1366"/>
                  </a:lnTo>
                  <a:lnTo>
                    <a:pt x="1225" y="1384"/>
                  </a:lnTo>
                  <a:lnTo>
                    <a:pt x="1235" y="1403"/>
                  </a:lnTo>
                  <a:lnTo>
                    <a:pt x="1244" y="1423"/>
                  </a:lnTo>
                  <a:lnTo>
                    <a:pt x="1253" y="1443"/>
                  </a:lnTo>
                  <a:lnTo>
                    <a:pt x="1260" y="1463"/>
                  </a:lnTo>
                  <a:lnTo>
                    <a:pt x="1262" y="1482"/>
                  </a:lnTo>
                  <a:lnTo>
                    <a:pt x="1262" y="1498"/>
                  </a:lnTo>
                  <a:lnTo>
                    <a:pt x="1255" y="1511"/>
                  </a:lnTo>
                  <a:lnTo>
                    <a:pt x="1246" y="1520"/>
                  </a:lnTo>
                  <a:lnTo>
                    <a:pt x="1229" y="1524"/>
                  </a:lnTo>
                  <a:lnTo>
                    <a:pt x="1207" y="1522"/>
                  </a:lnTo>
                  <a:lnTo>
                    <a:pt x="1180" y="1513"/>
                  </a:lnTo>
                  <a:lnTo>
                    <a:pt x="1149" y="1498"/>
                  </a:lnTo>
                  <a:lnTo>
                    <a:pt x="1121" y="1487"/>
                  </a:lnTo>
                  <a:lnTo>
                    <a:pt x="1103" y="1478"/>
                  </a:lnTo>
                  <a:lnTo>
                    <a:pt x="1090" y="1469"/>
                  </a:lnTo>
                  <a:lnTo>
                    <a:pt x="1081" y="1458"/>
                  </a:lnTo>
                  <a:lnTo>
                    <a:pt x="1077" y="1443"/>
                  </a:lnTo>
                  <a:lnTo>
                    <a:pt x="1079" y="1423"/>
                  </a:lnTo>
                  <a:lnTo>
                    <a:pt x="1088" y="1399"/>
                  </a:lnTo>
                  <a:lnTo>
                    <a:pt x="1097" y="1377"/>
                  </a:lnTo>
                  <a:lnTo>
                    <a:pt x="1101" y="1359"/>
                  </a:lnTo>
                  <a:lnTo>
                    <a:pt x="1103" y="1346"/>
                  </a:lnTo>
                  <a:lnTo>
                    <a:pt x="1103" y="1337"/>
                  </a:lnTo>
                  <a:lnTo>
                    <a:pt x="1103" y="1333"/>
                  </a:lnTo>
                  <a:lnTo>
                    <a:pt x="1105" y="1329"/>
                  </a:lnTo>
                  <a:lnTo>
                    <a:pt x="1110" y="1329"/>
                  </a:lnTo>
                  <a:close/>
                  <a:moveTo>
                    <a:pt x="3028" y="1230"/>
                  </a:moveTo>
                  <a:lnTo>
                    <a:pt x="3033" y="1230"/>
                  </a:lnTo>
                  <a:lnTo>
                    <a:pt x="3039" y="1234"/>
                  </a:lnTo>
                  <a:lnTo>
                    <a:pt x="3042" y="1238"/>
                  </a:lnTo>
                  <a:lnTo>
                    <a:pt x="3044" y="1243"/>
                  </a:lnTo>
                  <a:lnTo>
                    <a:pt x="3042" y="1251"/>
                  </a:lnTo>
                  <a:lnTo>
                    <a:pt x="3041" y="1258"/>
                  </a:lnTo>
                  <a:lnTo>
                    <a:pt x="3039" y="1263"/>
                  </a:lnTo>
                  <a:lnTo>
                    <a:pt x="3035" y="1271"/>
                  </a:lnTo>
                  <a:lnTo>
                    <a:pt x="3031" y="1274"/>
                  </a:lnTo>
                  <a:lnTo>
                    <a:pt x="3026" y="1278"/>
                  </a:lnTo>
                  <a:lnTo>
                    <a:pt x="3020" y="1278"/>
                  </a:lnTo>
                  <a:lnTo>
                    <a:pt x="3017" y="1278"/>
                  </a:lnTo>
                  <a:lnTo>
                    <a:pt x="3013" y="1276"/>
                  </a:lnTo>
                  <a:lnTo>
                    <a:pt x="3008" y="1271"/>
                  </a:lnTo>
                  <a:lnTo>
                    <a:pt x="3000" y="1258"/>
                  </a:lnTo>
                  <a:lnTo>
                    <a:pt x="2998" y="1247"/>
                  </a:lnTo>
                  <a:lnTo>
                    <a:pt x="3002" y="1240"/>
                  </a:lnTo>
                  <a:lnTo>
                    <a:pt x="3015" y="1234"/>
                  </a:lnTo>
                  <a:lnTo>
                    <a:pt x="3020" y="1232"/>
                  </a:lnTo>
                  <a:lnTo>
                    <a:pt x="3028" y="1230"/>
                  </a:lnTo>
                  <a:close/>
                  <a:moveTo>
                    <a:pt x="2702" y="1120"/>
                  </a:moveTo>
                  <a:lnTo>
                    <a:pt x="2709" y="1122"/>
                  </a:lnTo>
                  <a:lnTo>
                    <a:pt x="2726" y="1124"/>
                  </a:lnTo>
                  <a:lnTo>
                    <a:pt x="2736" y="1133"/>
                  </a:lnTo>
                  <a:lnTo>
                    <a:pt x="2744" y="1146"/>
                  </a:lnTo>
                  <a:lnTo>
                    <a:pt x="2749" y="1164"/>
                  </a:lnTo>
                  <a:lnTo>
                    <a:pt x="2751" y="1186"/>
                  </a:lnTo>
                  <a:lnTo>
                    <a:pt x="2751" y="1208"/>
                  </a:lnTo>
                  <a:lnTo>
                    <a:pt x="2747" y="1232"/>
                  </a:lnTo>
                  <a:lnTo>
                    <a:pt x="2742" y="1254"/>
                  </a:lnTo>
                  <a:lnTo>
                    <a:pt x="2735" y="1276"/>
                  </a:lnTo>
                  <a:lnTo>
                    <a:pt x="2726" y="1291"/>
                  </a:lnTo>
                  <a:lnTo>
                    <a:pt x="2715" y="1302"/>
                  </a:lnTo>
                  <a:lnTo>
                    <a:pt x="2702" y="1309"/>
                  </a:lnTo>
                  <a:lnTo>
                    <a:pt x="2685" y="1311"/>
                  </a:lnTo>
                  <a:lnTo>
                    <a:pt x="2669" y="1306"/>
                  </a:lnTo>
                  <a:lnTo>
                    <a:pt x="2658" y="1295"/>
                  </a:lnTo>
                  <a:lnTo>
                    <a:pt x="2650" y="1278"/>
                  </a:lnTo>
                  <a:lnTo>
                    <a:pt x="2652" y="1256"/>
                  </a:lnTo>
                  <a:lnTo>
                    <a:pt x="2654" y="1240"/>
                  </a:lnTo>
                  <a:lnTo>
                    <a:pt x="2654" y="1221"/>
                  </a:lnTo>
                  <a:lnTo>
                    <a:pt x="2654" y="1201"/>
                  </a:lnTo>
                  <a:lnTo>
                    <a:pt x="2652" y="1183"/>
                  </a:lnTo>
                  <a:lnTo>
                    <a:pt x="2652" y="1166"/>
                  </a:lnTo>
                  <a:lnTo>
                    <a:pt x="2654" y="1150"/>
                  </a:lnTo>
                  <a:lnTo>
                    <a:pt x="2658" y="1137"/>
                  </a:lnTo>
                  <a:lnTo>
                    <a:pt x="2667" y="1128"/>
                  </a:lnTo>
                  <a:lnTo>
                    <a:pt x="2682" y="1122"/>
                  </a:lnTo>
                  <a:lnTo>
                    <a:pt x="2702" y="1120"/>
                  </a:lnTo>
                  <a:close/>
                  <a:moveTo>
                    <a:pt x="2991" y="1040"/>
                  </a:moveTo>
                  <a:lnTo>
                    <a:pt x="2997" y="1041"/>
                  </a:lnTo>
                  <a:lnTo>
                    <a:pt x="3002" y="1043"/>
                  </a:lnTo>
                  <a:lnTo>
                    <a:pt x="3006" y="1049"/>
                  </a:lnTo>
                  <a:lnTo>
                    <a:pt x="3006" y="1054"/>
                  </a:lnTo>
                  <a:lnTo>
                    <a:pt x="3006" y="1062"/>
                  </a:lnTo>
                  <a:lnTo>
                    <a:pt x="3004" y="1067"/>
                  </a:lnTo>
                  <a:lnTo>
                    <a:pt x="3002" y="1074"/>
                  </a:lnTo>
                  <a:lnTo>
                    <a:pt x="2998" y="1080"/>
                  </a:lnTo>
                  <a:lnTo>
                    <a:pt x="2993" y="1086"/>
                  </a:lnTo>
                  <a:lnTo>
                    <a:pt x="2989" y="1087"/>
                  </a:lnTo>
                  <a:lnTo>
                    <a:pt x="2984" y="1089"/>
                  </a:lnTo>
                  <a:lnTo>
                    <a:pt x="2980" y="1089"/>
                  </a:lnTo>
                  <a:lnTo>
                    <a:pt x="2975" y="1086"/>
                  </a:lnTo>
                  <a:lnTo>
                    <a:pt x="2971" y="1082"/>
                  </a:lnTo>
                  <a:lnTo>
                    <a:pt x="2964" y="1069"/>
                  </a:lnTo>
                  <a:lnTo>
                    <a:pt x="2960" y="1058"/>
                  </a:lnTo>
                  <a:lnTo>
                    <a:pt x="2965" y="1051"/>
                  </a:lnTo>
                  <a:lnTo>
                    <a:pt x="2976" y="1045"/>
                  </a:lnTo>
                  <a:lnTo>
                    <a:pt x="2984" y="1041"/>
                  </a:lnTo>
                  <a:lnTo>
                    <a:pt x="2991" y="1040"/>
                  </a:lnTo>
                  <a:close/>
                  <a:moveTo>
                    <a:pt x="2854" y="986"/>
                  </a:moveTo>
                  <a:lnTo>
                    <a:pt x="2878" y="990"/>
                  </a:lnTo>
                  <a:lnTo>
                    <a:pt x="2898" y="999"/>
                  </a:lnTo>
                  <a:lnTo>
                    <a:pt x="2910" y="1014"/>
                  </a:lnTo>
                  <a:lnTo>
                    <a:pt x="2921" y="1034"/>
                  </a:lnTo>
                  <a:lnTo>
                    <a:pt x="2927" y="1054"/>
                  </a:lnTo>
                  <a:lnTo>
                    <a:pt x="2931" y="1076"/>
                  </a:lnTo>
                  <a:lnTo>
                    <a:pt x="2932" y="1098"/>
                  </a:lnTo>
                  <a:lnTo>
                    <a:pt x="2931" y="1119"/>
                  </a:lnTo>
                  <a:lnTo>
                    <a:pt x="2927" y="1135"/>
                  </a:lnTo>
                  <a:lnTo>
                    <a:pt x="2925" y="1148"/>
                  </a:lnTo>
                  <a:lnTo>
                    <a:pt x="2927" y="1164"/>
                  </a:lnTo>
                  <a:lnTo>
                    <a:pt x="2932" y="1183"/>
                  </a:lnTo>
                  <a:lnTo>
                    <a:pt x="2938" y="1203"/>
                  </a:lnTo>
                  <a:lnTo>
                    <a:pt x="2943" y="1223"/>
                  </a:lnTo>
                  <a:lnTo>
                    <a:pt x="2949" y="1245"/>
                  </a:lnTo>
                  <a:lnTo>
                    <a:pt x="2954" y="1263"/>
                  </a:lnTo>
                  <a:lnTo>
                    <a:pt x="2956" y="1282"/>
                  </a:lnTo>
                  <a:lnTo>
                    <a:pt x="2954" y="1298"/>
                  </a:lnTo>
                  <a:lnTo>
                    <a:pt x="2949" y="1309"/>
                  </a:lnTo>
                  <a:lnTo>
                    <a:pt x="2938" y="1318"/>
                  </a:lnTo>
                  <a:lnTo>
                    <a:pt x="2920" y="1320"/>
                  </a:lnTo>
                  <a:lnTo>
                    <a:pt x="2887" y="1326"/>
                  </a:lnTo>
                  <a:lnTo>
                    <a:pt x="2854" y="1337"/>
                  </a:lnTo>
                  <a:lnTo>
                    <a:pt x="2834" y="1346"/>
                  </a:lnTo>
                  <a:lnTo>
                    <a:pt x="2815" y="1355"/>
                  </a:lnTo>
                  <a:lnTo>
                    <a:pt x="2799" y="1361"/>
                  </a:lnTo>
                  <a:lnTo>
                    <a:pt x="2786" y="1362"/>
                  </a:lnTo>
                  <a:lnTo>
                    <a:pt x="2775" y="1359"/>
                  </a:lnTo>
                  <a:lnTo>
                    <a:pt x="2766" y="1348"/>
                  </a:lnTo>
                  <a:lnTo>
                    <a:pt x="2760" y="1328"/>
                  </a:lnTo>
                  <a:lnTo>
                    <a:pt x="2757" y="1300"/>
                  </a:lnTo>
                  <a:lnTo>
                    <a:pt x="2753" y="1280"/>
                  </a:lnTo>
                  <a:lnTo>
                    <a:pt x="2753" y="1265"/>
                  </a:lnTo>
                  <a:lnTo>
                    <a:pt x="2757" y="1254"/>
                  </a:lnTo>
                  <a:lnTo>
                    <a:pt x="2762" y="1245"/>
                  </a:lnTo>
                  <a:lnTo>
                    <a:pt x="2775" y="1238"/>
                  </a:lnTo>
                  <a:lnTo>
                    <a:pt x="2793" y="1229"/>
                  </a:lnTo>
                  <a:lnTo>
                    <a:pt x="2819" y="1218"/>
                  </a:lnTo>
                  <a:lnTo>
                    <a:pt x="2832" y="1208"/>
                  </a:lnTo>
                  <a:lnTo>
                    <a:pt x="2841" y="1192"/>
                  </a:lnTo>
                  <a:lnTo>
                    <a:pt x="2846" y="1174"/>
                  </a:lnTo>
                  <a:lnTo>
                    <a:pt x="2846" y="1152"/>
                  </a:lnTo>
                  <a:lnTo>
                    <a:pt x="2845" y="1126"/>
                  </a:lnTo>
                  <a:lnTo>
                    <a:pt x="2841" y="1102"/>
                  </a:lnTo>
                  <a:lnTo>
                    <a:pt x="2835" y="1076"/>
                  </a:lnTo>
                  <a:lnTo>
                    <a:pt x="2832" y="1052"/>
                  </a:lnTo>
                  <a:lnTo>
                    <a:pt x="2828" y="1030"/>
                  </a:lnTo>
                  <a:lnTo>
                    <a:pt x="2826" y="1012"/>
                  </a:lnTo>
                  <a:lnTo>
                    <a:pt x="2828" y="999"/>
                  </a:lnTo>
                  <a:lnTo>
                    <a:pt x="2834" y="990"/>
                  </a:lnTo>
                  <a:lnTo>
                    <a:pt x="2843" y="988"/>
                  </a:lnTo>
                  <a:lnTo>
                    <a:pt x="2854" y="986"/>
                  </a:lnTo>
                  <a:close/>
                  <a:moveTo>
                    <a:pt x="535" y="774"/>
                  </a:moveTo>
                  <a:lnTo>
                    <a:pt x="572" y="781"/>
                  </a:lnTo>
                  <a:lnTo>
                    <a:pt x="608" y="794"/>
                  </a:lnTo>
                  <a:lnTo>
                    <a:pt x="645" y="812"/>
                  </a:lnTo>
                  <a:lnTo>
                    <a:pt x="678" y="834"/>
                  </a:lnTo>
                  <a:lnTo>
                    <a:pt x="703" y="853"/>
                  </a:lnTo>
                  <a:lnTo>
                    <a:pt x="724" y="873"/>
                  </a:lnTo>
                  <a:lnTo>
                    <a:pt x="736" y="891"/>
                  </a:lnTo>
                  <a:lnTo>
                    <a:pt x="740" y="908"/>
                  </a:lnTo>
                  <a:lnTo>
                    <a:pt x="744" y="933"/>
                  </a:lnTo>
                  <a:lnTo>
                    <a:pt x="751" y="952"/>
                  </a:lnTo>
                  <a:lnTo>
                    <a:pt x="766" y="966"/>
                  </a:lnTo>
                  <a:lnTo>
                    <a:pt x="780" y="972"/>
                  </a:lnTo>
                  <a:lnTo>
                    <a:pt x="799" y="972"/>
                  </a:lnTo>
                  <a:lnTo>
                    <a:pt x="821" y="968"/>
                  </a:lnTo>
                  <a:lnTo>
                    <a:pt x="835" y="961"/>
                  </a:lnTo>
                  <a:lnTo>
                    <a:pt x="845" y="952"/>
                  </a:lnTo>
                  <a:lnTo>
                    <a:pt x="848" y="941"/>
                  </a:lnTo>
                  <a:lnTo>
                    <a:pt x="852" y="930"/>
                  </a:lnTo>
                  <a:lnTo>
                    <a:pt x="854" y="920"/>
                  </a:lnTo>
                  <a:lnTo>
                    <a:pt x="859" y="911"/>
                  </a:lnTo>
                  <a:lnTo>
                    <a:pt x="868" y="906"/>
                  </a:lnTo>
                  <a:lnTo>
                    <a:pt x="874" y="904"/>
                  </a:lnTo>
                  <a:lnTo>
                    <a:pt x="879" y="902"/>
                  </a:lnTo>
                  <a:lnTo>
                    <a:pt x="887" y="902"/>
                  </a:lnTo>
                  <a:lnTo>
                    <a:pt x="896" y="904"/>
                  </a:lnTo>
                  <a:lnTo>
                    <a:pt x="912" y="908"/>
                  </a:lnTo>
                  <a:lnTo>
                    <a:pt x="927" y="917"/>
                  </a:lnTo>
                  <a:lnTo>
                    <a:pt x="938" y="931"/>
                  </a:lnTo>
                  <a:lnTo>
                    <a:pt x="949" y="953"/>
                  </a:lnTo>
                  <a:lnTo>
                    <a:pt x="958" y="981"/>
                  </a:lnTo>
                  <a:lnTo>
                    <a:pt x="965" y="1008"/>
                  </a:lnTo>
                  <a:lnTo>
                    <a:pt x="975" y="1036"/>
                  </a:lnTo>
                  <a:lnTo>
                    <a:pt x="984" y="1062"/>
                  </a:lnTo>
                  <a:lnTo>
                    <a:pt x="998" y="1080"/>
                  </a:lnTo>
                  <a:lnTo>
                    <a:pt x="1019" y="1097"/>
                  </a:lnTo>
                  <a:lnTo>
                    <a:pt x="1040" y="1111"/>
                  </a:lnTo>
                  <a:lnTo>
                    <a:pt x="1062" y="1124"/>
                  </a:lnTo>
                  <a:lnTo>
                    <a:pt x="1083" y="1137"/>
                  </a:lnTo>
                  <a:lnTo>
                    <a:pt x="1099" y="1150"/>
                  </a:lnTo>
                  <a:lnTo>
                    <a:pt x="1106" y="1163"/>
                  </a:lnTo>
                  <a:lnTo>
                    <a:pt x="1105" y="1177"/>
                  </a:lnTo>
                  <a:lnTo>
                    <a:pt x="1105" y="1190"/>
                  </a:lnTo>
                  <a:lnTo>
                    <a:pt x="1110" y="1205"/>
                  </a:lnTo>
                  <a:lnTo>
                    <a:pt x="1121" y="1221"/>
                  </a:lnTo>
                  <a:lnTo>
                    <a:pt x="1132" y="1236"/>
                  </a:lnTo>
                  <a:lnTo>
                    <a:pt x="1143" y="1251"/>
                  </a:lnTo>
                  <a:lnTo>
                    <a:pt x="1154" y="1265"/>
                  </a:lnTo>
                  <a:lnTo>
                    <a:pt x="1161" y="1278"/>
                  </a:lnTo>
                  <a:lnTo>
                    <a:pt x="1163" y="1289"/>
                  </a:lnTo>
                  <a:lnTo>
                    <a:pt x="1161" y="1298"/>
                  </a:lnTo>
                  <a:lnTo>
                    <a:pt x="1150" y="1304"/>
                  </a:lnTo>
                  <a:lnTo>
                    <a:pt x="1132" y="1306"/>
                  </a:lnTo>
                  <a:lnTo>
                    <a:pt x="1121" y="1306"/>
                  </a:lnTo>
                  <a:lnTo>
                    <a:pt x="1083" y="1309"/>
                  </a:lnTo>
                  <a:lnTo>
                    <a:pt x="1051" y="1315"/>
                  </a:lnTo>
                  <a:lnTo>
                    <a:pt x="1024" y="1326"/>
                  </a:lnTo>
                  <a:lnTo>
                    <a:pt x="1004" y="1339"/>
                  </a:lnTo>
                  <a:lnTo>
                    <a:pt x="989" y="1353"/>
                  </a:lnTo>
                  <a:lnTo>
                    <a:pt x="976" y="1370"/>
                  </a:lnTo>
                  <a:lnTo>
                    <a:pt x="967" y="1383"/>
                  </a:lnTo>
                  <a:lnTo>
                    <a:pt x="958" y="1388"/>
                  </a:lnTo>
                  <a:lnTo>
                    <a:pt x="949" y="1384"/>
                  </a:lnTo>
                  <a:lnTo>
                    <a:pt x="938" y="1375"/>
                  </a:lnTo>
                  <a:lnTo>
                    <a:pt x="923" y="1362"/>
                  </a:lnTo>
                  <a:lnTo>
                    <a:pt x="907" y="1350"/>
                  </a:lnTo>
                  <a:lnTo>
                    <a:pt x="896" y="1344"/>
                  </a:lnTo>
                  <a:lnTo>
                    <a:pt x="883" y="1342"/>
                  </a:lnTo>
                  <a:lnTo>
                    <a:pt x="868" y="1344"/>
                  </a:lnTo>
                  <a:lnTo>
                    <a:pt x="850" y="1348"/>
                  </a:lnTo>
                  <a:lnTo>
                    <a:pt x="830" y="1351"/>
                  </a:lnTo>
                  <a:lnTo>
                    <a:pt x="812" y="1359"/>
                  </a:lnTo>
                  <a:lnTo>
                    <a:pt x="795" y="1366"/>
                  </a:lnTo>
                  <a:lnTo>
                    <a:pt x="780" y="1373"/>
                  </a:lnTo>
                  <a:lnTo>
                    <a:pt x="771" y="1381"/>
                  </a:lnTo>
                  <a:lnTo>
                    <a:pt x="766" y="1386"/>
                  </a:lnTo>
                  <a:lnTo>
                    <a:pt x="768" y="1390"/>
                  </a:lnTo>
                  <a:lnTo>
                    <a:pt x="779" y="1392"/>
                  </a:lnTo>
                  <a:lnTo>
                    <a:pt x="801" y="1395"/>
                  </a:lnTo>
                  <a:lnTo>
                    <a:pt x="824" y="1405"/>
                  </a:lnTo>
                  <a:lnTo>
                    <a:pt x="846" y="1421"/>
                  </a:lnTo>
                  <a:lnTo>
                    <a:pt x="868" y="1441"/>
                  </a:lnTo>
                  <a:lnTo>
                    <a:pt x="881" y="1460"/>
                  </a:lnTo>
                  <a:lnTo>
                    <a:pt x="890" y="1480"/>
                  </a:lnTo>
                  <a:lnTo>
                    <a:pt x="892" y="1502"/>
                  </a:lnTo>
                  <a:lnTo>
                    <a:pt x="887" y="1524"/>
                  </a:lnTo>
                  <a:lnTo>
                    <a:pt x="874" y="1548"/>
                  </a:lnTo>
                  <a:lnTo>
                    <a:pt x="868" y="1555"/>
                  </a:lnTo>
                  <a:lnTo>
                    <a:pt x="841" y="1583"/>
                  </a:lnTo>
                  <a:lnTo>
                    <a:pt x="815" y="1601"/>
                  </a:lnTo>
                  <a:lnTo>
                    <a:pt x="790" y="1616"/>
                  </a:lnTo>
                  <a:lnTo>
                    <a:pt x="766" y="1628"/>
                  </a:lnTo>
                  <a:lnTo>
                    <a:pt x="736" y="1643"/>
                  </a:lnTo>
                  <a:lnTo>
                    <a:pt x="713" y="1660"/>
                  </a:lnTo>
                  <a:lnTo>
                    <a:pt x="694" y="1685"/>
                  </a:lnTo>
                  <a:lnTo>
                    <a:pt x="678" y="1713"/>
                  </a:lnTo>
                  <a:lnTo>
                    <a:pt x="669" y="1727"/>
                  </a:lnTo>
                  <a:lnTo>
                    <a:pt x="660" y="1742"/>
                  </a:lnTo>
                  <a:lnTo>
                    <a:pt x="647" y="1753"/>
                  </a:lnTo>
                  <a:lnTo>
                    <a:pt x="630" y="1760"/>
                  </a:lnTo>
                  <a:lnTo>
                    <a:pt x="612" y="1762"/>
                  </a:lnTo>
                  <a:lnTo>
                    <a:pt x="594" y="1768"/>
                  </a:lnTo>
                  <a:lnTo>
                    <a:pt x="577" y="1779"/>
                  </a:lnTo>
                  <a:lnTo>
                    <a:pt x="562" y="1799"/>
                  </a:lnTo>
                  <a:lnTo>
                    <a:pt x="550" y="1823"/>
                  </a:lnTo>
                  <a:lnTo>
                    <a:pt x="539" y="1848"/>
                  </a:lnTo>
                  <a:lnTo>
                    <a:pt x="531" y="1876"/>
                  </a:lnTo>
                  <a:lnTo>
                    <a:pt x="526" y="1902"/>
                  </a:lnTo>
                  <a:lnTo>
                    <a:pt x="522" y="1925"/>
                  </a:lnTo>
                  <a:lnTo>
                    <a:pt x="520" y="1946"/>
                  </a:lnTo>
                  <a:lnTo>
                    <a:pt x="517" y="1958"/>
                  </a:lnTo>
                  <a:lnTo>
                    <a:pt x="509" y="1973"/>
                  </a:lnTo>
                  <a:lnTo>
                    <a:pt x="497" y="1986"/>
                  </a:lnTo>
                  <a:lnTo>
                    <a:pt x="475" y="2002"/>
                  </a:lnTo>
                  <a:lnTo>
                    <a:pt x="451" y="2019"/>
                  </a:lnTo>
                  <a:lnTo>
                    <a:pt x="427" y="2035"/>
                  </a:lnTo>
                  <a:lnTo>
                    <a:pt x="407" y="2050"/>
                  </a:lnTo>
                  <a:lnTo>
                    <a:pt x="392" y="2068"/>
                  </a:lnTo>
                  <a:lnTo>
                    <a:pt x="381" y="2094"/>
                  </a:lnTo>
                  <a:lnTo>
                    <a:pt x="377" y="2122"/>
                  </a:lnTo>
                  <a:lnTo>
                    <a:pt x="381" y="2153"/>
                  </a:lnTo>
                  <a:lnTo>
                    <a:pt x="385" y="2188"/>
                  </a:lnTo>
                  <a:lnTo>
                    <a:pt x="387" y="2230"/>
                  </a:lnTo>
                  <a:lnTo>
                    <a:pt x="385" y="2256"/>
                  </a:lnTo>
                  <a:lnTo>
                    <a:pt x="379" y="2272"/>
                  </a:lnTo>
                  <a:lnTo>
                    <a:pt x="372" y="2279"/>
                  </a:lnTo>
                  <a:lnTo>
                    <a:pt x="359" y="2278"/>
                  </a:lnTo>
                  <a:lnTo>
                    <a:pt x="348" y="2268"/>
                  </a:lnTo>
                  <a:lnTo>
                    <a:pt x="334" y="2254"/>
                  </a:lnTo>
                  <a:lnTo>
                    <a:pt x="315" y="2234"/>
                  </a:lnTo>
                  <a:lnTo>
                    <a:pt x="295" y="2208"/>
                  </a:lnTo>
                  <a:lnTo>
                    <a:pt x="269" y="2180"/>
                  </a:lnTo>
                  <a:lnTo>
                    <a:pt x="242" y="2162"/>
                  </a:lnTo>
                  <a:lnTo>
                    <a:pt x="211" y="2153"/>
                  </a:lnTo>
                  <a:lnTo>
                    <a:pt x="182" y="2149"/>
                  </a:lnTo>
                  <a:lnTo>
                    <a:pt x="152" y="2149"/>
                  </a:lnTo>
                  <a:lnTo>
                    <a:pt x="123" y="2155"/>
                  </a:lnTo>
                  <a:lnTo>
                    <a:pt x="97" y="2162"/>
                  </a:lnTo>
                  <a:lnTo>
                    <a:pt x="75" y="2169"/>
                  </a:lnTo>
                  <a:lnTo>
                    <a:pt x="51" y="2177"/>
                  </a:lnTo>
                  <a:lnTo>
                    <a:pt x="26" y="2177"/>
                  </a:lnTo>
                  <a:lnTo>
                    <a:pt x="0" y="2177"/>
                  </a:lnTo>
                  <a:lnTo>
                    <a:pt x="4" y="2083"/>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80" y="1139"/>
                  </a:lnTo>
                  <a:lnTo>
                    <a:pt x="301" y="1148"/>
                  </a:lnTo>
                  <a:lnTo>
                    <a:pt x="315" y="1161"/>
                  </a:lnTo>
                  <a:lnTo>
                    <a:pt x="324" y="1174"/>
                  </a:lnTo>
                  <a:lnTo>
                    <a:pt x="328" y="1188"/>
                  </a:lnTo>
                  <a:lnTo>
                    <a:pt x="330" y="1208"/>
                  </a:lnTo>
                  <a:lnTo>
                    <a:pt x="337" y="1234"/>
                  </a:lnTo>
                  <a:lnTo>
                    <a:pt x="348" y="1260"/>
                  </a:lnTo>
                  <a:lnTo>
                    <a:pt x="359" y="1282"/>
                  </a:lnTo>
                  <a:lnTo>
                    <a:pt x="368" y="1293"/>
                  </a:lnTo>
                  <a:lnTo>
                    <a:pt x="376" y="1300"/>
                  </a:lnTo>
                  <a:lnTo>
                    <a:pt x="383" y="1300"/>
                  </a:lnTo>
                  <a:lnTo>
                    <a:pt x="390" y="1296"/>
                  </a:lnTo>
                  <a:lnTo>
                    <a:pt x="394" y="1284"/>
                  </a:lnTo>
                  <a:lnTo>
                    <a:pt x="398" y="1263"/>
                  </a:lnTo>
                  <a:lnTo>
                    <a:pt x="399" y="1221"/>
                  </a:lnTo>
                  <a:lnTo>
                    <a:pt x="401" y="1185"/>
                  </a:lnTo>
                  <a:lnTo>
                    <a:pt x="405" y="1155"/>
                  </a:lnTo>
                  <a:lnTo>
                    <a:pt x="410" y="1130"/>
                  </a:lnTo>
                  <a:lnTo>
                    <a:pt x="418" y="1111"/>
                  </a:lnTo>
                  <a:lnTo>
                    <a:pt x="429" y="1100"/>
                  </a:lnTo>
                  <a:lnTo>
                    <a:pt x="445" y="1097"/>
                  </a:lnTo>
                  <a:lnTo>
                    <a:pt x="458" y="1095"/>
                  </a:lnTo>
                  <a:lnTo>
                    <a:pt x="464" y="1087"/>
                  </a:lnTo>
                  <a:lnTo>
                    <a:pt x="465" y="1076"/>
                  </a:lnTo>
                  <a:lnTo>
                    <a:pt x="462" y="1060"/>
                  </a:lnTo>
                  <a:lnTo>
                    <a:pt x="456" y="1041"/>
                  </a:lnTo>
                  <a:lnTo>
                    <a:pt x="449" y="1019"/>
                  </a:lnTo>
                  <a:lnTo>
                    <a:pt x="442" y="994"/>
                  </a:lnTo>
                  <a:lnTo>
                    <a:pt x="434" y="968"/>
                  </a:lnTo>
                  <a:lnTo>
                    <a:pt x="425" y="913"/>
                  </a:lnTo>
                  <a:lnTo>
                    <a:pt x="473" y="849"/>
                  </a:lnTo>
                  <a:lnTo>
                    <a:pt x="497" y="821"/>
                  </a:lnTo>
                  <a:lnTo>
                    <a:pt x="535" y="774"/>
                  </a:lnTo>
                  <a:close/>
                  <a:moveTo>
                    <a:pt x="3762" y="623"/>
                  </a:move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83" y="2714"/>
                  </a:lnTo>
                  <a:lnTo>
                    <a:pt x="4381" y="2709"/>
                  </a:lnTo>
                  <a:lnTo>
                    <a:pt x="4356" y="2657"/>
                  </a:lnTo>
                  <a:lnTo>
                    <a:pt x="4324" y="2604"/>
                  </a:lnTo>
                  <a:lnTo>
                    <a:pt x="4291" y="2553"/>
                  </a:lnTo>
                  <a:lnTo>
                    <a:pt x="4257" y="2499"/>
                  </a:lnTo>
                  <a:lnTo>
                    <a:pt x="4226" y="2448"/>
                  </a:lnTo>
                  <a:lnTo>
                    <a:pt x="4198" y="2399"/>
                  </a:lnTo>
                  <a:lnTo>
                    <a:pt x="4176" y="2351"/>
                  </a:lnTo>
                  <a:lnTo>
                    <a:pt x="4158" y="2301"/>
                  </a:lnTo>
                  <a:lnTo>
                    <a:pt x="4138" y="2259"/>
                  </a:lnTo>
                  <a:lnTo>
                    <a:pt x="4117" y="2224"/>
                  </a:lnTo>
                  <a:lnTo>
                    <a:pt x="4097" y="2199"/>
                  </a:lnTo>
                  <a:lnTo>
                    <a:pt x="4077" y="2186"/>
                  </a:lnTo>
                  <a:lnTo>
                    <a:pt x="4059" y="2182"/>
                  </a:lnTo>
                  <a:lnTo>
                    <a:pt x="4052" y="2188"/>
                  </a:lnTo>
                  <a:lnTo>
                    <a:pt x="4048" y="2201"/>
                  </a:lnTo>
                  <a:lnTo>
                    <a:pt x="4050" y="2219"/>
                  </a:lnTo>
                  <a:lnTo>
                    <a:pt x="4055" y="2241"/>
                  </a:lnTo>
                  <a:lnTo>
                    <a:pt x="4063" y="2268"/>
                  </a:lnTo>
                  <a:lnTo>
                    <a:pt x="4074" y="2298"/>
                  </a:lnTo>
                  <a:lnTo>
                    <a:pt x="4086" y="2329"/>
                  </a:lnTo>
                  <a:lnTo>
                    <a:pt x="4099" y="2360"/>
                  </a:lnTo>
                  <a:lnTo>
                    <a:pt x="4112" y="2391"/>
                  </a:lnTo>
                  <a:lnTo>
                    <a:pt x="4125" y="2419"/>
                  </a:lnTo>
                  <a:lnTo>
                    <a:pt x="4138" y="2444"/>
                  </a:lnTo>
                  <a:lnTo>
                    <a:pt x="4149" y="2465"/>
                  </a:lnTo>
                  <a:lnTo>
                    <a:pt x="4169" y="2505"/>
                  </a:lnTo>
                  <a:lnTo>
                    <a:pt x="4191" y="2551"/>
                  </a:lnTo>
                  <a:lnTo>
                    <a:pt x="4215" y="2597"/>
                  </a:lnTo>
                  <a:lnTo>
                    <a:pt x="4240" y="2644"/>
                  </a:lnTo>
                  <a:lnTo>
                    <a:pt x="4269" y="2688"/>
                  </a:lnTo>
                  <a:lnTo>
                    <a:pt x="4301" y="2725"/>
                  </a:lnTo>
                  <a:lnTo>
                    <a:pt x="4334" y="2754"/>
                  </a:lnTo>
                  <a:lnTo>
                    <a:pt x="4367" y="2778"/>
                  </a:lnTo>
                  <a:lnTo>
                    <a:pt x="4337" y="2883"/>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28" y="3935"/>
                  </a:lnTo>
                  <a:lnTo>
                    <a:pt x="3542" y="4003"/>
                  </a:lnTo>
                  <a:lnTo>
                    <a:pt x="3453" y="4066"/>
                  </a:lnTo>
                  <a:lnTo>
                    <a:pt x="3447" y="4044"/>
                  </a:lnTo>
                  <a:lnTo>
                    <a:pt x="3443" y="4022"/>
                  </a:lnTo>
                  <a:lnTo>
                    <a:pt x="3438" y="3992"/>
                  </a:lnTo>
                  <a:lnTo>
                    <a:pt x="3432" y="3963"/>
                  </a:lnTo>
                  <a:lnTo>
                    <a:pt x="3423" y="3934"/>
                  </a:lnTo>
                  <a:lnTo>
                    <a:pt x="3409" y="3902"/>
                  </a:lnTo>
                  <a:lnTo>
                    <a:pt x="3390" y="3877"/>
                  </a:lnTo>
                  <a:lnTo>
                    <a:pt x="3376" y="3847"/>
                  </a:lnTo>
                  <a:lnTo>
                    <a:pt x="3361" y="3814"/>
                  </a:lnTo>
                  <a:lnTo>
                    <a:pt x="3348" y="3781"/>
                  </a:lnTo>
                  <a:lnTo>
                    <a:pt x="3341" y="3748"/>
                  </a:lnTo>
                  <a:lnTo>
                    <a:pt x="3335" y="3715"/>
                  </a:lnTo>
                  <a:lnTo>
                    <a:pt x="3337" y="3684"/>
                  </a:lnTo>
                  <a:lnTo>
                    <a:pt x="3343" y="3657"/>
                  </a:lnTo>
                  <a:lnTo>
                    <a:pt x="3357" y="3631"/>
                  </a:lnTo>
                  <a:lnTo>
                    <a:pt x="3378" y="3604"/>
                  </a:lnTo>
                  <a:lnTo>
                    <a:pt x="3392" y="3578"/>
                  </a:lnTo>
                  <a:lnTo>
                    <a:pt x="3403" y="3554"/>
                  </a:lnTo>
                  <a:lnTo>
                    <a:pt x="3409" y="3536"/>
                  </a:lnTo>
                  <a:lnTo>
                    <a:pt x="3409" y="3517"/>
                  </a:lnTo>
                  <a:lnTo>
                    <a:pt x="3401" y="3504"/>
                  </a:lnTo>
                  <a:lnTo>
                    <a:pt x="3385" y="3495"/>
                  </a:lnTo>
                  <a:lnTo>
                    <a:pt x="3374" y="3488"/>
                  </a:lnTo>
                  <a:lnTo>
                    <a:pt x="3368" y="3477"/>
                  </a:lnTo>
                  <a:lnTo>
                    <a:pt x="3368" y="3462"/>
                  </a:lnTo>
                  <a:lnTo>
                    <a:pt x="3370" y="3446"/>
                  </a:lnTo>
                  <a:lnTo>
                    <a:pt x="3372" y="3427"/>
                  </a:lnTo>
                  <a:lnTo>
                    <a:pt x="3374" y="3409"/>
                  </a:lnTo>
                  <a:lnTo>
                    <a:pt x="3370" y="3391"/>
                  </a:lnTo>
                  <a:lnTo>
                    <a:pt x="3361" y="3374"/>
                  </a:lnTo>
                  <a:lnTo>
                    <a:pt x="3346" y="3360"/>
                  </a:lnTo>
                  <a:lnTo>
                    <a:pt x="3321" y="3339"/>
                  </a:lnTo>
                  <a:lnTo>
                    <a:pt x="3299" y="3312"/>
                  </a:lnTo>
                  <a:lnTo>
                    <a:pt x="3280" y="3281"/>
                  </a:lnTo>
                  <a:lnTo>
                    <a:pt x="3268" y="3248"/>
                  </a:lnTo>
                  <a:lnTo>
                    <a:pt x="3262" y="3217"/>
                  </a:lnTo>
                  <a:lnTo>
                    <a:pt x="3260" y="3187"/>
                  </a:lnTo>
                  <a:lnTo>
                    <a:pt x="3266" y="3162"/>
                  </a:lnTo>
                  <a:lnTo>
                    <a:pt x="3273" y="3143"/>
                  </a:lnTo>
                  <a:lnTo>
                    <a:pt x="3279" y="3123"/>
                  </a:lnTo>
                  <a:lnTo>
                    <a:pt x="3280" y="3103"/>
                  </a:lnTo>
                  <a:lnTo>
                    <a:pt x="3280" y="3084"/>
                  </a:lnTo>
                  <a:lnTo>
                    <a:pt x="3279" y="3066"/>
                  </a:lnTo>
                  <a:lnTo>
                    <a:pt x="3271" y="3050"/>
                  </a:lnTo>
                  <a:lnTo>
                    <a:pt x="3258" y="3037"/>
                  </a:lnTo>
                  <a:lnTo>
                    <a:pt x="3242" y="3028"/>
                  </a:lnTo>
                  <a:lnTo>
                    <a:pt x="3222" y="3026"/>
                  </a:lnTo>
                  <a:lnTo>
                    <a:pt x="3185" y="3022"/>
                  </a:lnTo>
                  <a:lnTo>
                    <a:pt x="3147" y="3015"/>
                  </a:lnTo>
                  <a:lnTo>
                    <a:pt x="3105" y="3004"/>
                  </a:lnTo>
                  <a:lnTo>
                    <a:pt x="3063" y="2995"/>
                  </a:lnTo>
                  <a:lnTo>
                    <a:pt x="3020" y="2987"/>
                  </a:lnTo>
                  <a:lnTo>
                    <a:pt x="2984" y="2987"/>
                  </a:lnTo>
                  <a:lnTo>
                    <a:pt x="2969" y="2989"/>
                  </a:lnTo>
                  <a:lnTo>
                    <a:pt x="2956" y="2991"/>
                  </a:lnTo>
                  <a:lnTo>
                    <a:pt x="2901" y="3007"/>
                  </a:lnTo>
                  <a:lnTo>
                    <a:pt x="2854" y="3022"/>
                  </a:lnTo>
                  <a:lnTo>
                    <a:pt x="2813" y="3035"/>
                  </a:lnTo>
                  <a:lnTo>
                    <a:pt x="2775" y="3048"/>
                  </a:lnTo>
                  <a:lnTo>
                    <a:pt x="2758" y="3050"/>
                  </a:lnTo>
                  <a:lnTo>
                    <a:pt x="2740" y="3046"/>
                  </a:lnTo>
                  <a:lnTo>
                    <a:pt x="2722" y="3037"/>
                  </a:lnTo>
                  <a:lnTo>
                    <a:pt x="2702" y="3024"/>
                  </a:lnTo>
                  <a:lnTo>
                    <a:pt x="2667" y="2995"/>
                  </a:lnTo>
                  <a:lnTo>
                    <a:pt x="2630" y="2962"/>
                  </a:lnTo>
                  <a:lnTo>
                    <a:pt x="2594" y="2925"/>
                  </a:lnTo>
                  <a:lnTo>
                    <a:pt x="2559" y="2890"/>
                  </a:lnTo>
                  <a:lnTo>
                    <a:pt x="2524" y="2855"/>
                  </a:lnTo>
                  <a:lnTo>
                    <a:pt x="2484" y="2815"/>
                  </a:lnTo>
                  <a:lnTo>
                    <a:pt x="2445" y="2776"/>
                  </a:lnTo>
                  <a:lnTo>
                    <a:pt x="2427" y="2753"/>
                  </a:lnTo>
                  <a:lnTo>
                    <a:pt x="2410" y="2731"/>
                  </a:lnTo>
                  <a:lnTo>
                    <a:pt x="2399" y="2709"/>
                  </a:lnTo>
                  <a:lnTo>
                    <a:pt x="2394" y="2687"/>
                  </a:lnTo>
                  <a:lnTo>
                    <a:pt x="2396" y="2668"/>
                  </a:lnTo>
                  <a:lnTo>
                    <a:pt x="2407" y="2652"/>
                  </a:lnTo>
                  <a:lnTo>
                    <a:pt x="2410" y="2648"/>
                  </a:lnTo>
                  <a:lnTo>
                    <a:pt x="2427" y="2632"/>
                  </a:lnTo>
                  <a:lnTo>
                    <a:pt x="2434" y="2617"/>
                  </a:lnTo>
                  <a:lnTo>
                    <a:pt x="2438" y="2606"/>
                  </a:lnTo>
                  <a:lnTo>
                    <a:pt x="2436" y="2595"/>
                  </a:lnTo>
                  <a:lnTo>
                    <a:pt x="2429" y="2586"/>
                  </a:lnTo>
                  <a:lnTo>
                    <a:pt x="2421" y="2575"/>
                  </a:lnTo>
                  <a:lnTo>
                    <a:pt x="2410" y="2564"/>
                  </a:lnTo>
                  <a:lnTo>
                    <a:pt x="2401" y="2551"/>
                  </a:lnTo>
                  <a:lnTo>
                    <a:pt x="2394" y="2532"/>
                  </a:lnTo>
                  <a:lnTo>
                    <a:pt x="2392" y="2512"/>
                  </a:lnTo>
                  <a:lnTo>
                    <a:pt x="2394" y="2488"/>
                  </a:lnTo>
                  <a:lnTo>
                    <a:pt x="2401" y="2465"/>
                  </a:lnTo>
                  <a:lnTo>
                    <a:pt x="2410" y="2443"/>
                  </a:lnTo>
                  <a:lnTo>
                    <a:pt x="2425" y="2415"/>
                  </a:lnTo>
                  <a:lnTo>
                    <a:pt x="2442" y="2391"/>
                  </a:lnTo>
                  <a:lnTo>
                    <a:pt x="2445" y="2382"/>
                  </a:lnTo>
                  <a:lnTo>
                    <a:pt x="2456" y="2362"/>
                  </a:lnTo>
                  <a:lnTo>
                    <a:pt x="2464" y="2336"/>
                  </a:lnTo>
                  <a:lnTo>
                    <a:pt x="2475" y="2309"/>
                  </a:lnTo>
                  <a:lnTo>
                    <a:pt x="2484" y="2281"/>
                  </a:lnTo>
                  <a:lnTo>
                    <a:pt x="2495" y="2254"/>
                  </a:lnTo>
                  <a:lnTo>
                    <a:pt x="2509" y="2234"/>
                  </a:lnTo>
                  <a:lnTo>
                    <a:pt x="2524" y="2217"/>
                  </a:lnTo>
                  <a:lnTo>
                    <a:pt x="2542" y="2210"/>
                  </a:lnTo>
                  <a:lnTo>
                    <a:pt x="2570" y="2202"/>
                  </a:lnTo>
                  <a:lnTo>
                    <a:pt x="2592" y="2188"/>
                  </a:lnTo>
                  <a:lnTo>
                    <a:pt x="2612" y="2168"/>
                  </a:lnTo>
                  <a:lnTo>
                    <a:pt x="2627" y="2144"/>
                  </a:lnTo>
                  <a:lnTo>
                    <a:pt x="2636" y="2118"/>
                  </a:lnTo>
                  <a:lnTo>
                    <a:pt x="2639" y="2091"/>
                  </a:lnTo>
                  <a:lnTo>
                    <a:pt x="2643" y="2063"/>
                  </a:lnTo>
                  <a:lnTo>
                    <a:pt x="2656" y="2035"/>
                  </a:lnTo>
                  <a:lnTo>
                    <a:pt x="2676" y="2013"/>
                  </a:lnTo>
                  <a:lnTo>
                    <a:pt x="2702" y="1995"/>
                  </a:lnTo>
                  <a:lnTo>
                    <a:pt x="2735" y="1984"/>
                  </a:lnTo>
                  <a:lnTo>
                    <a:pt x="2758" y="1977"/>
                  </a:lnTo>
                  <a:lnTo>
                    <a:pt x="2780" y="1966"/>
                  </a:lnTo>
                  <a:lnTo>
                    <a:pt x="2801" y="1955"/>
                  </a:lnTo>
                  <a:lnTo>
                    <a:pt x="2824" y="1946"/>
                  </a:lnTo>
                  <a:lnTo>
                    <a:pt x="2854" y="1936"/>
                  </a:lnTo>
                  <a:lnTo>
                    <a:pt x="2878" y="1935"/>
                  </a:lnTo>
                  <a:lnTo>
                    <a:pt x="2905" y="1933"/>
                  </a:lnTo>
                  <a:lnTo>
                    <a:pt x="2934" y="1931"/>
                  </a:lnTo>
                  <a:lnTo>
                    <a:pt x="2960" y="1927"/>
                  </a:lnTo>
                  <a:lnTo>
                    <a:pt x="2984" y="1920"/>
                  </a:lnTo>
                  <a:lnTo>
                    <a:pt x="3020" y="1907"/>
                  </a:lnTo>
                  <a:lnTo>
                    <a:pt x="3046" y="1898"/>
                  </a:lnTo>
                  <a:lnTo>
                    <a:pt x="3073" y="1891"/>
                  </a:lnTo>
                  <a:lnTo>
                    <a:pt x="3105" y="1883"/>
                  </a:lnTo>
                  <a:lnTo>
                    <a:pt x="3141" y="1881"/>
                  </a:lnTo>
                  <a:lnTo>
                    <a:pt x="3172" y="1881"/>
                  </a:lnTo>
                  <a:lnTo>
                    <a:pt x="3202" y="1878"/>
                  </a:lnTo>
                  <a:lnTo>
                    <a:pt x="3229" y="1876"/>
                  </a:lnTo>
                  <a:lnTo>
                    <a:pt x="3253" y="1874"/>
                  </a:lnTo>
                  <a:lnTo>
                    <a:pt x="3275" y="1872"/>
                  </a:lnTo>
                  <a:lnTo>
                    <a:pt x="3291" y="1874"/>
                  </a:lnTo>
                  <a:lnTo>
                    <a:pt x="3304" y="1880"/>
                  </a:lnTo>
                  <a:lnTo>
                    <a:pt x="3313" y="1891"/>
                  </a:lnTo>
                  <a:lnTo>
                    <a:pt x="3319" y="1905"/>
                  </a:lnTo>
                  <a:lnTo>
                    <a:pt x="3317" y="1927"/>
                  </a:lnTo>
                  <a:lnTo>
                    <a:pt x="3317" y="1953"/>
                  </a:lnTo>
                  <a:lnTo>
                    <a:pt x="3324" y="1973"/>
                  </a:lnTo>
                  <a:lnTo>
                    <a:pt x="3337" y="1991"/>
                  </a:lnTo>
                  <a:lnTo>
                    <a:pt x="3354" y="2006"/>
                  </a:lnTo>
                  <a:lnTo>
                    <a:pt x="3376" y="2017"/>
                  </a:lnTo>
                  <a:lnTo>
                    <a:pt x="3398" y="2028"/>
                  </a:lnTo>
                  <a:lnTo>
                    <a:pt x="3420" y="2039"/>
                  </a:lnTo>
                  <a:lnTo>
                    <a:pt x="3443" y="2048"/>
                  </a:lnTo>
                  <a:lnTo>
                    <a:pt x="3456" y="2056"/>
                  </a:lnTo>
                  <a:lnTo>
                    <a:pt x="3469" y="2063"/>
                  </a:lnTo>
                  <a:lnTo>
                    <a:pt x="3493" y="2076"/>
                  </a:lnTo>
                  <a:lnTo>
                    <a:pt x="3515" y="2089"/>
                  </a:lnTo>
                  <a:lnTo>
                    <a:pt x="3539" y="2100"/>
                  </a:lnTo>
                  <a:lnTo>
                    <a:pt x="3563" y="2109"/>
                  </a:lnTo>
                  <a:lnTo>
                    <a:pt x="3583" y="2114"/>
                  </a:lnTo>
                  <a:lnTo>
                    <a:pt x="3603" y="2113"/>
                  </a:lnTo>
                  <a:lnTo>
                    <a:pt x="3617" y="2107"/>
                  </a:lnTo>
                  <a:lnTo>
                    <a:pt x="3628" y="2091"/>
                  </a:lnTo>
                  <a:lnTo>
                    <a:pt x="3641" y="2074"/>
                  </a:lnTo>
                  <a:lnTo>
                    <a:pt x="3660" y="2063"/>
                  </a:lnTo>
                  <a:lnTo>
                    <a:pt x="3680" y="2057"/>
                  </a:lnTo>
                  <a:lnTo>
                    <a:pt x="3705" y="2057"/>
                  </a:lnTo>
                  <a:lnTo>
                    <a:pt x="3733" y="2059"/>
                  </a:lnTo>
                  <a:lnTo>
                    <a:pt x="3760" y="2063"/>
                  </a:lnTo>
                  <a:lnTo>
                    <a:pt x="3786" y="2068"/>
                  </a:lnTo>
                  <a:lnTo>
                    <a:pt x="3821" y="2076"/>
                  </a:lnTo>
                  <a:lnTo>
                    <a:pt x="3861" y="2083"/>
                  </a:lnTo>
                  <a:lnTo>
                    <a:pt x="3901" y="2089"/>
                  </a:lnTo>
                  <a:lnTo>
                    <a:pt x="3943" y="2094"/>
                  </a:lnTo>
                  <a:lnTo>
                    <a:pt x="3980" y="2098"/>
                  </a:lnTo>
                  <a:lnTo>
                    <a:pt x="4013" y="2098"/>
                  </a:lnTo>
                  <a:lnTo>
                    <a:pt x="4046" y="2089"/>
                  </a:lnTo>
                  <a:lnTo>
                    <a:pt x="4077" y="2072"/>
                  </a:lnTo>
                  <a:lnTo>
                    <a:pt x="4103" y="2048"/>
                  </a:lnTo>
                  <a:lnTo>
                    <a:pt x="4123" y="2019"/>
                  </a:lnTo>
                  <a:lnTo>
                    <a:pt x="4132" y="1990"/>
                  </a:lnTo>
                  <a:lnTo>
                    <a:pt x="4130" y="1971"/>
                  </a:lnTo>
                  <a:lnTo>
                    <a:pt x="4121" y="1958"/>
                  </a:lnTo>
                  <a:lnTo>
                    <a:pt x="4106" y="1947"/>
                  </a:lnTo>
                  <a:lnTo>
                    <a:pt x="4084" y="1938"/>
                  </a:lnTo>
                  <a:lnTo>
                    <a:pt x="4059" y="1933"/>
                  </a:lnTo>
                  <a:lnTo>
                    <a:pt x="4030" y="1929"/>
                  </a:lnTo>
                  <a:lnTo>
                    <a:pt x="3997" y="1927"/>
                  </a:lnTo>
                  <a:lnTo>
                    <a:pt x="3962" y="1927"/>
                  </a:lnTo>
                  <a:lnTo>
                    <a:pt x="3923" y="1925"/>
                  </a:lnTo>
                  <a:lnTo>
                    <a:pt x="3894" y="1922"/>
                  </a:lnTo>
                  <a:lnTo>
                    <a:pt x="3870" y="1916"/>
                  </a:lnTo>
                  <a:lnTo>
                    <a:pt x="3852" y="1907"/>
                  </a:lnTo>
                  <a:lnTo>
                    <a:pt x="3843" y="1892"/>
                  </a:lnTo>
                  <a:lnTo>
                    <a:pt x="3839" y="1876"/>
                  </a:lnTo>
                  <a:lnTo>
                    <a:pt x="3843" y="1854"/>
                  </a:lnTo>
                  <a:lnTo>
                    <a:pt x="3856" y="1821"/>
                  </a:lnTo>
                  <a:lnTo>
                    <a:pt x="3870" y="1790"/>
                  </a:lnTo>
                  <a:lnTo>
                    <a:pt x="3889" y="1762"/>
                  </a:lnTo>
                  <a:lnTo>
                    <a:pt x="3911" y="1740"/>
                  </a:lnTo>
                  <a:lnTo>
                    <a:pt x="3940" y="1724"/>
                  </a:lnTo>
                  <a:lnTo>
                    <a:pt x="3989" y="1704"/>
                  </a:lnTo>
                  <a:lnTo>
                    <a:pt x="4037" y="1693"/>
                  </a:lnTo>
                  <a:lnTo>
                    <a:pt x="4086" y="1689"/>
                  </a:lnTo>
                  <a:lnTo>
                    <a:pt x="4119" y="1693"/>
                  </a:lnTo>
                  <a:lnTo>
                    <a:pt x="4154" y="1704"/>
                  </a:lnTo>
                  <a:lnTo>
                    <a:pt x="4191" y="1715"/>
                  </a:lnTo>
                  <a:lnTo>
                    <a:pt x="4229" y="1722"/>
                  </a:lnTo>
                  <a:lnTo>
                    <a:pt x="4268" y="1724"/>
                  </a:lnTo>
                  <a:lnTo>
                    <a:pt x="4286" y="1718"/>
                  </a:lnTo>
                  <a:lnTo>
                    <a:pt x="4299" y="1711"/>
                  </a:lnTo>
                  <a:lnTo>
                    <a:pt x="4304" y="1700"/>
                  </a:lnTo>
                  <a:lnTo>
                    <a:pt x="4302" y="1685"/>
                  </a:lnTo>
                  <a:lnTo>
                    <a:pt x="4295" y="1671"/>
                  </a:lnTo>
                  <a:lnTo>
                    <a:pt x="4282" y="1656"/>
                  </a:lnTo>
                  <a:lnTo>
                    <a:pt x="4266" y="1641"/>
                  </a:lnTo>
                  <a:lnTo>
                    <a:pt x="4244" y="1627"/>
                  </a:lnTo>
                  <a:lnTo>
                    <a:pt x="4218" y="1608"/>
                  </a:lnTo>
                  <a:lnTo>
                    <a:pt x="4200" y="1588"/>
                  </a:lnTo>
                  <a:lnTo>
                    <a:pt x="4189" y="1568"/>
                  </a:lnTo>
                  <a:lnTo>
                    <a:pt x="4185" y="1548"/>
                  </a:lnTo>
                  <a:lnTo>
                    <a:pt x="4189" y="1529"/>
                  </a:lnTo>
                  <a:lnTo>
                    <a:pt x="4200" y="1515"/>
                  </a:lnTo>
                  <a:lnTo>
                    <a:pt x="4209" y="1502"/>
                  </a:lnTo>
                  <a:lnTo>
                    <a:pt x="4213" y="1491"/>
                  </a:lnTo>
                  <a:lnTo>
                    <a:pt x="4211" y="1482"/>
                  </a:lnTo>
                  <a:lnTo>
                    <a:pt x="4205" y="1476"/>
                  </a:lnTo>
                  <a:lnTo>
                    <a:pt x="4194" y="1474"/>
                  </a:lnTo>
                  <a:lnTo>
                    <a:pt x="4180" y="1476"/>
                  </a:lnTo>
                  <a:lnTo>
                    <a:pt x="4160" y="1485"/>
                  </a:lnTo>
                  <a:lnTo>
                    <a:pt x="4141" y="1496"/>
                  </a:lnTo>
                  <a:lnTo>
                    <a:pt x="4123" y="1509"/>
                  </a:lnTo>
                  <a:lnTo>
                    <a:pt x="4105" y="1522"/>
                  </a:lnTo>
                  <a:lnTo>
                    <a:pt x="4086" y="1535"/>
                  </a:lnTo>
                  <a:lnTo>
                    <a:pt x="4068" y="1546"/>
                  </a:lnTo>
                  <a:lnTo>
                    <a:pt x="4052" y="1553"/>
                  </a:lnTo>
                  <a:lnTo>
                    <a:pt x="4037" y="1557"/>
                  </a:lnTo>
                  <a:lnTo>
                    <a:pt x="4026" y="1553"/>
                  </a:lnTo>
                  <a:lnTo>
                    <a:pt x="4019" y="1542"/>
                  </a:lnTo>
                  <a:lnTo>
                    <a:pt x="4009" y="1529"/>
                  </a:lnTo>
                  <a:lnTo>
                    <a:pt x="3993" y="1524"/>
                  </a:lnTo>
                  <a:lnTo>
                    <a:pt x="3975" y="1524"/>
                  </a:lnTo>
                  <a:lnTo>
                    <a:pt x="3953" y="1527"/>
                  </a:lnTo>
                  <a:lnTo>
                    <a:pt x="3931" y="1535"/>
                  </a:lnTo>
                  <a:lnTo>
                    <a:pt x="3911" y="1548"/>
                  </a:lnTo>
                  <a:lnTo>
                    <a:pt x="3892" y="1564"/>
                  </a:lnTo>
                  <a:lnTo>
                    <a:pt x="3881" y="1583"/>
                  </a:lnTo>
                  <a:lnTo>
                    <a:pt x="3878" y="1605"/>
                  </a:lnTo>
                  <a:lnTo>
                    <a:pt x="3878" y="1634"/>
                  </a:lnTo>
                  <a:lnTo>
                    <a:pt x="3881" y="1658"/>
                  </a:lnTo>
                  <a:lnTo>
                    <a:pt x="3883" y="1676"/>
                  </a:lnTo>
                  <a:lnTo>
                    <a:pt x="3883" y="1693"/>
                  </a:lnTo>
                  <a:lnTo>
                    <a:pt x="3879" y="1709"/>
                  </a:lnTo>
                  <a:lnTo>
                    <a:pt x="3872" y="1729"/>
                  </a:lnTo>
                  <a:lnTo>
                    <a:pt x="3856" y="1755"/>
                  </a:lnTo>
                  <a:lnTo>
                    <a:pt x="3834" y="1777"/>
                  </a:lnTo>
                  <a:lnTo>
                    <a:pt x="3808" y="1792"/>
                  </a:lnTo>
                  <a:lnTo>
                    <a:pt x="3780" y="1801"/>
                  </a:lnTo>
                  <a:lnTo>
                    <a:pt x="3753" y="1803"/>
                  </a:lnTo>
                  <a:lnTo>
                    <a:pt x="3740" y="1804"/>
                  </a:lnTo>
                  <a:lnTo>
                    <a:pt x="3735" y="1810"/>
                  </a:lnTo>
                  <a:lnTo>
                    <a:pt x="3733" y="1821"/>
                  </a:lnTo>
                  <a:lnTo>
                    <a:pt x="3733" y="1836"/>
                  </a:lnTo>
                  <a:lnTo>
                    <a:pt x="3733" y="1850"/>
                  </a:lnTo>
                  <a:lnTo>
                    <a:pt x="3733" y="1867"/>
                  </a:lnTo>
                  <a:lnTo>
                    <a:pt x="3731" y="1881"/>
                  </a:lnTo>
                  <a:lnTo>
                    <a:pt x="3726" y="1894"/>
                  </a:lnTo>
                  <a:lnTo>
                    <a:pt x="3713" y="1905"/>
                  </a:lnTo>
                  <a:lnTo>
                    <a:pt x="3694" y="1909"/>
                  </a:lnTo>
                  <a:lnTo>
                    <a:pt x="3680" y="1907"/>
                  </a:lnTo>
                  <a:lnTo>
                    <a:pt x="3665" y="1896"/>
                  </a:lnTo>
                  <a:lnTo>
                    <a:pt x="3652" y="1880"/>
                  </a:lnTo>
                  <a:lnTo>
                    <a:pt x="3641" y="1861"/>
                  </a:lnTo>
                  <a:lnTo>
                    <a:pt x="3628" y="1837"/>
                  </a:lnTo>
                  <a:lnTo>
                    <a:pt x="3617" y="1814"/>
                  </a:lnTo>
                  <a:lnTo>
                    <a:pt x="3597" y="1775"/>
                  </a:lnTo>
                  <a:lnTo>
                    <a:pt x="3577" y="1744"/>
                  </a:lnTo>
                  <a:lnTo>
                    <a:pt x="3559" y="1715"/>
                  </a:lnTo>
                  <a:lnTo>
                    <a:pt x="3539" y="1689"/>
                  </a:lnTo>
                  <a:lnTo>
                    <a:pt x="3522" y="1671"/>
                  </a:lnTo>
                  <a:lnTo>
                    <a:pt x="3508" y="1654"/>
                  </a:lnTo>
                  <a:lnTo>
                    <a:pt x="3491" y="1639"/>
                  </a:lnTo>
                  <a:lnTo>
                    <a:pt x="3475" y="1623"/>
                  </a:lnTo>
                  <a:lnTo>
                    <a:pt x="3453" y="1605"/>
                  </a:lnTo>
                  <a:lnTo>
                    <a:pt x="3443" y="1597"/>
                  </a:lnTo>
                  <a:lnTo>
                    <a:pt x="3427" y="1590"/>
                  </a:lnTo>
                  <a:lnTo>
                    <a:pt x="3412" y="1588"/>
                  </a:lnTo>
                  <a:lnTo>
                    <a:pt x="3405" y="1594"/>
                  </a:lnTo>
                  <a:lnTo>
                    <a:pt x="3401" y="1603"/>
                  </a:lnTo>
                  <a:lnTo>
                    <a:pt x="3405" y="1616"/>
                  </a:lnTo>
                  <a:lnTo>
                    <a:pt x="3420" y="1632"/>
                  </a:lnTo>
                  <a:lnTo>
                    <a:pt x="3427" y="1641"/>
                  </a:lnTo>
                  <a:lnTo>
                    <a:pt x="3436" y="1649"/>
                  </a:lnTo>
                  <a:lnTo>
                    <a:pt x="3443" y="1656"/>
                  </a:lnTo>
                  <a:lnTo>
                    <a:pt x="3458" y="1671"/>
                  </a:lnTo>
                  <a:lnTo>
                    <a:pt x="3475" y="1682"/>
                  </a:lnTo>
                  <a:lnTo>
                    <a:pt x="3493" y="1687"/>
                  </a:lnTo>
                  <a:lnTo>
                    <a:pt x="3515" y="1689"/>
                  </a:lnTo>
                  <a:lnTo>
                    <a:pt x="3530" y="1693"/>
                  </a:lnTo>
                  <a:lnTo>
                    <a:pt x="3537" y="1702"/>
                  </a:lnTo>
                  <a:lnTo>
                    <a:pt x="3542" y="1716"/>
                  </a:lnTo>
                  <a:lnTo>
                    <a:pt x="3542" y="1733"/>
                  </a:lnTo>
                  <a:lnTo>
                    <a:pt x="3541" y="1751"/>
                  </a:lnTo>
                  <a:lnTo>
                    <a:pt x="3535" y="1771"/>
                  </a:lnTo>
                  <a:lnTo>
                    <a:pt x="3531" y="1788"/>
                  </a:lnTo>
                  <a:lnTo>
                    <a:pt x="3526" y="1803"/>
                  </a:lnTo>
                  <a:lnTo>
                    <a:pt x="3522" y="1814"/>
                  </a:lnTo>
                  <a:lnTo>
                    <a:pt x="3517" y="1826"/>
                  </a:lnTo>
                  <a:lnTo>
                    <a:pt x="3508" y="1841"/>
                  </a:lnTo>
                  <a:lnTo>
                    <a:pt x="3500" y="1856"/>
                  </a:lnTo>
                  <a:lnTo>
                    <a:pt x="3491" y="1870"/>
                  </a:lnTo>
                  <a:lnTo>
                    <a:pt x="3480" y="1881"/>
                  </a:lnTo>
                  <a:lnTo>
                    <a:pt x="3473" y="1891"/>
                  </a:lnTo>
                  <a:lnTo>
                    <a:pt x="3465" y="1892"/>
                  </a:lnTo>
                  <a:lnTo>
                    <a:pt x="3458" y="1891"/>
                  </a:lnTo>
                  <a:lnTo>
                    <a:pt x="3454" y="1881"/>
                  </a:lnTo>
                  <a:lnTo>
                    <a:pt x="3453" y="1865"/>
                  </a:lnTo>
                  <a:lnTo>
                    <a:pt x="3453" y="1828"/>
                  </a:lnTo>
                  <a:lnTo>
                    <a:pt x="3449" y="1793"/>
                  </a:lnTo>
                  <a:lnTo>
                    <a:pt x="3443" y="1764"/>
                  </a:lnTo>
                  <a:lnTo>
                    <a:pt x="3434" y="1746"/>
                  </a:lnTo>
                  <a:lnTo>
                    <a:pt x="3421" y="1729"/>
                  </a:lnTo>
                  <a:lnTo>
                    <a:pt x="3407" y="1716"/>
                  </a:lnTo>
                  <a:lnTo>
                    <a:pt x="3385" y="1707"/>
                  </a:lnTo>
                  <a:lnTo>
                    <a:pt x="3365" y="1696"/>
                  </a:lnTo>
                  <a:lnTo>
                    <a:pt x="3346" y="1683"/>
                  </a:lnTo>
                  <a:lnTo>
                    <a:pt x="3330" y="1669"/>
                  </a:lnTo>
                  <a:lnTo>
                    <a:pt x="3313" y="1656"/>
                  </a:lnTo>
                  <a:lnTo>
                    <a:pt x="3297" y="1643"/>
                  </a:lnTo>
                  <a:lnTo>
                    <a:pt x="3277" y="1632"/>
                  </a:lnTo>
                  <a:lnTo>
                    <a:pt x="3251" y="1625"/>
                  </a:lnTo>
                  <a:lnTo>
                    <a:pt x="3222" y="1621"/>
                  </a:lnTo>
                  <a:lnTo>
                    <a:pt x="3194" y="1621"/>
                  </a:lnTo>
                  <a:lnTo>
                    <a:pt x="3165" y="1619"/>
                  </a:lnTo>
                  <a:lnTo>
                    <a:pt x="3139" y="1617"/>
                  </a:lnTo>
                  <a:lnTo>
                    <a:pt x="3114" y="1617"/>
                  </a:lnTo>
                  <a:lnTo>
                    <a:pt x="3090" y="1617"/>
                  </a:lnTo>
                  <a:lnTo>
                    <a:pt x="3070" y="1621"/>
                  </a:lnTo>
                  <a:lnTo>
                    <a:pt x="3055" y="1625"/>
                  </a:lnTo>
                  <a:lnTo>
                    <a:pt x="3044" y="1634"/>
                  </a:lnTo>
                  <a:lnTo>
                    <a:pt x="3039" y="1645"/>
                  </a:lnTo>
                  <a:lnTo>
                    <a:pt x="3041" y="1661"/>
                  </a:lnTo>
                  <a:lnTo>
                    <a:pt x="3046" y="1689"/>
                  </a:lnTo>
                  <a:lnTo>
                    <a:pt x="3048" y="1715"/>
                  </a:lnTo>
                  <a:lnTo>
                    <a:pt x="3046" y="1738"/>
                  </a:lnTo>
                  <a:lnTo>
                    <a:pt x="3041" y="1757"/>
                  </a:lnTo>
                  <a:lnTo>
                    <a:pt x="3033" y="1771"/>
                  </a:lnTo>
                  <a:lnTo>
                    <a:pt x="3020" y="1779"/>
                  </a:lnTo>
                  <a:lnTo>
                    <a:pt x="3017" y="1779"/>
                  </a:lnTo>
                  <a:lnTo>
                    <a:pt x="3011" y="1781"/>
                  </a:lnTo>
                  <a:lnTo>
                    <a:pt x="2998" y="1781"/>
                  </a:lnTo>
                  <a:lnTo>
                    <a:pt x="2984" y="1782"/>
                  </a:lnTo>
                  <a:lnTo>
                    <a:pt x="2969" y="1784"/>
                  </a:lnTo>
                  <a:lnTo>
                    <a:pt x="2958" y="1790"/>
                  </a:lnTo>
                  <a:lnTo>
                    <a:pt x="2949" y="1799"/>
                  </a:lnTo>
                  <a:lnTo>
                    <a:pt x="2943" y="1810"/>
                  </a:lnTo>
                  <a:lnTo>
                    <a:pt x="2943" y="1825"/>
                  </a:lnTo>
                  <a:lnTo>
                    <a:pt x="2945" y="1841"/>
                  </a:lnTo>
                  <a:lnTo>
                    <a:pt x="2943" y="1852"/>
                  </a:lnTo>
                  <a:lnTo>
                    <a:pt x="2936" y="1859"/>
                  </a:lnTo>
                  <a:lnTo>
                    <a:pt x="2929" y="1867"/>
                  </a:lnTo>
                  <a:lnTo>
                    <a:pt x="2918" y="1872"/>
                  </a:lnTo>
                  <a:lnTo>
                    <a:pt x="2905" y="1881"/>
                  </a:lnTo>
                  <a:lnTo>
                    <a:pt x="2881" y="1898"/>
                  </a:lnTo>
                  <a:lnTo>
                    <a:pt x="2854" y="1911"/>
                  </a:lnTo>
                  <a:lnTo>
                    <a:pt x="2832" y="1916"/>
                  </a:lnTo>
                  <a:lnTo>
                    <a:pt x="2810" y="1914"/>
                  </a:lnTo>
                  <a:lnTo>
                    <a:pt x="2786" y="1905"/>
                  </a:lnTo>
                  <a:lnTo>
                    <a:pt x="2768" y="1896"/>
                  </a:lnTo>
                  <a:lnTo>
                    <a:pt x="2746" y="1894"/>
                  </a:lnTo>
                  <a:lnTo>
                    <a:pt x="2724" y="1894"/>
                  </a:lnTo>
                  <a:lnTo>
                    <a:pt x="2702" y="1896"/>
                  </a:lnTo>
                  <a:lnTo>
                    <a:pt x="2685" y="1894"/>
                  </a:lnTo>
                  <a:lnTo>
                    <a:pt x="2671" y="1892"/>
                  </a:lnTo>
                  <a:lnTo>
                    <a:pt x="2660" y="1889"/>
                  </a:lnTo>
                  <a:lnTo>
                    <a:pt x="2652" y="1880"/>
                  </a:lnTo>
                  <a:lnTo>
                    <a:pt x="2650" y="1865"/>
                  </a:lnTo>
                  <a:lnTo>
                    <a:pt x="2649" y="1843"/>
                  </a:lnTo>
                  <a:lnTo>
                    <a:pt x="2643" y="1823"/>
                  </a:lnTo>
                  <a:lnTo>
                    <a:pt x="2638" y="1806"/>
                  </a:lnTo>
                  <a:lnTo>
                    <a:pt x="2632" y="1790"/>
                  </a:lnTo>
                  <a:lnTo>
                    <a:pt x="2628" y="1773"/>
                  </a:lnTo>
                  <a:lnTo>
                    <a:pt x="2630" y="1755"/>
                  </a:lnTo>
                  <a:lnTo>
                    <a:pt x="2639" y="1735"/>
                  </a:lnTo>
                  <a:lnTo>
                    <a:pt x="2647" y="1716"/>
                  </a:lnTo>
                  <a:lnTo>
                    <a:pt x="2652" y="1698"/>
                  </a:lnTo>
                  <a:lnTo>
                    <a:pt x="2654" y="1680"/>
                  </a:lnTo>
                  <a:lnTo>
                    <a:pt x="2656" y="1665"/>
                  </a:lnTo>
                  <a:lnTo>
                    <a:pt x="2660" y="1652"/>
                  </a:lnTo>
                  <a:lnTo>
                    <a:pt x="2667" y="1641"/>
                  </a:lnTo>
                  <a:lnTo>
                    <a:pt x="2678" y="1636"/>
                  </a:lnTo>
                  <a:lnTo>
                    <a:pt x="2694" y="1632"/>
                  </a:lnTo>
                  <a:lnTo>
                    <a:pt x="2702" y="1632"/>
                  </a:lnTo>
                  <a:lnTo>
                    <a:pt x="2727" y="1634"/>
                  </a:lnTo>
                  <a:lnTo>
                    <a:pt x="2749" y="1638"/>
                  </a:lnTo>
                  <a:lnTo>
                    <a:pt x="2771" y="1641"/>
                  </a:lnTo>
                  <a:lnTo>
                    <a:pt x="2795" y="1643"/>
                  </a:lnTo>
                  <a:lnTo>
                    <a:pt x="2826" y="1645"/>
                  </a:lnTo>
                  <a:lnTo>
                    <a:pt x="2841" y="1643"/>
                  </a:lnTo>
                  <a:lnTo>
                    <a:pt x="2854" y="1639"/>
                  </a:lnTo>
                  <a:lnTo>
                    <a:pt x="2876" y="1628"/>
                  </a:lnTo>
                  <a:lnTo>
                    <a:pt x="2894" y="1614"/>
                  </a:lnTo>
                  <a:lnTo>
                    <a:pt x="2905" y="1597"/>
                  </a:lnTo>
                  <a:lnTo>
                    <a:pt x="2909" y="1577"/>
                  </a:lnTo>
                  <a:lnTo>
                    <a:pt x="2903" y="1557"/>
                  </a:lnTo>
                  <a:lnTo>
                    <a:pt x="2887" y="1537"/>
                  </a:lnTo>
                  <a:lnTo>
                    <a:pt x="2868" y="1513"/>
                  </a:lnTo>
                  <a:lnTo>
                    <a:pt x="2857" y="1487"/>
                  </a:lnTo>
                  <a:lnTo>
                    <a:pt x="2856" y="1460"/>
                  </a:lnTo>
                  <a:lnTo>
                    <a:pt x="2859" y="1432"/>
                  </a:lnTo>
                  <a:lnTo>
                    <a:pt x="2868" y="1405"/>
                  </a:lnTo>
                  <a:lnTo>
                    <a:pt x="2881" y="1377"/>
                  </a:lnTo>
                  <a:lnTo>
                    <a:pt x="2894" y="1359"/>
                  </a:lnTo>
                  <a:lnTo>
                    <a:pt x="2907" y="1348"/>
                  </a:lnTo>
                  <a:lnTo>
                    <a:pt x="2921" y="1342"/>
                  </a:lnTo>
                  <a:lnTo>
                    <a:pt x="2938" y="1340"/>
                  </a:lnTo>
                  <a:lnTo>
                    <a:pt x="2958" y="1339"/>
                  </a:lnTo>
                  <a:lnTo>
                    <a:pt x="2984" y="1335"/>
                  </a:lnTo>
                  <a:lnTo>
                    <a:pt x="2995" y="1333"/>
                  </a:lnTo>
                  <a:lnTo>
                    <a:pt x="3020" y="1324"/>
                  </a:lnTo>
                  <a:lnTo>
                    <a:pt x="3064" y="1306"/>
                  </a:lnTo>
                  <a:lnTo>
                    <a:pt x="3105" y="1280"/>
                  </a:lnTo>
                  <a:lnTo>
                    <a:pt x="3141" y="1252"/>
                  </a:lnTo>
                  <a:lnTo>
                    <a:pt x="3171" y="1225"/>
                  </a:lnTo>
                  <a:lnTo>
                    <a:pt x="3183" y="1208"/>
                  </a:lnTo>
                  <a:lnTo>
                    <a:pt x="3193" y="1188"/>
                  </a:lnTo>
                  <a:lnTo>
                    <a:pt x="3200" y="1168"/>
                  </a:lnTo>
                  <a:lnTo>
                    <a:pt x="3205" y="1148"/>
                  </a:lnTo>
                  <a:lnTo>
                    <a:pt x="3211" y="1130"/>
                  </a:lnTo>
                  <a:lnTo>
                    <a:pt x="3218" y="1115"/>
                  </a:lnTo>
                  <a:lnTo>
                    <a:pt x="3229" y="1104"/>
                  </a:lnTo>
                  <a:lnTo>
                    <a:pt x="3244" y="1100"/>
                  </a:lnTo>
                  <a:lnTo>
                    <a:pt x="3258" y="1102"/>
                  </a:lnTo>
                  <a:lnTo>
                    <a:pt x="3266" y="1109"/>
                  </a:lnTo>
                  <a:lnTo>
                    <a:pt x="3273" y="1117"/>
                  </a:lnTo>
                  <a:lnTo>
                    <a:pt x="3279" y="1126"/>
                  </a:lnTo>
                  <a:lnTo>
                    <a:pt x="3286" y="1135"/>
                  </a:lnTo>
                  <a:lnTo>
                    <a:pt x="3295" y="1144"/>
                  </a:lnTo>
                  <a:lnTo>
                    <a:pt x="3312" y="1150"/>
                  </a:lnTo>
                  <a:lnTo>
                    <a:pt x="3334" y="1152"/>
                  </a:lnTo>
                  <a:lnTo>
                    <a:pt x="3363" y="1150"/>
                  </a:lnTo>
                  <a:lnTo>
                    <a:pt x="3387" y="1146"/>
                  </a:lnTo>
                  <a:lnTo>
                    <a:pt x="3405" y="1141"/>
                  </a:lnTo>
                  <a:lnTo>
                    <a:pt x="3423" y="1135"/>
                  </a:lnTo>
                  <a:lnTo>
                    <a:pt x="3443" y="1130"/>
                  </a:lnTo>
                  <a:lnTo>
                    <a:pt x="3464" y="1124"/>
                  </a:lnTo>
                  <a:lnTo>
                    <a:pt x="3487" y="1124"/>
                  </a:lnTo>
                  <a:lnTo>
                    <a:pt x="3513" y="1126"/>
                  </a:lnTo>
                  <a:lnTo>
                    <a:pt x="3537" y="1133"/>
                  </a:lnTo>
                  <a:lnTo>
                    <a:pt x="3559" y="1141"/>
                  </a:lnTo>
                  <a:lnTo>
                    <a:pt x="3581" y="1146"/>
                  </a:lnTo>
                  <a:lnTo>
                    <a:pt x="3601" y="1150"/>
                  </a:lnTo>
                  <a:lnTo>
                    <a:pt x="3619" y="1146"/>
                  </a:lnTo>
                  <a:lnTo>
                    <a:pt x="3639" y="1135"/>
                  </a:lnTo>
                  <a:lnTo>
                    <a:pt x="3650" y="1122"/>
                  </a:lnTo>
                  <a:lnTo>
                    <a:pt x="3654" y="1108"/>
                  </a:lnTo>
                  <a:lnTo>
                    <a:pt x="3654" y="1093"/>
                  </a:lnTo>
                  <a:lnTo>
                    <a:pt x="3652" y="1080"/>
                  </a:lnTo>
                  <a:lnTo>
                    <a:pt x="3649" y="1065"/>
                  </a:lnTo>
                  <a:lnTo>
                    <a:pt x="3645" y="1052"/>
                  </a:lnTo>
                  <a:lnTo>
                    <a:pt x="3645" y="1043"/>
                  </a:lnTo>
                  <a:lnTo>
                    <a:pt x="3649" y="1034"/>
                  </a:lnTo>
                  <a:lnTo>
                    <a:pt x="3658" y="1029"/>
                  </a:lnTo>
                  <a:lnTo>
                    <a:pt x="3674" y="1027"/>
                  </a:lnTo>
                  <a:lnTo>
                    <a:pt x="3696" y="1027"/>
                  </a:lnTo>
                  <a:lnTo>
                    <a:pt x="3716" y="1027"/>
                  </a:lnTo>
                  <a:lnTo>
                    <a:pt x="3735" y="1027"/>
                  </a:lnTo>
                  <a:lnTo>
                    <a:pt x="3749" y="1025"/>
                  </a:lnTo>
                  <a:lnTo>
                    <a:pt x="3760" y="1021"/>
                  </a:lnTo>
                  <a:lnTo>
                    <a:pt x="3766" y="1016"/>
                  </a:lnTo>
                  <a:lnTo>
                    <a:pt x="3766" y="1008"/>
                  </a:lnTo>
                  <a:lnTo>
                    <a:pt x="3760" y="996"/>
                  </a:lnTo>
                  <a:lnTo>
                    <a:pt x="3747" y="981"/>
                  </a:lnTo>
                  <a:lnTo>
                    <a:pt x="3735" y="968"/>
                  </a:lnTo>
                  <a:lnTo>
                    <a:pt x="3729" y="959"/>
                  </a:lnTo>
                  <a:lnTo>
                    <a:pt x="3729" y="953"/>
                  </a:lnTo>
                  <a:lnTo>
                    <a:pt x="3735" y="950"/>
                  </a:lnTo>
                  <a:lnTo>
                    <a:pt x="3744" y="948"/>
                  </a:lnTo>
                  <a:lnTo>
                    <a:pt x="3755" y="946"/>
                  </a:lnTo>
                  <a:lnTo>
                    <a:pt x="3769" y="944"/>
                  </a:lnTo>
                  <a:lnTo>
                    <a:pt x="3786" y="942"/>
                  </a:lnTo>
                  <a:lnTo>
                    <a:pt x="3804" y="937"/>
                  </a:lnTo>
                  <a:lnTo>
                    <a:pt x="3821" y="931"/>
                  </a:lnTo>
                  <a:lnTo>
                    <a:pt x="3841" y="917"/>
                  </a:lnTo>
                  <a:lnTo>
                    <a:pt x="3854" y="904"/>
                  </a:lnTo>
                  <a:lnTo>
                    <a:pt x="3859" y="891"/>
                  </a:lnTo>
                  <a:lnTo>
                    <a:pt x="3857" y="878"/>
                  </a:lnTo>
                  <a:lnTo>
                    <a:pt x="3846" y="871"/>
                  </a:lnTo>
                  <a:lnTo>
                    <a:pt x="3828" y="867"/>
                  </a:lnTo>
                  <a:lnTo>
                    <a:pt x="3804" y="869"/>
                  </a:lnTo>
                  <a:lnTo>
                    <a:pt x="3779" y="873"/>
                  </a:lnTo>
                  <a:lnTo>
                    <a:pt x="3755" y="880"/>
                  </a:lnTo>
                  <a:lnTo>
                    <a:pt x="3733" y="886"/>
                  </a:lnTo>
                  <a:lnTo>
                    <a:pt x="3713" y="889"/>
                  </a:lnTo>
                  <a:lnTo>
                    <a:pt x="3694" y="889"/>
                  </a:lnTo>
                  <a:lnTo>
                    <a:pt x="3678" y="884"/>
                  </a:lnTo>
                  <a:lnTo>
                    <a:pt x="3663" y="873"/>
                  </a:lnTo>
                  <a:lnTo>
                    <a:pt x="3650" y="851"/>
                  </a:lnTo>
                  <a:lnTo>
                    <a:pt x="3645" y="825"/>
                  </a:lnTo>
                  <a:lnTo>
                    <a:pt x="3649" y="799"/>
                  </a:lnTo>
                  <a:lnTo>
                    <a:pt x="3660" y="772"/>
                  </a:lnTo>
                  <a:lnTo>
                    <a:pt x="3674" y="746"/>
                  </a:lnTo>
                  <a:lnTo>
                    <a:pt x="3693" y="721"/>
                  </a:lnTo>
                  <a:lnTo>
                    <a:pt x="3715" y="697"/>
                  </a:lnTo>
                  <a:lnTo>
                    <a:pt x="3735" y="673"/>
                  </a:lnTo>
                  <a:lnTo>
                    <a:pt x="3753" y="653"/>
                  </a:lnTo>
                  <a:lnTo>
                    <a:pt x="3758" y="645"/>
                  </a:lnTo>
                  <a:lnTo>
                    <a:pt x="3762" y="638"/>
                  </a:lnTo>
                  <a:lnTo>
                    <a:pt x="3762" y="631"/>
                  </a:lnTo>
                  <a:lnTo>
                    <a:pt x="3762" y="623"/>
                  </a:lnTo>
                  <a:close/>
                  <a:moveTo>
                    <a:pt x="2273" y="568"/>
                  </a:moveTo>
                  <a:lnTo>
                    <a:pt x="2288" y="572"/>
                  </a:lnTo>
                  <a:lnTo>
                    <a:pt x="2313" y="583"/>
                  </a:lnTo>
                  <a:lnTo>
                    <a:pt x="2335" y="589"/>
                  </a:lnTo>
                  <a:lnTo>
                    <a:pt x="2354" y="592"/>
                  </a:lnTo>
                  <a:lnTo>
                    <a:pt x="2370" y="594"/>
                  </a:lnTo>
                  <a:lnTo>
                    <a:pt x="2389" y="596"/>
                  </a:lnTo>
                  <a:lnTo>
                    <a:pt x="2409" y="598"/>
                  </a:lnTo>
                  <a:lnTo>
                    <a:pt x="2410" y="596"/>
                  </a:lnTo>
                  <a:lnTo>
                    <a:pt x="2429" y="592"/>
                  </a:lnTo>
                  <a:lnTo>
                    <a:pt x="2445" y="592"/>
                  </a:lnTo>
                  <a:lnTo>
                    <a:pt x="2473" y="596"/>
                  </a:lnTo>
                  <a:lnTo>
                    <a:pt x="2493" y="607"/>
                  </a:lnTo>
                  <a:lnTo>
                    <a:pt x="2506" y="623"/>
                  </a:lnTo>
                  <a:lnTo>
                    <a:pt x="2509" y="644"/>
                  </a:lnTo>
                  <a:lnTo>
                    <a:pt x="2506" y="666"/>
                  </a:lnTo>
                  <a:lnTo>
                    <a:pt x="2493" y="688"/>
                  </a:lnTo>
                  <a:lnTo>
                    <a:pt x="2471" y="708"/>
                  </a:lnTo>
                  <a:lnTo>
                    <a:pt x="2445" y="728"/>
                  </a:lnTo>
                  <a:lnTo>
                    <a:pt x="2410" y="746"/>
                  </a:lnTo>
                  <a:lnTo>
                    <a:pt x="2383" y="754"/>
                  </a:lnTo>
                  <a:lnTo>
                    <a:pt x="2354" y="757"/>
                  </a:lnTo>
                  <a:lnTo>
                    <a:pt x="2324" y="755"/>
                  </a:lnTo>
                  <a:lnTo>
                    <a:pt x="2293" y="744"/>
                  </a:lnTo>
                  <a:lnTo>
                    <a:pt x="2262" y="726"/>
                  </a:lnTo>
                  <a:lnTo>
                    <a:pt x="2258" y="722"/>
                  </a:lnTo>
                  <a:lnTo>
                    <a:pt x="2235" y="697"/>
                  </a:lnTo>
                  <a:lnTo>
                    <a:pt x="2220" y="669"/>
                  </a:lnTo>
                  <a:lnTo>
                    <a:pt x="2216" y="642"/>
                  </a:lnTo>
                  <a:lnTo>
                    <a:pt x="2218" y="618"/>
                  </a:lnTo>
                  <a:lnTo>
                    <a:pt x="2227" y="596"/>
                  </a:lnTo>
                  <a:lnTo>
                    <a:pt x="2240" y="579"/>
                  </a:lnTo>
                  <a:lnTo>
                    <a:pt x="2258" y="570"/>
                  </a:lnTo>
                  <a:lnTo>
                    <a:pt x="2273" y="568"/>
                  </a:lnTo>
                  <a:close/>
                  <a:moveTo>
                    <a:pt x="846" y="475"/>
                  </a:moveTo>
                  <a:lnTo>
                    <a:pt x="852" y="482"/>
                  </a:lnTo>
                  <a:lnTo>
                    <a:pt x="859" y="488"/>
                  </a:lnTo>
                  <a:lnTo>
                    <a:pt x="868" y="493"/>
                  </a:lnTo>
                  <a:lnTo>
                    <a:pt x="874" y="495"/>
                  </a:lnTo>
                  <a:lnTo>
                    <a:pt x="899" y="508"/>
                  </a:lnTo>
                  <a:lnTo>
                    <a:pt x="921" y="526"/>
                  </a:lnTo>
                  <a:lnTo>
                    <a:pt x="938" y="548"/>
                  </a:lnTo>
                  <a:lnTo>
                    <a:pt x="947" y="565"/>
                  </a:lnTo>
                  <a:lnTo>
                    <a:pt x="953" y="583"/>
                  </a:lnTo>
                  <a:lnTo>
                    <a:pt x="953" y="598"/>
                  </a:lnTo>
                  <a:lnTo>
                    <a:pt x="947" y="609"/>
                  </a:lnTo>
                  <a:lnTo>
                    <a:pt x="938" y="614"/>
                  </a:lnTo>
                  <a:lnTo>
                    <a:pt x="931" y="616"/>
                  </a:lnTo>
                  <a:lnTo>
                    <a:pt x="921" y="616"/>
                  </a:lnTo>
                  <a:lnTo>
                    <a:pt x="912" y="612"/>
                  </a:lnTo>
                  <a:lnTo>
                    <a:pt x="888" y="609"/>
                  </a:lnTo>
                  <a:lnTo>
                    <a:pt x="868" y="605"/>
                  </a:lnTo>
                  <a:lnTo>
                    <a:pt x="848" y="607"/>
                  </a:lnTo>
                  <a:lnTo>
                    <a:pt x="834" y="612"/>
                  </a:lnTo>
                  <a:lnTo>
                    <a:pt x="824" y="620"/>
                  </a:lnTo>
                  <a:lnTo>
                    <a:pt x="821" y="631"/>
                  </a:lnTo>
                  <a:lnTo>
                    <a:pt x="824" y="645"/>
                  </a:lnTo>
                  <a:lnTo>
                    <a:pt x="834" y="662"/>
                  </a:lnTo>
                  <a:lnTo>
                    <a:pt x="854" y="682"/>
                  </a:lnTo>
                  <a:lnTo>
                    <a:pt x="861" y="691"/>
                  </a:lnTo>
                  <a:lnTo>
                    <a:pt x="868" y="699"/>
                  </a:lnTo>
                  <a:lnTo>
                    <a:pt x="881" y="722"/>
                  </a:lnTo>
                  <a:lnTo>
                    <a:pt x="887" y="746"/>
                  </a:lnTo>
                  <a:lnTo>
                    <a:pt x="887" y="766"/>
                  </a:lnTo>
                  <a:lnTo>
                    <a:pt x="879" y="785"/>
                  </a:lnTo>
                  <a:lnTo>
                    <a:pt x="868" y="799"/>
                  </a:lnTo>
                  <a:lnTo>
                    <a:pt x="854" y="807"/>
                  </a:lnTo>
                  <a:lnTo>
                    <a:pt x="837" y="810"/>
                  </a:lnTo>
                  <a:lnTo>
                    <a:pt x="821" y="807"/>
                  </a:lnTo>
                  <a:lnTo>
                    <a:pt x="797" y="798"/>
                  </a:lnTo>
                  <a:lnTo>
                    <a:pt x="766" y="785"/>
                  </a:lnTo>
                  <a:lnTo>
                    <a:pt x="724" y="770"/>
                  </a:lnTo>
                  <a:lnTo>
                    <a:pt x="678" y="755"/>
                  </a:lnTo>
                  <a:lnTo>
                    <a:pt x="628" y="739"/>
                  </a:lnTo>
                  <a:lnTo>
                    <a:pt x="577" y="726"/>
                  </a:lnTo>
                  <a:lnTo>
                    <a:pt x="650" y="649"/>
                  </a:lnTo>
                  <a:lnTo>
                    <a:pt x="678" y="622"/>
                  </a:lnTo>
                  <a:lnTo>
                    <a:pt x="727" y="576"/>
                  </a:lnTo>
                  <a:lnTo>
                    <a:pt x="766" y="543"/>
                  </a:lnTo>
                  <a:lnTo>
                    <a:pt x="766" y="543"/>
                  </a:lnTo>
                  <a:lnTo>
                    <a:pt x="846" y="475"/>
                  </a:lnTo>
                  <a:close/>
                  <a:moveTo>
                    <a:pt x="3513" y="416"/>
                  </a:moveTo>
                  <a:lnTo>
                    <a:pt x="3552" y="444"/>
                  </a:lnTo>
                  <a:lnTo>
                    <a:pt x="3632" y="508"/>
                  </a:lnTo>
                  <a:lnTo>
                    <a:pt x="3711" y="576"/>
                  </a:lnTo>
                  <a:lnTo>
                    <a:pt x="3747" y="611"/>
                  </a:lnTo>
                  <a:lnTo>
                    <a:pt x="3733" y="605"/>
                  </a:lnTo>
                  <a:lnTo>
                    <a:pt x="3716" y="605"/>
                  </a:lnTo>
                  <a:lnTo>
                    <a:pt x="3698" y="607"/>
                  </a:lnTo>
                  <a:lnTo>
                    <a:pt x="3683" y="614"/>
                  </a:lnTo>
                  <a:lnTo>
                    <a:pt x="3671" y="625"/>
                  </a:lnTo>
                  <a:lnTo>
                    <a:pt x="3661" y="642"/>
                  </a:lnTo>
                  <a:lnTo>
                    <a:pt x="3650" y="671"/>
                  </a:lnTo>
                  <a:lnTo>
                    <a:pt x="3632" y="695"/>
                  </a:lnTo>
                  <a:lnTo>
                    <a:pt x="3610" y="719"/>
                  </a:lnTo>
                  <a:lnTo>
                    <a:pt x="3588" y="741"/>
                  </a:lnTo>
                  <a:lnTo>
                    <a:pt x="3570" y="766"/>
                  </a:lnTo>
                  <a:lnTo>
                    <a:pt x="3555" y="794"/>
                  </a:lnTo>
                  <a:lnTo>
                    <a:pt x="3552" y="818"/>
                  </a:lnTo>
                  <a:lnTo>
                    <a:pt x="3553" y="840"/>
                  </a:lnTo>
                  <a:lnTo>
                    <a:pt x="3563" y="862"/>
                  </a:lnTo>
                  <a:lnTo>
                    <a:pt x="3572" y="884"/>
                  </a:lnTo>
                  <a:lnTo>
                    <a:pt x="3581" y="904"/>
                  </a:lnTo>
                  <a:lnTo>
                    <a:pt x="3584" y="922"/>
                  </a:lnTo>
                  <a:lnTo>
                    <a:pt x="3583" y="941"/>
                  </a:lnTo>
                  <a:lnTo>
                    <a:pt x="3572" y="959"/>
                  </a:lnTo>
                  <a:lnTo>
                    <a:pt x="3552" y="981"/>
                  </a:lnTo>
                  <a:lnTo>
                    <a:pt x="3533" y="1005"/>
                  </a:lnTo>
                  <a:lnTo>
                    <a:pt x="3519" y="1023"/>
                  </a:lnTo>
                  <a:lnTo>
                    <a:pt x="3504" y="1040"/>
                  </a:lnTo>
                  <a:lnTo>
                    <a:pt x="3487" y="1051"/>
                  </a:lnTo>
                  <a:lnTo>
                    <a:pt x="3469" y="1054"/>
                  </a:lnTo>
                  <a:lnTo>
                    <a:pt x="3460" y="1056"/>
                  </a:lnTo>
                  <a:lnTo>
                    <a:pt x="3451" y="1062"/>
                  </a:lnTo>
                  <a:lnTo>
                    <a:pt x="3443" y="1067"/>
                  </a:lnTo>
                  <a:lnTo>
                    <a:pt x="3431" y="1076"/>
                  </a:lnTo>
                  <a:lnTo>
                    <a:pt x="3420" y="1087"/>
                  </a:lnTo>
                  <a:lnTo>
                    <a:pt x="3410" y="1097"/>
                  </a:lnTo>
                  <a:lnTo>
                    <a:pt x="3401" y="1102"/>
                  </a:lnTo>
                  <a:lnTo>
                    <a:pt x="3392" y="1102"/>
                  </a:lnTo>
                  <a:lnTo>
                    <a:pt x="3385" y="1097"/>
                  </a:lnTo>
                  <a:lnTo>
                    <a:pt x="3379" y="1084"/>
                  </a:lnTo>
                  <a:lnTo>
                    <a:pt x="3372" y="1060"/>
                  </a:lnTo>
                  <a:lnTo>
                    <a:pt x="3361" y="1036"/>
                  </a:lnTo>
                  <a:lnTo>
                    <a:pt x="3350" y="1016"/>
                  </a:lnTo>
                  <a:lnTo>
                    <a:pt x="3335" y="999"/>
                  </a:lnTo>
                  <a:lnTo>
                    <a:pt x="3321" y="988"/>
                  </a:lnTo>
                  <a:lnTo>
                    <a:pt x="3306" y="986"/>
                  </a:lnTo>
                  <a:lnTo>
                    <a:pt x="3290" y="994"/>
                  </a:lnTo>
                  <a:lnTo>
                    <a:pt x="3279" y="1003"/>
                  </a:lnTo>
                  <a:lnTo>
                    <a:pt x="3269" y="1016"/>
                  </a:lnTo>
                  <a:lnTo>
                    <a:pt x="3262" y="1030"/>
                  </a:lnTo>
                  <a:lnTo>
                    <a:pt x="3257" y="1043"/>
                  </a:lnTo>
                  <a:lnTo>
                    <a:pt x="3251" y="1056"/>
                  </a:lnTo>
                  <a:lnTo>
                    <a:pt x="3244" y="1065"/>
                  </a:lnTo>
                  <a:lnTo>
                    <a:pt x="3238" y="1069"/>
                  </a:lnTo>
                  <a:lnTo>
                    <a:pt x="3229" y="1067"/>
                  </a:lnTo>
                  <a:lnTo>
                    <a:pt x="3218" y="1056"/>
                  </a:lnTo>
                  <a:lnTo>
                    <a:pt x="3204" y="1038"/>
                  </a:lnTo>
                  <a:lnTo>
                    <a:pt x="3185" y="1007"/>
                  </a:lnTo>
                  <a:lnTo>
                    <a:pt x="3169" y="974"/>
                  </a:lnTo>
                  <a:lnTo>
                    <a:pt x="3154" y="939"/>
                  </a:lnTo>
                  <a:lnTo>
                    <a:pt x="3145" y="904"/>
                  </a:lnTo>
                  <a:lnTo>
                    <a:pt x="3139" y="871"/>
                  </a:lnTo>
                  <a:lnTo>
                    <a:pt x="3139" y="838"/>
                  </a:lnTo>
                  <a:lnTo>
                    <a:pt x="3149" y="809"/>
                  </a:lnTo>
                  <a:lnTo>
                    <a:pt x="3165" y="783"/>
                  </a:lnTo>
                  <a:lnTo>
                    <a:pt x="3202" y="748"/>
                  </a:lnTo>
                  <a:lnTo>
                    <a:pt x="3240" y="713"/>
                  </a:lnTo>
                  <a:lnTo>
                    <a:pt x="3279" y="678"/>
                  </a:lnTo>
                  <a:lnTo>
                    <a:pt x="3315" y="644"/>
                  </a:lnTo>
                  <a:lnTo>
                    <a:pt x="3346" y="609"/>
                  </a:lnTo>
                  <a:lnTo>
                    <a:pt x="3365" y="583"/>
                  </a:lnTo>
                  <a:lnTo>
                    <a:pt x="3387" y="552"/>
                  </a:lnTo>
                  <a:lnTo>
                    <a:pt x="3414" y="519"/>
                  </a:lnTo>
                  <a:lnTo>
                    <a:pt x="3443" y="484"/>
                  </a:lnTo>
                  <a:lnTo>
                    <a:pt x="3478" y="447"/>
                  </a:lnTo>
                  <a:lnTo>
                    <a:pt x="3513" y="416"/>
                  </a:lnTo>
                  <a:close/>
                  <a:moveTo>
                    <a:pt x="2707" y="271"/>
                  </a:moveTo>
                  <a:lnTo>
                    <a:pt x="2716" y="271"/>
                  </a:lnTo>
                  <a:lnTo>
                    <a:pt x="2731" y="273"/>
                  </a:lnTo>
                  <a:lnTo>
                    <a:pt x="2742" y="280"/>
                  </a:lnTo>
                  <a:lnTo>
                    <a:pt x="2753" y="291"/>
                  </a:lnTo>
                  <a:lnTo>
                    <a:pt x="2760" y="302"/>
                  </a:lnTo>
                  <a:lnTo>
                    <a:pt x="2766" y="315"/>
                  </a:lnTo>
                  <a:lnTo>
                    <a:pt x="2766" y="328"/>
                  </a:lnTo>
                  <a:lnTo>
                    <a:pt x="2760" y="339"/>
                  </a:lnTo>
                  <a:lnTo>
                    <a:pt x="2751" y="345"/>
                  </a:lnTo>
                  <a:lnTo>
                    <a:pt x="2735" y="348"/>
                  </a:lnTo>
                  <a:lnTo>
                    <a:pt x="2716" y="345"/>
                  </a:lnTo>
                  <a:lnTo>
                    <a:pt x="2702" y="337"/>
                  </a:lnTo>
                  <a:lnTo>
                    <a:pt x="2689" y="328"/>
                  </a:lnTo>
                  <a:lnTo>
                    <a:pt x="2680" y="317"/>
                  </a:lnTo>
                  <a:lnTo>
                    <a:pt x="2674" y="304"/>
                  </a:lnTo>
                  <a:lnTo>
                    <a:pt x="2672" y="293"/>
                  </a:lnTo>
                  <a:lnTo>
                    <a:pt x="2676" y="282"/>
                  </a:lnTo>
                  <a:lnTo>
                    <a:pt x="2685" y="275"/>
                  </a:lnTo>
                  <a:lnTo>
                    <a:pt x="2702" y="271"/>
                  </a:lnTo>
                  <a:lnTo>
                    <a:pt x="2707" y="271"/>
                  </a:lnTo>
                  <a:close/>
                  <a:moveTo>
                    <a:pt x="2218" y="0"/>
                  </a:moveTo>
                  <a:lnTo>
                    <a:pt x="2258" y="0"/>
                  </a:lnTo>
                  <a:lnTo>
                    <a:pt x="2258" y="0"/>
                  </a:lnTo>
                  <a:lnTo>
                    <a:pt x="2301" y="0"/>
                  </a:lnTo>
                  <a:lnTo>
                    <a:pt x="2299" y="16"/>
                  </a:lnTo>
                  <a:lnTo>
                    <a:pt x="2293" y="33"/>
                  </a:lnTo>
                  <a:lnTo>
                    <a:pt x="2279" y="49"/>
                  </a:lnTo>
                  <a:lnTo>
                    <a:pt x="2268" y="62"/>
                  </a:lnTo>
                  <a:lnTo>
                    <a:pt x="2258" y="75"/>
                  </a:lnTo>
                  <a:lnTo>
                    <a:pt x="2247" y="90"/>
                  </a:lnTo>
                  <a:lnTo>
                    <a:pt x="2238" y="104"/>
                  </a:lnTo>
                  <a:lnTo>
                    <a:pt x="2229" y="117"/>
                  </a:lnTo>
                  <a:lnTo>
                    <a:pt x="2218" y="126"/>
                  </a:lnTo>
                  <a:lnTo>
                    <a:pt x="2207" y="134"/>
                  </a:lnTo>
                  <a:lnTo>
                    <a:pt x="2191" y="139"/>
                  </a:lnTo>
                  <a:lnTo>
                    <a:pt x="2167" y="141"/>
                  </a:lnTo>
                  <a:lnTo>
                    <a:pt x="2154" y="143"/>
                  </a:lnTo>
                  <a:lnTo>
                    <a:pt x="2147" y="148"/>
                  </a:lnTo>
                  <a:lnTo>
                    <a:pt x="2147" y="156"/>
                  </a:lnTo>
                  <a:lnTo>
                    <a:pt x="2152" y="167"/>
                  </a:lnTo>
                  <a:lnTo>
                    <a:pt x="2160" y="180"/>
                  </a:lnTo>
                  <a:lnTo>
                    <a:pt x="2169" y="192"/>
                  </a:lnTo>
                  <a:lnTo>
                    <a:pt x="2178" y="207"/>
                  </a:lnTo>
                  <a:lnTo>
                    <a:pt x="2187" y="220"/>
                  </a:lnTo>
                  <a:lnTo>
                    <a:pt x="2194" y="233"/>
                  </a:lnTo>
                  <a:lnTo>
                    <a:pt x="2198" y="242"/>
                  </a:lnTo>
                  <a:lnTo>
                    <a:pt x="2196" y="251"/>
                  </a:lnTo>
                  <a:lnTo>
                    <a:pt x="2187" y="257"/>
                  </a:lnTo>
                  <a:lnTo>
                    <a:pt x="2172" y="258"/>
                  </a:lnTo>
                  <a:lnTo>
                    <a:pt x="2149" y="262"/>
                  </a:lnTo>
                  <a:lnTo>
                    <a:pt x="2128" y="269"/>
                  </a:lnTo>
                  <a:lnTo>
                    <a:pt x="2112" y="282"/>
                  </a:lnTo>
                  <a:lnTo>
                    <a:pt x="2101" y="295"/>
                  </a:lnTo>
                  <a:lnTo>
                    <a:pt x="2094" y="312"/>
                  </a:lnTo>
                  <a:lnTo>
                    <a:pt x="2094" y="326"/>
                  </a:lnTo>
                  <a:lnTo>
                    <a:pt x="2097" y="339"/>
                  </a:lnTo>
                  <a:lnTo>
                    <a:pt x="2106" y="350"/>
                  </a:lnTo>
                  <a:lnTo>
                    <a:pt x="2123" y="356"/>
                  </a:lnTo>
                  <a:lnTo>
                    <a:pt x="2145" y="356"/>
                  </a:lnTo>
                  <a:lnTo>
                    <a:pt x="2172" y="354"/>
                  </a:lnTo>
                  <a:lnTo>
                    <a:pt x="2193" y="356"/>
                  </a:lnTo>
                  <a:lnTo>
                    <a:pt x="2204" y="361"/>
                  </a:lnTo>
                  <a:lnTo>
                    <a:pt x="2207" y="370"/>
                  </a:lnTo>
                  <a:lnTo>
                    <a:pt x="2200" y="381"/>
                  </a:lnTo>
                  <a:lnTo>
                    <a:pt x="2187" y="394"/>
                  </a:lnTo>
                  <a:lnTo>
                    <a:pt x="2165" y="409"/>
                  </a:lnTo>
                  <a:lnTo>
                    <a:pt x="2134" y="425"/>
                  </a:lnTo>
                  <a:lnTo>
                    <a:pt x="2103" y="438"/>
                  </a:lnTo>
                  <a:lnTo>
                    <a:pt x="2068" y="449"/>
                  </a:lnTo>
                  <a:lnTo>
                    <a:pt x="2031" y="458"/>
                  </a:lnTo>
                  <a:lnTo>
                    <a:pt x="1995" y="467"/>
                  </a:lnTo>
                  <a:lnTo>
                    <a:pt x="1960" y="477"/>
                  </a:lnTo>
                  <a:lnTo>
                    <a:pt x="1927" y="488"/>
                  </a:lnTo>
                  <a:lnTo>
                    <a:pt x="1898" y="500"/>
                  </a:lnTo>
                  <a:lnTo>
                    <a:pt x="1874" y="517"/>
                  </a:lnTo>
                  <a:lnTo>
                    <a:pt x="1856" y="537"/>
                  </a:lnTo>
                  <a:lnTo>
                    <a:pt x="1839" y="557"/>
                  </a:lnTo>
                  <a:lnTo>
                    <a:pt x="1819" y="572"/>
                  </a:lnTo>
                  <a:lnTo>
                    <a:pt x="1793" y="585"/>
                  </a:lnTo>
                  <a:lnTo>
                    <a:pt x="1766" y="594"/>
                  </a:lnTo>
                  <a:lnTo>
                    <a:pt x="1738" y="605"/>
                  </a:lnTo>
                  <a:lnTo>
                    <a:pt x="1711" y="614"/>
                  </a:lnTo>
                  <a:lnTo>
                    <a:pt x="1687" y="623"/>
                  </a:lnTo>
                  <a:lnTo>
                    <a:pt x="1669" y="636"/>
                  </a:lnTo>
                  <a:lnTo>
                    <a:pt x="1656" y="649"/>
                  </a:lnTo>
                  <a:lnTo>
                    <a:pt x="1652" y="667"/>
                  </a:lnTo>
                  <a:lnTo>
                    <a:pt x="1652" y="684"/>
                  </a:lnTo>
                  <a:lnTo>
                    <a:pt x="1650" y="708"/>
                  </a:lnTo>
                  <a:lnTo>
                    <a:pt x="1647" y="733"/>
                  </a:lnTo>
                  <a:lnTo>
                    <a:pt x="1643" y="763"/>
                  </a:lnTo>
                  <a:lnTo>
                    <a:pt x="1636" y="792"/>
                  </a:lnTo>
                  <a:lnTo>
                    <a:pt x="1628" y="821"/>
                  </a:lnTo>
                  <a:lnTo>
                    <a:pt x="1617" y="851"/>
                  </a:lnTo>
                  <a:lnTo>
                    <a:pt x="1605" y="876"/>
                  </a:lnTo>
                  <a:lnTo>
                    <a:pt x="1590" y="898"/>
                  </a:lnTo>
                  <a:lnTo>
                    <a:pt x="1573" y="915"/>
                  </a:lnTo>
                  <a:lnTo>
                    <a:pt x="1551" y="926"/>
                  </a:lnTo>
                  <a:lnTo>
                    <a:pt x="1528" y="930"/>
                  </a:lnTo>
                  <a:lnTo>
                    <a:pt x="1502" y="924"/>
                  </a:lnTo>
                  <a:lnTo>
                    <a:pt x="1464" y="908"/>
                  </a:lnTo>
                  <a:lnTo>
                    <a:pt x="1432" y="886"/>
                  </a:lnTo>
                  <a:lnTo>
                    <a:pt x="1407" y="860"/>
                  </a:lnTo>
                  <a:lnTo>
                    <a:pt x="1385" y="831"/>
                  </a:lnTo>
                  <a:lnTo>
                    <a:pt x="1365" y="801"/>
                  </a:lnTo>
                  <a:lnTo>
                    <a:pt x="1348" y="770"/>
                  </a:lnTo>
                  <a:lnTo>
                    <a:pt x="1334" y="739"/>
                  </a:lnTo>
                  <a:lnTo>
                    <a:pt x="1319" y="710"/>
                  </a:lnTo>
                  <a:lnTo>
                    <a:pt x="1304" y="682"/>
                  </a:lnTo>
                  <a:lnTo>
                    <a:pt x="1291" y="658"/>
                  </a:lnTo>
                  <a:lnTo>
                    <a:pt x="1286" y="633"/>
                  </a:lnTo>
                  <a:lnTo>
                    <a:pt x="1288" y="609"/>
                  </a:lnTo>
                  <a:lnTo>
                    <a:pt x="1290" y="585"/>
                  </a:lnTo>
                  <a:lnTo>
                    <a:pt x="1295" y="563"/>
                  </a:lnTo>
                  <a:lnTo>
                    <a:pt x="1299" y="543"/>
                  </a:lnTo>
                  <a:lnTo>
                    <a:pt x="1299" y="526"/>
                  </a:lnTo>
                  <a:lnTo>
                    <a:pt x="1293" y="511"/>
                  </a:lnTo>
                  <a:lnTo>
                    <a:pt x="1282" y="500"/>
                  </a:lnTo>
                  <a:lnTo>
                    <a:pt x="1275" y="493"/>
                  </a:lnTo>
                  <a:lnTo>
                    <a:pt x="1273" y="482"/>
                  </a:lnTo>
                  <a:lnTo>
                    <a:pt x="1277" y="469"/>
                  </a:lnTo>
                  <a:lnTo>
                    <a:pt x="1284" y="456"/>
                  </a:lnTo>
                  <a:lnTo>
                    <a:pt x="1293" y="442"/>
                  </a:lnTo>
                  <a:lnTo>
                    <a:pt x="1304" y="427"/>
                  </a:lnTo>
                  <a:lnTo>
                    <a:pt x="1317" y="412"/>
                  </a:lnTo>
                  <a:lnTo>
                    <a:pt x="1328" y="401"/>
                  </a:lnTo>
                  <a:lnTo>
                    <a:pt x="1337" y="390"/>
                  </a:lnTo>
                  <a:lnTo>
                    <a:pt x="1345" y="385"/>
                  </a:lnTo>
                  <a:lnTo>
                    <a:pt x="1346" y="381"/>
                  </a:lnTo>
                  <a:lnTo>
                    <a:pt x="1345" y="381"/>
                  </a:lnTo>
                  <a:lnTo>
                    <a:pt x="1335" y="387"/>
                  </a:lnTo>
                  <a:lnTo>
                    <a:pt x="1319" y="396"/>
                  </a:lnTo>
                  <a:lnTo>
                    <a:pt x="1301" y="400"/>
                  </a:lnTo>
                  <a:lnTo>
                    <a:pt x="1284" y="400"/>
                  </a:lnTo>
                  <a:lnTo>
                    <a:pt x="1268" y="398"/>
                  </a:lnTo>
                  <a:lnTo>
                    <a:pt x="1255" y="392"/>
                  </a:lnTo>
                  <a:lnTo>
                    <a:pt x="1246" y="385"/>
                  </a:lnTo>
                  <a:lnTo>
                    <a:pt x="1242" y="376"/>
                  </a:lnTo>
                  <a:lnTo>
                    <a:pt x="1244" y="368"/>
                  </a:lnTo>
                  <a:lnTo>
                    <a:pt x="1253" y="361"/>
                  </a:lnTo>
                  <a:lnTo>
                    <a:pt x="1271" y="356"/>
                  </a:lnTo>
                  <a:lnTo>
                    <a:pt x="1293" y="348"/>
                  </a:lnTo>
                  <a:lnTo>
                    <a:pt x="1308" y="337"/>
                  </a:lnTo>
                  <a:lnTo>
                    <a:pt x="1315" y="324"/>
                  </a:lnTo>
                  <a:lnTo>
                    <a:pt x="1317" y="312"/>
                  </a:lnTo>
                  <a:lnTo>
                    <a:pt x="1315" y="299"/>
                  </a:lnTo>
                  <a:lnTo>
                    <a:pt x="1308" y="290"/>
                  </a:lnTo>
                  <a:lnTo>
                    <a:pt x="1297" y="282"/>
                  </a:lnTo>
                  <a:lnTo>
                    <a:pt x="1282" y="279"/>
                  </a:lnTo>
                  <a:lnTo>
                    <a:pt x="1266" y="280"/>
                  </a:lnTo>
                  <a:lnTo>
                    <a:pt x="1246" y="284"/>
                  </a:lnTo>
                  <a:lnTo>
                    <a:pt x="1227" y="284"/>
                  </a:lnTo>
                  <a:lnTo>
                    <a:pt x="1211" y="280"/>
                  </a:lnTo>
                  <a:lnTo>
                    <a:pt x="1198" y="273"/>
                  </a:lnTo>
                  <a:lnTo>
                    <a:pt x="1193" y="264"/>
                  </a:lnTo>
                  <a:lnTo>
                    <a:pt x="1193" y="251"/>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816" name="Group 202"/>
            <p:cNvGrpSpPr/>
            <p:nvPr/>
          </p:nvGrpSpPr>
          <p:grpSpPr>
            <a:xfrm>
              <a:off x="2004840" y="762120"/>
              <a:ext cx="540000" cy="952920"/>
              <a:chOff x="2004840" y="762120"/>
              <a:chExt cx="540000" cy="952920"/>
            </a:xfrm>
          </p:grpSpPr>
          <p:sp>
            <p:nvSpPr>
              <p:cNvPr id="817" name="Freeform 206"/>
              <p:cNvSpPr/>
              <p:nvPr/>
            </p:nvSpPr>
            <p:spPr>
              <a:xfrm>
                <a:off x="2004840" y="762120"/>
                <a:ext cx="540000" cy="952920"/>
              </a:xfrm>
              <a:custGeom>
                <a:avLst/>
                <a:gdLst/>
                <a:ahLst/>
                <a:rect l="l" t="t" r="r" b="b"/>
                <a:pathLst>
                  <a:path w="1783" h="3148">
                    <a:moveTo>
                      <a:pt x="891" y="0"/>
                    </a:moveTo>
                    <a:lnTo>
                      <a:pt x="989" y="5"/>
                    </a:lnTo>
                    <a:lnTo>
                      <a:pt x="1082" y="20"/>
                    </a:lnTo>
                    <a:lnTo>
                      <a:pt x="1174" y="45"/>
                    </a:lnTo>
                    <a:lnTo>
                      <a:pt x="1260" y="78"/>
                    </a:lnTo>
                    <a:lnTo>
                      <a:pt x="1342" y="121"/>
                    </a:lnTo>
                    <a:lnTo>
                      <a:pt x="1417" y="172"/>
                    </a:lnTo>
                    <a:lnTo>
                      <a:pt x="1489" y="229"/>
                    </a:lnTo>
                    <a:lnTo>
                      <a:pt x="1553" y="293"/>
                    </a:lnTo>
                    <a:lnTo>
                      <a:pt x="1611" y="364"/>
                    </a:lnTo>
                    <a:lnTo>
                      <a:pt x="1661" y="441"/>
                    </a:lnTo>
                    <a:lnTo>
                      <a:pt x="1705" y="524"/>
                    </a:lnTo>
                    <a:lnTo>
                      <a:pt x="1738" y="610"/>
                    </a:lnTo>
                    <a:lnTo>
                      <a:pt x="1763" y="700"/>
                    </a:lnTo>
                    <a:lnTo>
                      <a:pt x="1778" y="795"/>
                    </a:lnTo>
                    <a:lnTo>
                      <a:pt x="1783" y="893"/>
                    </a:lnTo>
                    <a:lnTo>
                      <a:pt x="1782" y="948"/>
                    </a:lnTo>
                    <a:lnTo>
                      <a:pt x="1774" y="1006"/>
                    </a:lnTo>
                    <a:lnTo>
                      <a:pt x="1765" y="1067"/>
                    </a:lnTo>
                    <a:lnTo>
                      <a:pt x="1752" y="1126"/>
                    </a:lnTo>
                    <a:lnTo>
                      <a:pt x="1736" y="1179"/>
                    </a:lnTo>
                    <a:lnTo>
                      <a:pt x="1719" y="1226"/>
                    </a:lnTo>
                    <a:lnTo>
                      <a:pt x="891" y="3148"/>
                    </a:lnTo>
                    <a:lnTo>
                      <a:pt x="67" y="1234"/>
                    </a:lnTo>
                    <a:lnTo>
                      <a:pt x="47" y="1184"/>
                    </a:lnTo>
                    <a:lnTo>
                      <a:pt x="31" y="1127"/>
                    </a:lnTo>
                    <a:lnTo>
                      <a:pt x="18" y="1069"/>
                    </a:lnTo>
                    <a:lnTo>
                      <a:pt x="7" y="1006"/>
                    </a:lnTo>
                    <a:lnTo>
                      <a:pt x="1" y="948"/>
                    </a:lnTo>
                    <a:lnTo>
                      <a:pt x="0" y="893"/>
                    </a:lnTo>
                    <a:lnTo>
                      <a:pt x="5" y="795"/>
                    </a:lnTo>
                    <a:lnTo>
                      <a:pt x="20" y="700"/>
                    </a:lnTo>
                    <a:lnTo>
                      <a:pt x="45" y="610"/>
                    </a:lnTo>
                    <a:lnTo>
                      <a:pt x="78" y="524"/>
                    </a:lnTo>
                    <a:lnTo>
                      <a:pt x="120" y="441"/>
                    </a:lnTo>
                    <a:lnTo>
                      <a:pt x="172" y="364"/>
                    </a:lnTo>
                    <a:lnTo>
                      <a:pt x="228" y="293"/>
                    </a:lnTo>
                    <a:lnTo>
                      <a:pt x="293" y="229"/>
                    </a:lnTo>
                    <a:lnTo>
                      <a:pt x="364" y="172"/>
                    </a:lnTo>
                    <a:lnTo>
                      <a:pt x="441" y="121"/>
                    </a:lnTo>
                    <a:lnTo>
                      <a:pt x="523" y="78"/>
                    </a:lnTo>
                    <a:lnTo>
                      <a:pt x="609" y="45"/>
                    </a:lnTo>
                    <a:lnTo>
                      <a:pt x="699" y="20"/>
                    </a:lnTo>
                    <a:lnTo>
                      <a:pt x="794" y="5"/>
                    </a:lnTo>
                    <a:lnTo>
                      <a:pt x="891"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8" name="Freeform 207"/>
              <p:cNvSpPr/>
              <p:nvPr/>
            </p:nvSpPr>
            <p:spPr>
              <a:xfrm>
                <a:off x="2052360" y="809640"/>
                <a:ext cx="444960" cy="444600"/>
              </a:xfrm>
              <a:custGeom>
                <a:avLst/>
                <a:gdLst/>
                <a:ahLst/>
                <a:rect l="l" t="t" r="r" b="b"/>
                <a:pathLst>
                  <a:path w="1465" h="1467">
                    <a:moveTo>
                      <a:pt x="732" y="0"/>
                    </a:moveTo>
                    <a:lnTo>
                      <a:pt x="824" y="6"/>
                    </a:lnTo>
                    <a:lnTo>
                      <a:pt x="912" y="22"/>
                    </a:lnTo>
                    <a:lnTo>
                      <a:pt x="996" y="50"/>
                    </a:lnTo>
                    <a:lnTo>
                      <a:pt x="1075" y="86"/>
                    </a:lnTo>
                    <a:lnTo>
                      <a:pt x="1150" y="132"/>
                    </a:lnTo>
                    <a:lnTo>
                      <a:pt x="1218" y="185"/>
                    </a:lnTo>
                    <a:lnTo>
                      <a:pt x="1278" y="248"/>
                    </a:lnTo>
                    <a:lnTo>
                      <a:pt x="1333" y="315"/>
                    </a:lnTo>
                    <a:lnTo>
                      <a:pt x="1379" y="389"/>
                    </a:lnTo>
                    <a:lnTo>
                      <a:pt x="1416" y="470"/>
                    </a:lnTo>
                    <a:lnTo>
                      <a:pt x="1441" y="554"/>
                    </a:lnTo>
                    <a:lnTo>
                      <a:pt x="1458" y="642"/>
                    </a:lnTo>
                    <a:lnTo>
                      <a:pt x="1465" y="734"/>
                    </a:lnTo>
                    <a:lnTo>
                      <a:pt x="1458" y="825"/>
                    </a:lnTo>
                    <a:lnTo>
                      <a:pt x="1441" y="913"/>
                    </a:lnTo>
                    <a:lnTo>
                      <a:pt x="1416" y="998"/>
                    </a:lnTo>
                    <a:lnTo>
                      <a:pt x="1379" y="1078"/>
                    </a:lnTo>
                    <a:lnTo>
                      <a:pt x="1333" y="1152"/>
                    </a:lnTo>
                    <a:lnTo>
                      <a:pt x="1278" y="1220"/>
                    </a:lnTo>
                    <a:lnTo>
                      <a:pt x="1218" y="1282"/>
                    </a:lnTo>
                    <a:lnTo>
                      <a:pt x="1150" y="1335"/>
                    </a:lnTo>
                    <a:lnTo>
                      <a:pt x="1075" y="1381"/>
                    </a:lnTo>
                    <a:lnTo>
                      <a:pt x="996" y="1418"/>
                    </a:lnTo>
                    <a:lnTo>
                      <a:pt x="912" y="1443"/>
                    </a:lnTo>
                    <a:lnTo>
                      <a:pt x="824" y="1462"/>
                    </a:lnTo>
                    <a:lnTo>
                      <a:pt x="732" y="1467"/>
                    </a:lnTo>
                    <a:lnTo>
                      <a:pt x="641" y="1462"/>
                    </a:lnTo>
                    <a:lnTo>
                      <a:pt x="553" y="1443"/>
                    </a:lnTo>
                    <a:lnTo>
                      <a:pt x="469" y="1418"/>
                    </a:lnTo>
                    <a:lnTo>
                      <a:pt x="388" y="1381"/>
                    </a:lnTo>
                    <a:lnTo>
                      <a:pt x="315" y="1335"/>
                    </a:lnTo>
                    <a:lnTo>
                      <a:pt x="245" y="1282"/>
                    </a:lnTo>
                    <a:lnTo>
                      <a:pt x="185" y="1220"/>
                    </a:lnTo>
                    <a:lnTo>
                      <a:pt x="132" y="1152"/>
                    </a:lnTo>
                    <a:lnTo>
                      <a:pt x="86" y="1078"/>
                    </a:lnTo>
                    <a:lnTo>
                      <a:pt x="49" y="998"/>
                    </a:lnTo>
                    <a:lnTo>
                      <a:pt x="22" y="913"/>
                    </a:lnTo>
                    <a:lnTo>
                      <a:pt x="5" y="825"/>
                    </a:lnTo>
                    <a:lnTo>
                      <a:pt x="0" y="734"/>
                    </a:lnTo>
                    <a:lnTo>
                      <a:pt x="5" y="642"/>
                    </a:lnTo>
                    <a:lnTo>
                      <a:pt x="22" y="554"/>
                    </a:lnTo>
                    <a:lnTo>
                      <a:pt x="49" y="470"/>
                    </a:lnTo>
                    <a:lnTo>
                      <a:pt x="86" y="389"/>
                    </a:lnTo>
                    <a:lnTo>
                      <a:pt x="132" y="315"/>
                    </a:lnTo>
                    <a:lnTo>
                      <a:pt x="185" y="248"/>
                    </a:lnTo>
                    <a:lnTo>
                      <a:pt x="245" y="185"/>
                    </a:lnTo>
                    <a:lnTo>
                      <a:pt x="315" y="132"/>
                    </a:lnTo>
                    <a:lnTo>
                      <a:pt x="388" y="86"/>
                    </a:lnTo>
                    <a:lnTo>
                      <a:pt x="469" y="50"/>
                    </a:lnTo>
                    <a:lnTo>
                      <a:pt x="553" y="22"/>
                    </a:lnTo>
                    <a:lnTo>
                      <a:pt x="641" y="6"/>
                    </a:lnTo>
                    <a:lnTo>
                      <a:pt x="732"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19" name="Group 203"/>
            <p:cNvGrpSpPr/>
            <p:nvPr/>
          </p:nvGrpSpPr>
          <p:grpSpPr>
            <a:xfrm>
              <a:off x="1530000" y="1425600"/>
              <a:ext cx="314280" cy="554400"/>
              <a:chOff x="1530000" y="1425600"/>
              <a:chExt cx="314280" cy="554400"/>
            </a:xfrm>
          </p:grpSpPr>
          <p:sp>
            <p:nvSpPr>
              <p:cNvPr id="820" name="Freeform 204"/>
              <p:cNvSpPr/>
              <p:nvPr/>
            </p:nvSpPr>
            <p:spPr>
              <a:xfrm>
                <a:off x="1530000" y="1425600"/>
                <a:ext cx="314280" cy="554400"/>
              </a:xfrm>
              <a:custGeom>
                <a:avLst/>
                <a:gdLst/>
                <a:ahLst/>
                <a:rect l="l" t="t" r="r" b="b"/>
                <a:pathLst>
                  <a:path w="1036" h="1832">
                    <a:moveTo>
                      <a:pt x="518" y="0"/>
                    </a:moveTo>
                    <a:lnTo>
                      <a:pt x="595" y="7"/>
                    </a:lnTo>
                    <a:lnTo>
                      <a:pt x="668" y="22"/>
                    </a:lnTo>
                    <a:lnTo>
                      <a:pt x="738" y="50"/>
                    </a:lnTo>
                    <a:lnTo>
                      <a:pt x="800" y="84"/>
                    </a:lnTo>
                    <a:lnTo>
                      <a:pt x="859" y="128"/>
                    </a:lnTo>
                    <a:lnTo>
                      <a:pt x="910" y="180"/>
                    </a:lnTo>
                    <a:lnTo>
                      <a:pt x="954" y="237"/>
                    </a:lnTo>
                    <a:lnTo>
                      <a:pt x="989" y="301"/>
                    </a:lnTo>
                    <a:lnTo>
                      <a:pt x="1014" y="371"/>
                    </a:lnTo>
                    <a:lnTo>
                      <a:pt x="1031" y="444"/>
                    </a:lnTo>
                    <a:lnTo>
                      <a:pt x="1036" y="521"/>
                    </a:lnTo>
                    <a:lnTo>
                      <a:pt x="1035" y="559"/>
                    </a:lnTo>
                    <a:lnTo>
                      <a:pt x="1029" y="600"/>
                    </a:lnTo>
                    <a:lnTo>
                      <a:pt x="1022" y="642"/>
                    </a:lnTo>
                    <a:lnTo>
                      <a:pt x="1013" y="680"/>
                    </a:lnTo>
                    <a:lnTo>
                      <a:pt x="1000" y="713"/>
                    </a:lnTo>
                    <a:lnTo>
                      <a:pt x="518" y="1832"/>
                    </a:lnTo>
                    <a:lnTo>
                      <a:pt x="40" y="719"/>
                    </a:lnTo>
                    <a:lnTo>
                      <a:pt x="27" y="684"/>
                    </a:lnTo>
                    <a:lnTo>
                      <a:pt x="16" y="644"/>
                    </a:lnTo>
                    <a:lnTo>
                      <a:pt x="7" y="602"/>
                    </a:lnTo>
                    <a:lnTo>
                      <a:pt x="2" y="559"/>
                    </a:lnTo>
                    <a:lnTo>
                      <a:pt x="0" y="521"/>
                    </a:lnTo>
                    <a:lnTo>
                      <a:pt x="5" y="444"/>
                    </a:lnTo>
                    <a:lnTo>
                      <a:pt x="22" y="371"/>
                    </a:lnTo>
                    <a:lnTo>
                      <a:pt x="49" y="301"/>
                    </a:lnTo>
                    <a:lnTo>
                      <a:pt x="84" y="237"/>
                    </a:lnTo>
                    <a:lnTo>
                      <a:pt x="128" y="180"/>
                    </a:lnTo>
                    <a:lnTo>
                      <a:pt x="179" y="128"/>
                    </a:lnTo>
                    <a:lnTo>
                      <a:pt x="236" y="84"/>
                    </a:lnTo>
                    <a:lnTo>
                      <a:pt x="300" y="50"/>
                    </a:lnTo>
                    <a:lnTo>
                      <a:pt x="370" y="22"/>
                    </a:lnTo>
                    <a:lnTo>
                      <a:pt x="441" y="7"/>
                    </a:lnTo>
                    <a:lnTo>
                      <a:pt x="518"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1" name="Freeform 12"/>
              <p:cNvSpPr/>
              <p:nvPr/>
            </p:nvSpPr>
            <p:spPr>
              <a:xfrm>
                <a:off x="1558440" y="1454040"/>
                <a:ext cx="257400" cy="257400"/>
              </a:xfrm>
              <a:custGeom>
                <a:avLst/>
                <a:gdLst/>
                <a:ahLst/>
                <a:rect l="l" t="t" r="r" b="b"/>
                <a:pathLst>
                  <a:path w="852" h="852">
                    <a:moveTo>
                      <a:pt x="425" y="0"/>
                    </a:moveTo>
                    <a:lnTo>
                      <a:pt x="495" y="5"/>
                    </a:lnTo>
                    <a:lnTo>
                      <a:pt x="561" y="22"/>
                    </a:lnTo>
                    <a:lnTo>
                      <a:pt x="621" y="47"/>
                    </a:lnTo>
                    <a:lnTo>
                      <a:pt x="676" y="82"/>
                    </a:lnTo>
                    <a:lnTo>
                      <a:pt x="725" y="124"/>
                    </a:lnTo>
                    <a:lnTo>
                      <a:pt x="769" y="174"/>
                    </a:lnTo>
                    <a:lnTo>
                      <a:pt x="804" y="231"/>
                    </a:lnTo>
                    <a:lnTo>
                      <a:pt x="830" y="291"/>
                    </a:lnTo>
                    <a:lnTo>
                      <a:pt x="846" y="357"/>
                    </a:lnTo>
                    <a:lnTo>
                      <a:pt x="852" y="425"/>
                    </a:lnTo>
                    <a:lnTo>
                      <a:pt x="846" y="495"/>
                    </a:lnTo>
                    <a:lnTo>
                      <a:pt x="830" y="561"/>
                    </a:lnTo>
                    <a:lnTo>
                      <a:pt x="804" y="621"/>
                    </a:lnTo>
                    <a:lnTo>
                      <a:pt x="769" y="678"/>
                    </a:lnTo>
                    <a:lnTo>
                      <a:pt x="725" y="728"/>
                    </a:lnTo>
                    <a:lnTo>
                      <a:pt x="676" y="770"/>
                    </a:lnTo>
                    <a:lnTo>
                      <a:pt x="621" y="805"/>
                    </a:lnTo>
                    <a:lnTo>
                      <a:pt x="561" y="830"/>
                    </a:lnTo>
                    <a:lnTo>
                      <a:pt x="495" y="847"/>
                    </a:lnTo>
                    <a:lnTo>
                      <a:pt x="425" y="852"/>
                    </a:lnTo>
                    <a:lnTo>
                      <a:pt x="357" y="847"/>
                    </a:lnTo>
                    <a:lnTo>
                      <a:pt x="291" y="830"/>
                    </a:lnTo>
                    <a:lnTo>
                      <a:pt x="231" y="805"/>
                    </a:lnTo>
                    <a:lnTo>
                      <a:pt x="174" y="770"/>
                    </a:lnTo>
                    <a:lnTo>
                      <a:pt x="125" y="728"/>
                    </a:lnTo>
                    <a:lnTo>
                      <a:pt x="83" y="678"/>
                    </a:lnTo>
                    <a:lnTo>
                      <a:pt x="48" y="621"/>
                    </a:lnTo>
                    <a:lnTo>
                      <a:pt x="22" y="561"/>
                    </a:lnTo>
                    <a:lnTo>
                      <a:pt x="6" y="495"/>
                    </a:lnTo>
                    <a:lnTo>
                      <a:pt x="0" y="425"/>
                    </a:lnTo>
                    <a:lnTo>
                      <a:pt x="6" y="357"/>
                    </a:lnTo>
                    <a:lnTo>
                      <a:pt x="22" y="291"/>
                    </a:lnTo>
                    <a:lnTo>
                      <a:pt x="48" y="231"/>
                    </a:lnTo>
                    <a:lnTo>
                      <a:pt x="83" y="174"/>
                    </a:lnTo>
                    <a:lnTo>
                      <a:pt x="125" y="124"/>
                    </a:lnTo>
                    <a:lnTo>
                      <a:pt x="174" y="82"/>
                    </a:lnTo>
                    <a:lnTo>
                      <a:pt x="231" y="47"/>
                    </a:lnTo>
                    <a:lnTo>
                      <a:pt x="291" y="22"/>
                    </a:lnTo>
                    <a:lnTo>
                      <a:pt x="357" y="5"/>
                    </a:lnTo>
                    <a:lnTo>
                      <a:pt x="4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grpSp>
        <p:nvGrpSpPr>
          <p:cNvPr id="822" name="Group 208"/>
          <p:cNvGrpSpPr/>
          <p:nvPr/>
        </p:nvGrpSpPr>
        <p:grpSpPr>
          <a:xfrm>
            <a:off x="2990880" y="4802040"/>
            <a:ext cx="2066760" cy="1625760"/>
            <a:chOff x="2990880" y="4802040"/>
            <a:chExt cx="2066760" cy="1625760"/>
          </a:xfrm>
        </p:grpSpPr>
        <p:sp>
          <p:nvSpPr>
            <p:cNvPr id="823" name="Rectangle 209"/>
            <p:cNvSpPr/>
            <p:nvPr/>
          </p:nvSpPr>
          <p:spPr>
            <a:xfrm>
              <a:off x="4359240" y="5182920"/>
              <a:ext cx="698400" cy="700200"/>
            </a:xfrm>
            <a:prstGeom prst="rect">
              <a:avLst/>
            </a:prstGeom>
            <a:solidFill>
              <a:srgbClr val="d9d9d9"/>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4" name="Freeform 210"/>
            <p:cNvSpPr/>
            <p:nvPr/>
          </p:nvSpPr>
          <p:spPr>
            <a:xfrm>
              <a:off x="4592520" y="5313240"/>
              <a:ext cx="231480" cy="439560"/>
            </a:xfrm>
            <a:custGeom>
              <a:avLst/>
              <a:gdLst/>
              <a:ahLst/>
              <a:rect l="l" t="t" r="r" b="b"/>
              <a:pathLst>
                <a:path w="409" h="771">
                  <a:moveTo>
                    <a:pt x="204" y="0"/>
                  </a:moveTo>
                  <a:lnTo>
                    <a:pt x="241" y="3"/>
                  </a:lnTo>
                  <a:lnTo>
                    <a:pt x="276" y="13"/>
                  </a:lnTo>
                  <a:lnTo>
                    <a:pt x="308" y="28"/>
                  </a:lnTo>
                  <a:lnTo>
                    <a:pt x="336" y="48"/>
                  </a:lnTo>
                  <a:lnTo>
                    <a:pt x="360" y="72"/>
                  </a:lnTo>
                  <a:lnTo>
                    <a:pt x="381" y="101"/>
                  </a:lnTo>
                  <a:lnTo>
                    <a:pt x="396" y="133"/>
                  </a:lnTo>
                  <a:lnTo>
                    <a:pt x="406" y="168"/>
                  </a:lnTo>
                  <a:lnTo>
                    <a:pt x="409" y="204"/>
                  </a:lnTo>
                  <a:lnTo>
                    <a:pt x="406" y="240"/>
                  </a:lnTo>
                  <a:lnTo>
                    <a:pt x="397" y="273"/>
                  </a:lnTo>
                  <a:lnTo>
                    <a:pt x="384" y="303"/>
                  </a:lnTo>
                  <a:lnTo>
                    <a:pt x="365" y="332"/>
                  </a:lnTo>
                  <a:lnTo>
                    <a:pt x="342" y="356"/>
                  </a:lnTo>
                  <a:lnTo>
                    <a:pt x="315" y="376"/>
                  </a:lnTo>
                  <a:lnTo>
                    <a:pt x="385" y="771"/>
                  </a:lnTo>
                  <a:lnTo>
                    <a:pt x="23" y="771"/>
                  </a:lnTo>
                  <a:lnTo>
                    <a:pt x="93" y="376"/>
                  </a:lnTo>
                  <a:lnTo>
                    <a:pt x="67" y="356"/>
                  </a:lnTo>
                  <a:lnTo>
                    <a:pt x="44" y="332"/>
                  </a:lnTo>
                  <a:lnTo>
                    <a:pt x="25" y="303"/>
                  </a:lnTo>
                  <a:lnTo>
                    <a:pt x="12" y="273"/>
                  </a:lnTo>
                  <a:lnTo>
                    <a:pt x="3" y="240"/>
                  </a:lnTo>
                  <a:lnTo>
                    <a:pt x="0" y="204"/>
                  </a:lnTo>
                  <a:lnTo>
                    <a:pt x="3" y="168"/>
                  </a:lnTo>
                  <a:lnTo>
                    <a:pt x="13" y="133"/>
                  </a:lnTo>
                  <a:lnTo>
                    <a:pt x="27" y="101"/>
                  </a:lnTo>
                  <a:lnTo>
                    <a:pt x="48" y="72"/>
                  </a:lnTo>
                  <a:lnTo>
                    <a:pt x="72" y="48"/>
                  </a:lnTo>
                  <a:lnTo>
                    <a:pt x="101" y="28"/>
                  </a:lnTo>
                  <a:lnTo>
                    <a:pt x="133" y="13"/>
                  </a:lnTo>
                  <a:lnTo>
                    <a:pt x="168" y="3"/>
                  </a:lnTo>
                  <a:lnTo>
                    <a:pt x="204" y="0"/>
                  </a:lnTo>
                  <a:close/>
                </a:path>
              </a:pathLst>
            </a:custGeom>
            <a:solidFill>
              <a:srgbClr val="404040">
                <a:alpha val="39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5" name="Freeform 211"/>
            <p:cNvSpPr/>
            <p:nvPr/>
          </p:nvSpPr>
          <p:spPr>
            <a:xfrm>
              <a:off x="4435560" y="4802040"/>
              <a:ext cx="546120" cy="380880"/>
            </a:xfrm>
            <a:custGeom>
              <a:avLst/>
              <a:gdLst/>
              <a:ahLst/>
              <a:rect l="l" t="t" r="r" b="b"/>
              <a:pathLst>
                <a:path w="959" h="670">
                  <a:moveTo>
                    <a:pt x="204" y="0"/>
                  </a:moveTo>
                  <a:lnTo>
                    <a:pt x="754" y="0"/>
                  </a:lnTo>
                  <a:lnTo>
                    <a:pt x="792" y="4"/>
                  </a:lnTo>
                  <a:lnTo>
                    <a:pt x="826" y="13"/>
                  </a:lnTo>
                  <a:lnTo>
                    <a:pt x="858" y="29"/>
                  </a:lnTo>
                  <a:lnTo>
                    <a:pt x="886" y="49"/>
                  </a:lnTo>
                  <a:lnTo>
                    <a:pt x="910" y="73"/>
                  </a:lnTo>
                  <a:lnTo>
                    <a:pt x="931" y="101"/>
                  </a:lnTo>
                  <a:lnTo>
                    <a:pt x="947" y="133"/>
                  </a:lnTo>
                  <a:lnTo>
                    <a:pt x="956" y="169"/>
                  </a:lnTo>
                  <a:lnTo>
                    <a:pt x="959" y="205"/>
                  </a:lnTo>
                  <a:lnTo>
                    <a:pt x="959" y="670"/>
                  </a:lnTo>
                  <a:lnTo>
                    <a:pt x="786" y="670"/>
                  </a:lnTo>
                  <a:lnTo>
                    <a:pt x="786" y="275"/>
                  </a:lnTo>
                  <a:lnTo>
                    <a:pt x="783" y="252"/>
                  </a:lnTo>
                  <a:lnTo>
                    <a:pt x="775" y="231"/>
                  </a:lnTo>
                  <a:lnTo>
                    <a:pt x="763" y="212"/>
                  </a:lnTo>
                  <a:lnTo>
                    <a:pt x="748" y="196"/>
                  </a:lnTo>
                  <a:lnTo>
                    <a:pt x="729" y="184"/>
                  </a:lnTo>
                  <a:lnTo>
                    <a:pt x="707" y="176"/>
                  </a:lnTo>
                  <a:lnTo>
                    <a:pt x="684" y="173"/>
                  </a:lnTo>
                  <a:lnTo>
                    <a:pt x="275" y="173"/>
                  </a:lnTo>
                  <a:lnTo>
                    <a:pt x="252" y="176"/>
                  </a:lnTo>
                  <a:lnTo>
                    <a:pt x="230" y="184"/>
                  </a:lnTo>
                  <a:lnTo>
                    <a:pt x="211" y="196"/>
                  </a:lnTo>
                  <a:lnTo>
                    <a:pt x="195" y="212"/>
                  </a:lnTo>
                  <a:lnTo>
                    <a:pt x="183" y="231"/>
                  </a:lnTo>
                  <a:lnTo>
                    <a:pt x="175" y="252"/>
                  </a:lnTo>
                  <a:lnTo>
                    <a:pt x="172" y="275"/>
                  </a:lnTo>
                  <a:lnTo>
                    <a:pt x="172" y="670"/>
                  </a:lnTo>
                  <a:lnTo>
                    <a:pt x="0" y="670"/>
                  </a:lnTo>
                  <a:lnTo>
                    <a:pt x="0" y="205"/>
                  </a:lnTo>
                  <a:lnTo>
                    <a:pt x="3" y="169"/>
                  </a:lnTo>
                  <a:lnTo>
                    <a:pt x="12" y="133"/>
                  </a:lnTo>
                  <a:lnTo>
                    <a:pt x="27" y="101"/>
                  </a:lnTo>
                  <a:lnTo>
                    <a:pt x="48" y="73"/>
                  </a:lnTo>
                  <a:lnTo>
                    <a:pt x="72" y="49"/>
                  </a:lnTo>
                  <a:lnTo>
                    <a:pt x="101" y="29"/>
                  </a:lnTo>
                  <a:lnTo>
                    <a:pt x="133" y="13"/>
                  </a:lnTo>
                  <a:lnTo>
                    <a:pt x="167" y="4"/>
                  </a:lnTo>
                  <a:lnTo>
                    <a:pt x="204" y="0"/>
                  </a:lnTo>
                  <a:close/>
                </a:path>
              </a:pathLst>
            </a:custGeom>
            <a:solidFill>
              <a:srgbClr val="d9d9d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6" name="Freeform 212"/>
            <p:cNvSpPr/>
            <p:nvPr/>
          </p:nvSpPr>
          <p:spPr>
            <a:xfrm>
              <a:off x="3238200" y="5233680"/>
              <a:ext cx="1428840" cy="939960"/>
            </a:xfrm>
            <a:custGeom>
              <a:avLst/>
              <a:gdLst/>
              <a:ahLst/>
              <a:rect l="l" t="t" r="r" b="b"/>
              <a:pathLst>
                <a:path w="2509" h="1650">
                  <a:moveTo>
                    <a:pt x="87" y="0"/>
                  </a:moveTo>
                  <a:lnTo>
                    <a:pt x="2422" y="0"/>
                  </a:lnTo>
                  <a:lnTo>
                    <a:pt x="2445" y="3"/>
                  </a:lnTo>
                  <a:lnTo>
                    <a:pt x="2466" y="12"/>
                  </a:lnTo>
                  <a:lnTo>
                    <a:pt x="2483" y="25"/>
                  </a:lnTo>
                  <a:lnTo>
                    <a:pt x="2497" y="43"/>
                  </a:lnTo>
                  <a:lnTo>
                    <a:pt x="2505" y="64"/>
                  </a:lnTo>
                  <a:lnTo>
                    <a:pt x="2509" y="87"/>
                  </a:lnTo>
                  <a:lnTo>
                    <a:pt x="2509" y="1563"/>
                  </a:lnTo>
                  <a:lnTo>
                    <a:pt x="2505" y="1586"/>
                  </a:lnTo>
                  <a:lnTo>
                    <a:pt x="2497" y="1607"/>
                  </a:lnTo>
                  <a:lnTo>
                    <a:pt x="2483" y="1625"/>
                  </a:lnTo>
                  <a:lnTo>
                    <a:pt x="2466" y="1638"/>
                  </a:lnTo>
                  <a:lnTo>
                    <a:pt x="2445" y="1647"/>
                  </a:lnTo>
                  <a:lnTo>
                    <a:pt x="2422" y="1650"/>
                  </a:lnTo>
                  <a:lnTo>
                    <a:pt x="87" y="1650"/>
                  </a:lnTo>
                  <a:lnTo>
                    <a:pt x="63" y="1647"/>
                  </a:lnTo>
                  <a:lnTo>
                    <a:pt x="43" y="1638"/>
                  </a:lnTo>
                  <a:lnTo>
                    <a:pt x="25" y="1625"/>
                  </a:lnTo>
                  <a:lnTo>
                    <a:pt x="12" y="1607"/>
                  </a:lnTo>
                  <a:lnTo>
                    <a:pt x="3" y="1586"/>
                  </a:lnTo>
                  <a:lnTo>
                    <a:pt x="0" y="1563"/>
                  </a:lnTo>
                  <a:lnTo>
                    <a:pt x="0" y="87"/>
                  </a:lnTo>
                  <a:lnTo>
                    <a:pt x="3" y="64"/>
                  </a:lnTo>
                  <a:lnTo>
                    <a:pt x="12" y="43"/>
                  </a:lnTo>
                  <a:lnTo>
                    <a:pt x="25" y="25"/>
                  </a:lnTo>
                  <a:lnTo>
                    <a:pt x="43" y="12"/>
                  </a:lnTo>
                  <a:lnTo>
                    <a:pt x="63" y="3"/>
                  </a:lnTo>
                  <a:lnTo>
                    <a:pt x="87"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7" name="Rectangle 213"/>
            <p:cNvSpPr/>
            <p:nvPr/>
          </p:nvSpPr>
          <p:spPr>
            <a:xfrm>
              <a:off x="3313080" y="5332320"/>
              <a:ext cx="1280880" cy="687600"/>
            </a:xfrm>
            <a:prstGeom prst="rect">
              <a:avLst/>
            </a:prstGeom>
            <a:solidFill>
              <a:srgbClr val="a2c777"/>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8" name="Freeform 214"/>
            <p:cNvSpPr/>
            <p:nvPr/>
          </p:nvSpPr>
          <p:spPr>
            <a:xfrm>
              <a:off x="3935520" y="5267160"/>
              <a:ext cx="36360" cy="34920"/>
            </a:xfrm>
            <a:custGeom>
              <a:avLst/>
              <a:gdLst/>
              <a:ahLst/>
              <a:rect l="l" t="t" r="r" b="b"/>
              <a:pathLst>
                <a:path w="63" h="63">
                  <a:moveTo>
                    <a:pt x="32" y="0"/>
                  </a:moveTo>
                  <a:lnTo>
                    <a:pt x="44" y="2"/>
                  </a:lnTo>
                  <a:lnTo>
                    <a:pt x="54" y="9"/>
                  </a:lnTo>
                  <a:lnTo>
                    <a:pt x="60" y="19"/>
                  </a:lnTo>
                  <a:lnTo>
                    <a:pt x="63" y="31"/>
                  </a:lnTo>
                  <a:lnTo>
                    <a:pt x="60" y="43"/>
                  </a:lnTo>
                  <a:lnTo>
                    <a:pt x="54" y="53"/>
                  </a:lnTo>
                  <a:lnTo>
                    <a:pt x="44" y="61"/>
                  </a:lnTo>
                  <a:lnTo>
                    <a:pt x="32" y="63"/>
                  </a:lnTo>
                  <a:lnTo>
                    <a:pt x="19" y="61"/>
                  </a:lnTo>
                  <a:lnTo>
                    <a:pt x="9" y="53"/>
                  </a:lnTo>
                  <a:lnTo>
                    <a:pt x="2" y="43"/>
                  </a:lnTo>
                  <a:lnTo>
                    <a:pt x="0" y="31"/>
                  </a:lnTo>
                  <a:lnTo>
                    <a:pt x="2" y="19"/>
                  </a:lnTo>
                  <a:lnTo>
                    <a:pt x="9" y="9"/>
                  </a:lnTo>
                  <a:lnTo>
                    <a:pt x="19" y="2"/>
                  </a:lnTo>
                  <a:lnTo>
                    <a:pt x="32" y="0"/>
                  </a:lnTo>
                  <a:close/>
                </a:path>
              </a:pathLst>
            </a:custGeom>
            <a:solidFill>
              <a:srgbClr val="defff3"/>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sp>
          <p:nvSpPr>
            <p:cNvPr id="829" name="Rectangle 12"/>
            <p:cNvSpPr/>
            <p:nvPr/>
          </p:nvSpPr>
          <p:spPr>
            <a:xfrm>
              <a:off x="3922560" y="6062760"/>
              <a:ext cx="61560" cy="60120"/>
            </a:xfrm>
            <a:prstGeom prst="rect">
              <a:avLst/>
            </a:prstGeom>
            <a:solidFill>
              <a:srgbClr val="defff3"/>
            </a:solidFill>
            <a:ln w="0">
              <a:noFill/>
            </a:ln>
          </p:spPr>
          <p:style>
            <a:lnRef idx="0"/>
            <a:fillRef idx="0"/>
            <a:effectRef idx="0"/>
            <a:fontRef idx="minor"/>
          </p:style>
          <p:txBody>
            <a:bodyPr tIns="14400" bIns="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0" name="Freeform 13"/>
            <p:cNvSpPr/>
            <p:nvPr/>
          </p:nvSpPr>
          <p:spPr>
            <a:xfrm>
              <a:off x="2990880" y="6174000"/>
              <a:ext cx="1924200" cy="163440"/>
            </a:xfrm>
            <a:custGeom>
              <a:avLst/>
              <a:gdLst/>
              <a:ahLst/>
              <a:rect l="l" t="t" r="r" b="b"/>
              <a:pathLst>
                <a:path w="3380" h="286">
                  <a:moveTo>
                    <a:pt x="436" y="0"/>
                  </a:moveTo>
                  <a:lnTo>
                    <a:pt x="2945" y="0"/>
                  </a:lnTo>
                  <a:lnTo>
                    <a:pt x="3380" y="286"/>
                  </a:lnTo>
                  <a:lnTo>
                    <a:pt x="0" y="286"/>
                  </a:lnTo>
                  <a:lnTo>
                    <a:pt x="43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1" name="Freeform 14"/>
            <p:cNvSpPr/>
            <p:nvPr/>
          </p:nvSpPr>
          <p:spPr>
            <a:xfrm>
              <a:off x="2990880" y="6337440"/>
              <a:ext cx="1924200" cy="90360"/>
            </a:xfrm>
            <a:custGeom>
              <a:avLst/>
              <a:gdLst/>
              <a:ahLst/>
              <a:rect l="l" t="t" r="r" b="b"/>
              <a:pathLst>
                <a:path w="3380" h="160">
                  <a:moveTo>
                    <a:pt x="0" y="0"/>
                  </a:moveTo>
                  <a:lnTo>
                    <a:pt x="3380" y="0"/>
                  </a:lnTo>
                  <a:lnTo>
                    <a:pt x="3380" y="97"/>
                  </a:lnTo>
                  <a:lnTo>
                    <a:pt x="3377" y="117"/>
                  </a:lnTo>
                  <a:lnTo>
                    <a:pt x="3368" y="135"/>
                  </a:lnTo>
                  <a:lnTo>
                    <a:pt x="3355" y="148"/>
                  </a:lnTo>
                  <a:lnTo>
                    <a:pt x="3337" y="158"/>
                  </a:lnTo>
                  <a:lnTo>
                    <a:pt x="3318" y="160"/>
                  </a:lnTo>
                  <a:lnTo>
                    <a:pt x="63" y="160"/>
                  </a:lnTo>
                  <a:lnTo>
                    <a:pt x="43" y="158"/>
                  </a:lnTo>
                  <a:lnTo>
                    <a:pt x="25" y="148"/>
                  </a:lnTo>
                  <a:lnTo>
                    <a:pt x="12" y="135"/>
                  </a:lnTo>
                  <a:lnTo>
                    <a:pt x="3" y="117"/>
                  </a:lnTo>
                  <a:lnTo>
                    <a:pt x="0" y="97"/>
                  </a:lnTo>
                  <a:lnTo>
                    <a:pt x="0" y="0"/>
                  </a:lnTo>
                  <a:close/>
                </a:path>
              </a:pathLst>
            </a:custGeom>
            <a:solidFill>
              <a:srgbClr val="45cbe8"/>
            </a:solidFill>
            <a:ln w="0">
              <a:noFill/>
            </a:ln>
          </p:spPr>
          <p:style>
            <a:lnRef idx="0"/>
            <a:fillRef idx="0"/>
            <a:effectRef idx="0"/>
            <a:fontRef idx="minor"/>
          </p:style>
          <p:txBody>
            <a:bodyPr lIns="91080" rIns="91080" tIns="45000" bIns="45000" anchor="t">
              <a:noAutofit/>
            </a:bodyPr>
            <a:p>
              <a:endParaRPr b="0" lang="en-US" sz="1800" spc="-1" strike="noStrike">
                <a:solidFill>
                  <a:srgbClr val="000000"/>
                </a:solidFill>
                <a:latin typeface="Gill Sans MT"/>
              </a:endParaRPr>
            </a:p>
          </p:txBody>
        </p:sp>
        <p:sp>
          <p:nvSpPr>
            <p:cNvPr id="832" name="Rectangle 15"/>
            <p:cNvSpPr/>
            <p:nvPr/>
          </p:nvSpPr>
          <p:spPr>
            <a:xfrm>
              <a:off x="3759120" y="6383520"/>
              <a:ext cx="388800" cy="25200"/>
            </a:xfrm>
            <a:prstGeom prst="rect">
              <a:avLst/>
            </a:prstGeom>
            <a:solidFill>
              <a:srgbClr val="ffffff"/>
            </a:solidFill>
            <a:ln w="0">
              <a:noFill/>
            </a:ln>
          </p:spPr>
          <p:style>
            <a:lnRef idx="0"/>
            <a:fillRef idx="0"/>
            <a:effectRef idx="0"/>
            <a:fontRef idx="minor"/>
          </p:style>
          <p:txBody>
            <a:bodyPr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3" name="Rectangle 16"/>
            <p:cNvSpPr/>
            <p:nvPr/>
          </p:nvSpPr>
          <p:spPr>
            <a:xfrm>
              <a:off x="2990880" y="6337440"/>
              <a:ext cx="1924200" cy="26640"/>
            </a:xfrm>
            <a:prstGeom prst="rect">
              <a:avLst/>
            </a:prstGeom>
            <a:solidFill>
              <a:srgbClr val="ffffff"/>
            </a:solidFill>
            <a:ln w="0">
              <a:noFill/>
            </a:ln>
          </p:spPr>
          <p:style>
            <a:lnRef idx="0"/>
            <a:fillRef idx="0"/>
            <a:effectRef idx="0"/>
            <a:fontRef idx="minor"/>
          </p:style>
          <p:txBody>
            <a:bodyPr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4" name="Freeform 17"/>
            <p:cNvSpPr/>
            <p:nvPr/>
          </p:nvSpPr>
          <p:spPr>
            <a:xfrm>
              <a:off x="3108240" y="6199200"/>
              <a:ext cx="1689120" cy="109440"/>
            </a:xfrm>
            <a:custGeom>
              <a:avLst/>
              <a:gdLst/>
              <a:ahLst/>
              <a:rect l="l" t="t" r="r" b="b"/>
              <a:pathLst>
                <a:path w="2967" h="193">
                  <a:moveTo>
                    <a:pt x="294" y="0"/>
                  </a:moveTo>
                  <a:lnTo>
                    <a:pt x="2674" y="0"/>
                  </a:lnTo>
                  <a:lnTo>
                    <a:pt x="2967" y="193"/>
                  </a:lnTo>
                  <a:lnTo>
                    <a:pt x="0" y="193"/>
                  </a:lnTo>
                  <a:lnTo>
                    <a:pt x="294"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5" name="Rectangle 18"/>
            <p:cNvSpPr/>
            <p:nvPr/>
          </p:nvSpPr>
          <p:spPr>
            <a:xfrm>
              <a:off x="3941640" y="6189840"/>
              <a:ext cx="17280" cy="1299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6" name="Freeform 19"/>
            <p:cNvSpPr/>
            <p:nvPr/>
          </p:nvSpPr>
          <p:spPr>
            <a:xfrm>
              <a:off x="4116240" y="6186600"/>
              <a:ext cx="50760" cy="134640"/>
            </a:xfrm>
            <a:custGeom>
              <a:avLst/>
              <a:gdLst/>
              <a:ahLst/>
              <a:rect l="l" t="t" r="r" b="b"/>
              <a:pathLst>
                <a:path w="89" h="237">
                  <a:moveTo>
                    <a:pt x="30" y="0"/>
                  </a:moveTo>
                  <a:lnTo>
                    <a:pt x="89" y="229"/>
                  </a:lnTo>
                  <a:lnTo>
                    <a:pt x="58" y="237"/>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7" name="Freeform 20"/>
            <p:cNvSpPr/>
            <p:nvPr/>
          </p:nvSpPr>
          <p:spPr>
            <a:xfrm>
              <a:off x="4280040" y="6185160"/>
              <a:ext cx="82440" cy="137880"/>
            </a:xfrm>
            <a:custGeom>
              <a:avLst/>
              <a:gdLst/>
              <a:ahLst/>
              <a:rect l="l" t="t" r="r" b="b"/>
              <a:pathLst>
                <a:path w="143" h="243">
                  <a:moveTo>
                    <a:pt x="29" y="0"/>
                  </a:moveTo>
                  <a:lnTo>
                    <a:pt x="143" y="229"/>
                  </a:lnTo>
                  <a:lnTo>
                    <a:pt x="114" y="243"/>
                  </a:lnTo>
                  <a:lnTo>
                    <a:pt x="0" y="14"/>
                  </a:lnTo>
                  <a:lnTo>
                    <a:pt x="29"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8" name="Freeform 21"/>
            <p:cNvSpPr/>
            <p:nvPr/>
          </p:nvSpPr>
          <p:spPr>
            <a:xfrm>
              <a:off x="4443480" y="6183360"/>
              <a:ext cx="117360" cy="142920"/>
            </a:xfrm>
            <a:custGeom>
              <a:avLst/>
              <a:gdLst/>
              <a:ahLst/>
              <a:rect l="l" t="t" r="r" b="b"/>
              <a:pathLst>
                <a:path w="205" h="249">
                  <a:moveTo>
                    <a:pt x="25" y="0"/>
                  </a:moveTo>
                  <a:lnTo>
                    <a:pt x="205" y="229"/>
                  </a:lnTo>
                  <a:lnTo>
                    <a:pt x="179" y="249"/>
                  </a:lnTo>
                  <a:lnTo>
                    <a:pt x="0" y="20"/>
                  </a:lnTo>
                  <a:lnTo>
                    <a:pt x="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9" name="Rectangle 22"/>
            <p:cNvSpPr/>
            <p:nvPr/>
          </p:nvSpPr>
          <p:spPr>
            <a:xfrm>
              <a:off x="3186000" y="6218280"/>
              <a:ext cx="1528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0" name="Freeform 23"/>
            <p:cNvSpPr/>
            <p:nvPr/>
          </p:nvSpPr>
          <p:spPr>
            <a:xfrm>
              <a:off x="3735360" y="6186600"/>
              <a:ext cx="50760" cy="134640"/>
            </a:xfrm>
            <a:custGeom>
              <a:avLst/>
              <a:gdLst/>
              <a:ahLst/>
              <a:rect l="l" t="t" r="r" b="b"/>
              <a:pathLst>
                <a:path w="90" h="237">
                  <a:moveTo>
                    <a:pt x="58" y="0"/>
                  </a:moveTo>
                  <a:lnTo>
                    <a:pt x="90" y="8"/>
                  </a:lnTo>
                  <a:lnTo>
                    <a:pt x="32" y="237"/>
                  </a:lnTo>
                  <a:lnTo>
                    <a:pt x="0" y="229"/>
                  </a:lnTo>
                  <a:lnTo>
                    <a:pt x="5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1" name="Freeform 24"/>
            <p:cNvSpPr/>
            <p:nvPr/>
          </p:nvSpPr>
          <p:spPr>
            <a:xfrm>
              <a:off x="3539880" y="6185160"/>
              <a:ext cx="80640" cy="137880"/>
            </a:xfrm>
            <a:custGeom>
              <a:avLst/>
              <a:gdLst/>
              <a:ahLst/>
              <a:rect l="l" t="t" r="r" b="b"/>
              <a:pathLst>
                <a:path w="144" h="243">
                  <a:moveTo>
                    <a:pt x="114" y="0"/>
                  </a:moveTo>
                  <a:lnTo>
                    <a:pt x="144" y="14"/>
                  </a:lnTo>
                  <a:lnTo>
                    <a:pt x="28" y="243"/>
                  </a:lnTo>
                  <a:lnTo>
                    <a:pt x="0" y="229"/>
                  </a:lnTo>
                  <a:lnTo>
                    <a:pt x="11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2" name="Freeform 25"/>
            <p:cNvSpPr/>
            <p:nvPr/>
          </p:nvSpPr>
          <p:spPr>
            <a:xfrm>
              <a:off x="3341520" y="6183360"/>
              <a:ext cx="115560" cy="142920"/>
            </a:xfrm>
            <a:custGeom>
              <a:avLst/>
              <a:gdLst/>
              <a:ahLst/>
              <a:rect l="l" t="t" r="r" b="b"/>
              <a:pathLst>
                <a:path w="206" h="249">
                  <a:moveTo>
                    <a:pt x="180" y="0"/>
                  </a:moveTo>
                  <a:lnTo>
                    <a:pt x="206" y="20"/>
                  </a:lnTo>
                  <a:lnTo>
                    <a:pt x="25" y="249"/>
                  </a:lnTo>
                  <a:lnTo>
                    <a:pt x="0" y="229"/>
                  </a:lnTo>
                  <a:lnTo>
                    <a:pt x="18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3" name="Rectangle 26"/>
            <p:cNvSpPr/>
            <p:nvPr/>
          </p:nvSpPr>
          <p:spPr>
            <a:xfrm>
              <a:off x="3130560" y="6264360"/>
              <a:ext cx="1663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4" name="Freeform 27"/>
            <p:cNvSpPr/>
            <p:nvPr/>
          </p:nvSpPr>
          <p:spPr>
            <a:xfrm>
              <a:off x="3522600" y="5435640"/>
              <a:ext cx="210960" cy="260280"/>
            </a:xfrm>
            <a:custGeom>
              <a:avLst/>
              <a:gdLst/>
              <a:ahLst/>
              <a:rect l="l" t="t" r="r" b="b"/>
              <a:pathLst>
                <a:path w="369" h="458">
                  <a:moveTo>
                    <a:pt x="184" y="0"/>
                  </a:moveTo>
                  <a:lnTo>
                    <a:pt x="217" y="4"/>
                  </a:lnTo>
                  <a:lnTo>
                    <a:pt x="246" y="10"/>
                  </a:lnTo>
                  <a:lnTo>
                    <a:pt x="272" y="22"/>
                  </a:lnTo>
                  <a:lnTo>
                    <a:pt x="295" y="38"/>
                  </a:lnTo>
                  <a:lnTo>
                    <a:pt x="315" y="56"/>
                  </a:lnTo>
                  <a:lnTo>
                    <a:pt x="331" y="77"/>
                  </a:lnTo>
                  <a:lnTo>
                    <a:pt x="344" y="102"/>
                  </a:lnTo>
                  <a:lnTo>
                    <a:pt x="354" y="128"/>
                  </a:lnTo>
                  <a:lnTo>
                    <a:pt x="362" y="155"/>
                  </a:lnTo>
                  <a:lnTo>
                    <a:pt x="366" y="185"/>
                  </a:lnTo>
                  <a:lnTo>
                    <a:pt x="369" y="215"/>
                  </a:lnTo>
                  <a:lnTo>
                    <a:pt x="367" y="245"/>
                  </a:lnTo>
                  <a:lnTo>
                    <a:pt x="363" y="274"/>
                  </a:lnTo>
                  <a:lnTo>
                    <a:pt x="356" y="303"/>
                  </a:lnTo>
                  <a:lnTo>
                    <a:pt x="348" y="331"/>
                  </a:lnTo>
                  <a:lnTo>
                    <a:pt x="336" y="357"/>
                  </a:lnTo>
                  <a:lnTo>
                    <a:pt x="321" y="381"/>
                  </a:lnTo>
                  <a:lnTo>
                    <a:pt x="305" y="403"/>
                  </a:lnTo>
                  <a:lnTo>
                    <a:pt x="285" y="422"/>
                  </a:lnTo>
                  <a:lnTo>
                    <a:pt x="263" y="437"/>
                  </a:lnTo>
                  <a:lnTo>
                    <a:pt x="239" y="448"/>
                  </a:lnTo>
                  <a:lnTo>
                    <a:pt x="212" y="456"/>
                  </a:lnTo>
                  <a:lnTo>
                    <a:pt x="184" y="458"/>
                  </a:lnTo>
                  <a:lnTo>
                    <a:pt x="155" y="456"/>
                  </a:lnTo>
                  <a:lnTo>
                    <a:pt x="129" y="448"/>
                  </a:lnTo>
                  <a:lnTo>
                    <a:pt x="106" y="437"/>
                  </a:lnTo>
                  <a:lnTo>
                    <a:pt x="84" y="422"/>
                  </a:lnTo>
                  <a:lnTo>
                    <a:pt x="64" y="403"/>
                  </a:lnTo>
                  <a:lnTo>
                    <a:pt x="47" y="381"/>
                  </a:lnTo>
                  <a:lnTo>
                    <a:pt x="33" y="357"/>
                  </a:lnTo>
                  <a:lnTo>
                    <a:pt x="21" y="331"/>
                  </a:lnTo>
                  <a:lnTo>
                    <a:pt x="12" y="303"/>
                  </a:lnTo>
                  <a:lnTo>
                    <a:pt x="6" y="274"/>
                  </a:lnTo>
                  <a:lnTo>
                    <a:pt x="1" y="245"/>
                  </a:lnTo>
                  <a:lnTo>
                    <a:pt x="0" y="215"/>
                  </a:lnTo>
                  <a:lnTo>
                    <a:pt x="1" y="185"/>
                  </a:lnTo>
                  <a:lnTo>
                    <a:pt x="7" y="155"/>
                  </a:lnTo>
                  <a:lnTo>
                    <a:pt x="13" y="128"/>
                  </a:lnTo>
                  <a:lnTo>
                    <a:pt x="24" y="102"/>
                  </a:lnTo>
                  <a:lnTo>
                    <a:pt x="37" y="77"/>
                  </a:lnTo>
                  <a:lnTo>
                    <a:pt x="54" y="56"/>
                  </a:lnTo>
                  <a:lnTo>
                    <a:pt x="74" y="38"/>
                  </a:lnTo>
                  <a:lnTo>
                    <a:pt x="96" y="22"/>
                  </a:lnTo>
                  <a:lnTo>
                    <a:pt x="122" y="10"/>
                  </a:lnTo>
                  <a:lnTo>
                    <a:pt x="152" y="4"/>
                  </a:lnTo>
                  <a:lnTo>
                    <a:pt x="184"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5" name="Freeform 28"/>
            <p:cNvSpPr/>
            <p:nvPr/>
          </p:nvSpPr>
          <p:spPr>
            <a:xfrm>
              <a:off x="3392280" y="5686200"/>
              <a:ext cx="469800" cy="233280"/>
            </a:xfrm>
            <a:custGeom>
              <a:avLst/>
              <a:gdLst/>
              <a:ahLst/>
              <a:rect l="l" t="t" r="r" b="b"/>
              <a:pathLst>
                <a:path w="826" h="408">
                  <a:moveTo>
                    <a:pt x="269" y="0"/>
                  </a:moveTo>
                  <a:lnTo>
                    <a:pt x="292" y="23"/>
                  </a:lnTo>
                  <a:lnTo>
                    <a:pt x="318" y="40"/>
                  </a:lnTo>
                  <a:lnTo>
                    <a:pt x="347" y="55"/>
                  </a:lnTo>
                  <a:lnTo>
                    <a:pt x="379" y="63"/>
                  </a:lnTo>
                  <a:lnTo>
                    <a:pt x="413" y="66"/>
                  </a:lnTo>
                  <a:lnTo>
                    <a:pt x="448" y="63"/>
                  </a:lnTo>
                  <a:lnTo>
                    <a:pt x="479" y="55"/>
                  </a:lnTo>
                  <a:lnTo>
                    <a:pt x="508" y="40"/>
                  </a:lnTo>
                  <a:lnTo>
                    <a:pt x="535" y="23"/>
                  </a:lnTo>
                  <a:lnTo>
                    <a:pt x="558" y="0"/>
                  </a:lnTo>
                  <a:lnTo>
                    <a:pt x="598" y="16"/>
                  </a:lnTo>
                  <a:lnTo>
                    <a:pt x="633" y="36"/>
                  </a:lnTo>
                  <a:lnTo>
                    <a:pt x="666" y="60"/>
                  </a:lnTo>
                  <a:lnTo>
                    <a:pt x="695" y="88"/>
                  </a:lnTo>
                  <a:lnTo>
                    <a:pt x="723" y="119"/>
                  </a:lnTo>
                  <a:lnTo>
                    <a:pt x="746" y="153"/>
                  </a:lnTo>
                  <a:lnTo>
                    <a:pt x="767" y="189"/>
                  </a:lnTo>
                  <a:lnTo>
                    <a:pt x="785" y="229"/>
                  </a:lnTo>
                  <a:lnTo>
                    <a:pt x="799" y="270"/>
                  </a:lnTo>
                  <a:lnTo>
                    <a:pt x="811" y="315"/>
                  </a:lnTo>
                  <a:lnTo>
                    <a:pt x="820" y="361"/>
                  </a:lnTo>
                  <a:lnTo>
                    <a:pt x="826" y="408"/>
                  </a:lnTo>
                  <a:lnTo>
                    <a:pt x="0" y="408"/>
                  </a:lnTo>
                  <a:lnTo>
                    <a:pt x="7" y="361"/>
                  </a:lnTo>
                  <a:lnTo>
                    <a:pt x="16" y="315"/>
                  </a:lnTo>
                  <a:lnTo>
                    <a:pt x="28" y="270"/>
                  </a:lnTo>
                  <a:lnTo>
                    <a:pt x="42" y="229"/>
                  </a:lnTo>
                  <a:lnTo>
                    <a:pt x="60" y="189"/>
                  </a:lnTo>
                  <a:lnTo>
                    <a:pt x="81" y="153"/>
                  </a:lnTo>
                  <a:lnTo>
                    <a:pt x="104" y="119"/>
                  </a:lnTo>
                  <a:lnTo>
                    <a:pt x="130" y="88"/>
                  </a:lnTo>
                  <a:lnTo>
                    <a:pt x="160" y="60"/>
                  </a:lnTo>
                  <a:lnTo>
                    <a:pt x="193" y="36"/>
                  </a:lnTo>
                  <a:lnTo>
                    <a:pt x="229" y="16"/>
                  </a:lnTo>
                  <a:lnTo>
                    <a:pt x="269"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6" name="Freeform 29"/>
            <p:cNvSpPr/>
            <p:nvPr/>
          </p:nvSpPr>
          <p:spPr>
            <a:xfrm>
              <a:off x="3935520" y="5813280"/>
              <a:ext cx="560160" cy="106200"/>
            </a:xfrm>
            <a:custGeom>
              <a:avLst/>
              <a:gdLst/>
              <a:ahLst/>
              <a:rect l="l" t="t" r="r" b="b"/>
              <a:pathLst>
                <a:path w="984" h="186">
                  <a:moveTo>
                    <a:pt x="21" y="0"/>
                  </a:moveTo>
                  <a:lnTo>
                    <a:pt x="964" y="0"/>
                  </a:lnTo>
                  <a:lnTo>
                    <a:pt x="975" y="2"/>
                  </a:lnTo>
                  <a:lnTo>
                    <a:pt x="982" y="10"/>
                  </a:lnTo>
                  <a:lnTo>
                    <a:pt x="984" y="21"/>
                  </a:lnTo>
                  <a:lnTo>
                    <a:pt x="984" y="165"/>
                  </a:lnTo>
                  <a:lnTo>
                    <a:pt x="982" y="176"/>
                  </a:lnTo>
                  <a:lnTo>
                    <a:pt x="975" y="184"/>
                  </a:lnTo>
                  <a:lnTo>
                    <a:pt x="964" y="186"/>
                  </a:lnTo>
                  <a:lnTo>
                    <a:pt x="21" y="186"/>
                  </a:lnTo>
                  <a:lnTo>
                    <a:pt x="11" y="184"/>
                  </a:lnTo>
                  <a:lnTo>
                    <a:pt x="3" y="176"/>
                  </a:lnTo>
                  <a:lnTo>
                    <a:pt x="0" y="165"/>
                  </a:lnTo>
                  <a:lnTo>
                    <a:pt x="0" y="21"/>
                  </a:lnTo>
                  <a:lnTo>
                    <a:pt x="3" y="10"/>
                  </a:lnTo>
                  <a:lnTo>
                    <a:pt x="11" y="2"/>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7" name="Freeform 30"/>
            <p:cNvSpPr/>
            <p:nvPr/>
          </p:nvSpPr>
          <p:spPr>
            <a:xfrm>
              <a:off x="3935520" y="5742000"/>
              <a:ext cx="217440" cy="41040"/>
            </a:xfrm>
            <a:custGeom>
              <a:avLst/>
              <a:gdLst/>
              <a:ahLst/>
              <a:rect l="l" t="t" r="r" b="b"/>
              <a:pathLst>
                <a:path w="381" h="71">
                  <a:moveTo>
                    <a:pt x="8" y="0"/>
                  </a:moveTo>
                  <a:lnTo>
                    <a:pt x="373" y="0"/>
                  </a:lnTo>
                  <a:lnTo>
                    <a:pt x="376" y="0"/>
                  </a:lnTo>
                  <a:lnTo>
                    <a:pt x="378" y="2"/>
                  </a:lnTo>
                  <a:lnTo>
                    <a:pt x="379" y="4"/>
                  </a:lnTo>
                  <a:lnTo>
                    <a:pt x="381" y="7"/>
                  </a:lnTo>
                  <a:lnTo>
                    <a:pt x="381" y="63"/>
                  </a:lnTo>
                  <a:lnTo>
                    <a:pt x="379" y="67"/>
                  </a:lnTo>
                  <a:lnTo>
                    <a:pt x="378" y="69"/>
                  </a:lnTo>
                  <a:lnTo>
                    <a:pt x="376" y="71"/>
                  </a:lnTo>
                  <a:lnTo>
                    <a:pt x="373" y="71"/>
                  </a:lnTo>
                  <a:lnTo>
                    <a:pt x="8" y="71"/>
                  </a:lnTo>
                  <a:lnTo>
                    <a:pt x="5" y="71"/>
                  </a:lnTo>
                  <a:lnTo>
                    <a:pt x="2" y="69"/>
                  </a:lnTo>
                  <a:lnTo>
                    <a:pt x="1" y="67"/>
                  </a:lnTo>
                  <a:lnTo>
                    <a:pt x="0" y="63"/>
                  </a:lnTo>
                  <a:lnTo>
                    <a:pt x="0" y="7"/>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4320" bIns="-4320" anchor="t">
              <a:noAutofit/>
            </a:bodyPr>
            <a:p>
              <a:endParaRPr b="0" lang="en-US" sz="1800" spc="-1" strike="noStrike">
                <a:solidFill>
                  <a:srgbClr val="000000"/>
                </a:solidFill>
                <a:latin typeface="Gill Sans MT"/>
              </a:endParaRPr>
            </a:p>
          </p:txBody>
        </p:sp>
        <p:sp>
          <p:nvSpPr>
            <p:cNvPr id="848" name="Freeform 31"/>
            <p:cNvSpPr/>
            <p:nvPr/>
          </p:nvSpPr>
          <p:spPr>
            <a:xfrm>
              <a:off x="3935520" y="5578560"/>
              <a:ext cx="560160" cy="106200"/>
            </a:xfrm>
            <a:custGeom>
              <a:avLst/>
              <a:gdLst/>
              <a:ahLst/>
              <a:rect l="l" t="t" r="r" b="b"/>
              <a:pathLst>
                <a:path w="984" h="187">
                  <a:moveTo>
                    <a:pt x="21" y="0"/>
                  </a:moveTo>
                  <a:lnTo>
                    <a:pt x="964" y="0"/>
                  </a:lnTo>
                  <a:lnTo>
                    <a:pt x="975" y="3"/>
                  </a:lnTo>
                  <a:lnTo>
                    <a:pt x="982" y="11"/>
                  </a:lnTo>
                  <a:lnTo>
                    <a:pt x="984" y="21"/>
                  </a:lnTo>
                  <a:lnTo>
                    <a:pt x="984" y="166"/>
                  </a:lnTo>
                  <a:lnTo>
                    <a:pt x="982" y="177"/>
                  </a:lnTo>
                  <a:lnTo>
                    <a:pt x="975" y="184"/>
                  </a:lnTo>
                  <a:lnTo>
                    <a:pt x="964" y="187"/>
                  </a:lnTo>
                  <a:lnTo>
                    <a:pt x="21" y="187"/>
                  </a:lnTo>
                  <a:lnTo>
                    <a:pt x="11" y="184"/>
                  </a:lnTo>
                  <a:lnTo>
                    <a:pt x="3" y="177"/>
                  </a:lnTo>
                  <a:lnTo>
                    <a:pt x="0" y="166"/>
                  </a:lnTo>
                  <a:lnTo>
                    <a:pt x="0" y="21"/>
                  </a:lnTo>
                  <a:lnTo>
                    <a:pt x="3" y="11"/>
                  </a:lnTo>
                  <a:lnTo>
                    <a:pt x="11" y="3"/>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9" name="Freeform 32"/>
            <p:cNvSpPr/>
            <p:nvPr/>
          </p:nvSpPr>
          <p:spPr>
            <a:xfrm>
              <a:off x="3935520" y="5508360"/>
              <a:ext cx="217440" cy="39600"/>
            </a:xfrm>
            <a:custGeom>
              <a:avLst/>
              <a:gdLst/>
              <a:ahLst/>
              <a:rect l="l" t="t" r="r" b="b"/>
              <a:pathLst>
                <a:path w="381" h="71">
                  <a:moveTo>
                    <a:pt x="8" y="0"/>
                  </a:moveTo>
                  <a:lnTo>
                    <a:pt x="373" y="0"/>
                  </a:lnTo>
                  <a:lnTo>
                    <a:pt x="376" y="0"/>
                  </a:lnTo>
                  <a:lnTo>
                    <a:pt x="378" y="2"/>
                  </a:lnTo>
                  <a:lnTo>
                    <a:pt x="379" y="4"/>
                  </a:lnTo>
                  <a:lnTo>
                    <a:pt x="381" y="8"/>
                  </a:lnTo>
                  <a:lnTo>
                    <a:pt x="381" y="64"/>
                  </a:lnTo>
                  <a:lnTo>
                    <a:pt x="379" y="67"/>
                  </a:lnTo>
                  <a:lnTo>
                    <a:pt x="378" y="69"/>
                  </a:lnTo>
                  <a:lnTo>
                    <a:pt x="376" y="71"/>
                  </a:lnTo>
                  <a:lnTo>
                    <a:pt x="373" y="71"/>
                  </a:lnTo>
                  <a:lnTo>
                    <a:pt x="8" y="71"/>
                  </a:lnTo>
                  <a:lnTo>
                    <a:pt x="5" y="71"/>
                  </a:lnTo>
                  <a:lnTo>
                    <a:pt x="2" y="69"/>
                  </a:lnTo>
                  <a:lnTo>
                    <a:pt x="1" y="67"/>
                  </a:lnTo>
                  <a:lnTo>
                    <a:pt x="0" y="64"/>
                  </a:lnTo>
                  <a:lnTo>
                    <a:pt x="0" y="8"/>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5760" bIns="-5760" anchor="t">
              <a:noAutofit/>
            </a:bodyPr>
            <a:p>
              <a:endParaRPr b="0" lang="en-US" sz="1800" spc="-1" strike="noStrike">
                <a:solidFill>
                  <a:srgbClr val="000000"/>
                </a:solidFill>
                <a:latin typeface="Gill Sans MT"/>
              </a:endParaRPr>
            </a:p>
          </p:txBody>
        </p:sp>
        <p:sp>
          <p:nvSpPr>
            <p:cNvPr id="850" name="Freeform 33"/>
            <p:cNvSpPr/>
            <p:nvPr/>
          </p:nvSpPr>
          <p:spPr>
            <a:xfrm>
              <a:off x="4160880" y="5019480"/>
              <a:ext cx="663480" cy="422280"/>
            </a:xfrm>
            <a:custGeom>
              <a:avLst/>
              <a:gdLst/>
              <a:ahLst/>
              <a:rect l="l" t="t" r="r" b="b"/>
              <a:pathLst>
                <a:path w="1166" h="740">
                  <a:moveTo>
                    <a:pt x="38" y="0"/>
                  </a:moveTo>
                  <a:lnTo>
                    <a:pt x="1127" y="0"/>
                  </a:lnTo>
                  <a:lnTo>
                    <a:pt x="1142" y="4"/>
                  </a:lnTo>
                  <a:lnTo>
                    <a:pt x="1155" y="11"/>
                  </a:lnTo>
                  <a:lnTo>
                    <a:pt x="1163" y="23"/>
                  </a:lnTo>
                  <a:lnTo>
                    <a:pt x="1166" y="39"/>
                  </a:lnTo>
                  <a:lnTo>
                    <a:pt x="1166" y="702"/>
                  </a:lnTo>
                  <a:lnTo>
                    <a:pt x="1163" y="717"/>
                  </a:lnTo>
                  <a:lnTo>
                    <a:pt x="1155" y="729"/>
                  </a:lnTo>
                  <a:lnTo>
                    <a:pt x="1142" y="738"/>
                  </a:lnTo>
                  <a:lnTo>
                    <a:pt x="1127" y="740"/>
                  </a:lnTo>
                  <a:lnTo>
                    <a:pt x="38" y="740"/>
                  </a:lnTo>
                  <a:lnTo>
                    <a:pt x="23" y="738"/>
                  </a:lnTo>
                  <a:lnTo>
                    <a:pt x="11" y="729"/>
                  </a:lnTo>
                  <a:lnTo>
                    <a:pt x="2" y="717"/>
                  </a:lnTo>
                  <a:lnTo>
                    <a:pt x="0" y="702"/>
                  </a:lnTo>
                  <a:lnTo>
                    <a:pt x="0" y="39"/>
                  </a:lnTo>
                  <a:lnTo>
                    <a:pt x="2" y="23"/>
                  </a:lnTo>
                  <a:lnTo>
                    <a:pt x="11" y="11"/>
                  </a:lnTo>
                  <a:lnTo>
                    <a:pt x="23" y="4"/>
                  </a:lnTo>
                  <a:lnTo>
                    <a:pt x="3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1" name="Rectangle 34"/>
            <p:cNvSpPr/>
            <p:nvPr/>
          </p:nvSpPr>
          <p:spPr>
            <a:xfrm>
              <a:off x="4160880" y="5316480"/>
              <a:ext cx="663480" cy="79200"/>
            </a:xfrm>
            <a:prstGeom prst="rect">
              <a:avLst/>
            </a:prstGeom>
            <a:solidFill>
              <a:srgbClr val="42955f"/>
            </a:solidFill>
            <a:ln w="0">
              <a:noFill/>
            </a:ln>
          </p:spPr>
          <p:style>
            <a:lnRef idx="0"/>
            <a:fillRef idx="0"/>
            <a:effectRef idx="0"/>
            <a:fontRef idx="minor"/>
          </p:style>
          <p:txBody>
            <a:bodyPr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2" name="Freeform 35"/>
            <p:cNvSpPr/>
            <p:nvPr/>
          </p:nvSpPr>
          <p:spPr>
            <a:xfrm>
              <a:off x="4201920" y="5059080"/>
              <a:ext cx="150480" cy="107640"/>
            </a:xfrm>
            <a:custGeom>
              <a:avLst/>
              <a:gdLst/>
              <a:ahLst/>
              <a:rect l="l" t="t" r="r" b="b"/>
              <a:pathLst>
                <a:path w="265" h="189">
                  <a:moveTo>
                    <a:pt x="22" y="0"/>
                  </a:moveTo>
                  <a:lnTo>
                    <a:pt x="245" y="0"/>
                  </a:lnTo>
                  <a:lnTo>
                    <a:pt x="256" y="3"/>
                  </a:lnTo>
                  <a:lnTo>
                    <a:pt x="263" y="11"/>
                  </a:lnTo>
                  <a:lnTo>
                    <a:pt x="265" y="21"/>
                  </a:lnTo>
                  <a:lnTo>
                    <a:pt x="265" y="168"/>
                  </a:lnTo>
                  <a:lnTo>
                    <a:pt x="263" y="179"/>
                  </a:lnTo>
                  <a:lnTo>
                    <a:pt x="256" y="187"/>
                  </a:lnTo>
                  <a:lnTo>
                    <a:pt x="245" y="189"/>
                  </a:lnTo>
                  <a:lnTo>
                    <a:pt x="22" y="189"/>
                  </a:lnTo>
                  <a:lnTo>
                    <a:pt x="11" y="187"/>
                  </a:lnTo>
                  <a:lnTo>
                    <a:pt x="4" y="179"/>
                  </a:lnTo>
                  <a:lnTo>
                    <a:pt x="0" y="168"/>
                  </a:lnTo>
                  <a:lnTo>
                    <a:pt x="0" y="21"/>
                  </a:lnTo>
                  <a:lnTo>
                    <a:pt x="4" y="11"/>
                  </a:lnTo>
                  <a:lnTo>
                    <a:pt x="11" y="3"/>
                  </a:lnTo>
                  <a:lnTo>
                    <a:pt x="22"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53" name="Group 283"/>
          <p:cNvGrpSpPr/>
          <p:nvPr/>
        </p:nvGrpSpPr>
        <p:grpSpPr>
          <a:xfrm>
            <a:off x="7205760" y="4791240"/>
            <a:ext cx="1930320" cy="1625400"/>
            <a:chOff x="7205760" y="4791240"/>
            <a:chExt cx="1930320" cy="1625400"/>
          </a:xfrm>
        </p:grpSpPr>
        <p:sp>
          <p:nvSpPr>
            <p:cNvPr id="854" name="Freeform 8"/>
            <p:cNvSpPr/>
            <p:nvPr/>
          </p:nvSpPr>
          <p:spPr>
            <a:xfrm>
              <a:off x="7978680" y="6169320"/>
              <a:ext cx="565200" cy="247320"/>
            </a:xfrm>
            <a:custGeom>
              <a:avLst/>
              <a:gdLst/>
              <a:ahLst/>
              <a:rect l="l" t="t" r="r" b="b"/>
              <a:pathLst>
                <a:path w="1524" h="669">
                  <a:moveTo>
                    <a:pt x="368" y="0"/>
                  </a:moveTo>
                  <a:lnTo>
                    <a:pt x="1154" y="0"/>
                  </a:lnTo>
                  <a:lnTo>
                    <a:pt x="1524" y="669"/>
                  </a:lnTo>
                  <a:lnTo>
                    <a:pt x="0" y="669"/>
                  </a:lnTo>
                  <a:lnTo>
                    <a:pt x="36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5" name="Freeform 9"/>
            <p:cNvSpPr/>
            <p:nvPr/>
          </p:nvSpPr>
          <p:spPr>
            <a:xfrm>
              <a:off x="7504200" y="5100480"/>
              <a:ext cx="1513080" cy="1131840"/>
            </a:xfrm>
            <a:custGeom>
              <a:avLst/>
              <a:gdLst/>
              <a:ahLst/>
              <a:rect l="l" t="t" r="r" b="b"/>
              <a:pathLst>
                <a:path w="4088" h="3056">
                  <a:moveTo>
                    <a:pt x="190" y="0"/>
                  </a:moveTo>
                  <a:lnTo>
                    <a:pt x="3898" y="0"/>
                  </a:lnTo>
                  <a:lnTo>
                    <a:pt x="3943" y="6"/>
                  </a:lnTo>
                  <a:lnTo>
                    <a:pt x="3982" y="19"/>
                  </a:lnTo>
                  <a:lnTo>
                    <a:pt x="4018" y="41"/>
                  </a:lnTo>
                  <a:lnTo>
                    <a:pt x="4046" y="71"/>
                  </a:lnTo>
                  <a:lnTo>
                    <a:pt x="4069" y="107"/>
                  </a:lnTo>
                  <a:lnTo>
                    <a:pt x="4084" y="147"/>
                  </a:lnTo>
                  <a:lnTo>
                    <a:pt x="4088" y="190"/>
                  </a:lnTo>
                  <a:lnTo>
                    <a:pt x="4088" y="2865"/>
                  </a:lnTo>
                  <a:lnTo>
                    <a:pt x="4084" y="2909"/>
                  </a:lnTo>
                  <a:lnTo>
                    <a:pt x="4069" y="2948"/>
                  </a:lnTo>
                  <a:lnTo>
                    <a:pt x="4046" y="2984"/>
                  </a:lnTo>
                  <a:lnTo>
                    <a:pt x="4018" y="3014"/>
                  </a:lnTo>
                  <a:lnTo>
                    <a:pt x="3982" y="3037"/>
                  </a:lnTo>
                  <a:lnTo>
                    <a:pt x="3943" y="3050"/>
                  </a:lnTo>
                  <a:lnTo>
                    <a:pt x="3898" y="3056"/>
                  </a:lnTo>
                  <a:lnTo>
                    <a:pt x="190" y="3056"/>
                  </a:lnTo>
                  <a:lnTo>
                    <a:pt x="147" y="3050"/>
                  </a:lnTo>
                  <a:lnTo>
                    <a:pt x="106" y="3037"/>
                  </a:lnTo>
                  <a:lnTo>
                    <a:pt x="72" y="3014"/>
                  </a:lnTo>
                  <a:lnTo>
                    <a:pt x="42" y="2984"/>
                  </a:lnTo>
                  <a:lnTo>
                    <a:pt x="19" y="2948"/>
                  </a:lnTo>
                  <a:lnTo>
                    <a:pt x="6" y="2909"/>
                  </a:lnTo>
                  <a:lnTo>
                    <a:pt x="0" y="2865"/>
                  </a:lnTo>
                  <a:lnTo>
                    <a:pt x="0" y="190"/>
                  </a:lnTo>
                  <a:lnTo>
                    <a:pt x="6" y="147"/>
                  </a:lnTo>
                  <a:lnTo>
                    <a:pt x="19" y="107"/>
                  </a:lnTo>
                  <a:lnTo>
                    <a:pt x="42" y="71"/>
                  </a:lnTo>
                  <a:lnTo>
                    <a:pt x="72" y="41"/>
                  </a:lnTo>
                  <a:lnTo>
                    <a:pt x="106" y="19"/>
                  </a:lnTo>
                  <a:lnTo>
                    <a:pt x="147" y="6"/>
                  </a:lnTo>
                  <a:lnTo>
                    <a:pt x="19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6" name="Freeform 10"/>
            <p:cNvSpPr/>
            <p:nvPr/>
          </p:nvSpPr>
          <p:spPr>
            <a:xfrm>
              <a:off x="8923680" y="6161040"/>
              <a:ext cx="17280" cy="17280"/>
            </a:xfrm>
            <a:custGeom>
              <a:avLst/>
              <a:gdLst/>
              <a:ahLst/>
              <a:rect l="l" t="t" r="r" b="b"/>
              <a:pathLst>
                <a:path w="49" h="49">
                  <a:moveTo>
                    <a:pt x="24" y="0"/>
                  </a:moveTo>
                  <a:lnTo>
                    <a:pt x="32" y="0"/>
                  </a:lnTo>
                  <a:lnTo>
                    <a:pt x="39" y="3"/>
                  </a:lnTo>
                  <a:lnTo>
                    <a:pt x="43" y="9"/>
                  </a:lnTo>
                  <a:lnTo>
                    <a:pt x="47" y="17"/>
                  </a:lnTo>
                  <a:lnTo>
                    <a:pt x="49" y="24"/>
                  </a:lnTo>
                  <a:lnTo>
                    <a:pt x="47" y="32"/>
                  </a:lnTo>
                  <a:lnTo>
                    <a:pt x="43" y="37"/>
                  </a:lnTo>
                  <a:lnTo>
                    <a:pt x="39"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7" name="Freeform 11"/>
            <p:cNvSpPr/>
            <p:nvPr/>
          </p:nvSpPr>
          <p:spPr>
            <a:xfrm>
              <a:off x="8886960" y="6161040"/>
              <a:ext cx="18720" cy="17280"/>
            </a:xfrm>
            <a:custGeom>
              <a:avLst/>
              <a:gdLst/>
              <a:ahLst/>
              <a:rect l="l" t="t" r="r" b="b"/>
              <a:pathLst>
                <a:path w="49" h="49">
                  <a:moveTo>
                    <a:pt x="24" y="0"/>
                  </a:moveTo>
                  <a:lnTo>
                    <a:pt x="32" y="0"/>
                  </a:lnTo>
                  <a:lnTo>
                    <a:pt x="38" y="3"/>
                  </a:lnTo>
                  <a:lnTo>
                    <a:pt x="43" y="9"/>
                  </a:lnTo>
                  <a:lnTo>
                    <a:pt x="47" y="17"/>
                  </a:lnTo>
                  <a:lnTo>
                    <a:pt x="49" y="24"/>
                  </a:lnTo>
                  <a:lnTo>
                    <a:pt x="47" y="32"/>
                  </a:lnTo>
                  <a:lnTo>
                    <a:pt x="43" y="37"/>
                  </a:lnTo>
                  <a:lnTo>
                    <a:pt x="38"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8" name="Freeform 12"/>
            <p:cNvSpPr/>
            <p:nvPr/>
          </p:nvSpPr>
          <p:spPr>
            <a:xfrm>
              <a:off x="8850600" y="6161040"/>
              <a:ext cx="18720" cy="17280"/>
            </a:xfrm>
            <a:custGeom>
              <a:avLst/>
              <a:gdLst/>
              <a:ahLst/>
              <a:rect l="l" t="t" r="r" b="b"/>
              <a:pathLst>
                <a:path w="51" h="49">
                  <a:moveTo>
                    <a:pt x="25" y="0"/>
                  </a:moveTo>
                  <a:lnTo>
                    <a:pt x="34" y="0"/>
                  </a:lnTo>
                  <a:lnTo>
                    <a:pt x="40" y="3"/>
                  </a:lnTo>
                  <a:lnTo>
                    <a:pt x="45" y="9"/>
                  </a:lnTo>
                  <a:lnTo>
                    <a:pt x="49" y="17"/>
                  </a:lnTo>
                  <a:lnTo>
                    <a:pt x="51" y="24"/>
                  </a:lnTo>
                  <a:lnTo>
                    <a:pt x="49" y="32"/>
                  </a:lnTo>
                  <a:lnTo>
                    <a:pt x="45" y="37"/>
                  </a:lnTo>
                  <a:lnTo>
                    <a:pt x="40" y="43"/>
                  </a:lnTo>
                  <a:lnTo>
                    <a:pt x="34" y="47"/>
                  </a:lnTo>
                  <a:lnTo>
                    <a:pt x="25" y="49"/>
                  </a:lnTo>
                  <a:lnTo>
                    <a:pt x="17" y="47"/>
                  </a:lnTo>
                  <a:lnTo>
                    <a:pt x="11" y="43"/>
                  </a:lnTo>
                  <a:lnTo>
                    <a:pt x="6" y="37"/>
                  </a:lnTo>
                  <a:lnTo>
                    <a:pt x="2" y="32"/>
                  </a:lnTo>
                  <a:lnTo>
                    <a:pt x="0" y="24"/>
                  </a:lnTo>
                  <a:lnTo>
                    <a:pt x="2" y="17"/>
                  </a:lnTo>
                  <a:lnTo>
                    <a:pt x="6" y="9"/>
                  </a:lnTo>
                  <a:lnTo>
                    <a:pt x="11" y="3"/>
                  </a:lnTo>
                  <a:lnTo>
                    <a:pt x="17" y="0"/>
                  </a:lnTo>
                  <a:lnTo>
                    <a:pt x="25"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9" name="Freeform 13"/>
            <p:cNvSpPr/>
            <p:nvPr/>
          </p:nvSpPr>
          <p:spPr>
            <a:xfrm>
              <a:off x="7385040" y="6342120"/>
              <a:ext cx="1751040" cy="74520"/>
            </a:xfrm>
            <a:custGeom>
              <a:avLst/>
              <a:gdLst/>
              <a:ahLst/>
              <a:rect l="l" t="t" r="r" b="b"/>
              <a:pathLst>
                <a:path w="4728" h="202">
                  <a:moveTo>
                    <a:pt x="100" y="0"/>
                  </a:moveTo>
                  <a:lnTo>
                    <a:pt x="4627" y="0"/>
                  </a:lnTo>
                  <a:lnTo>
                    <a:pt x="4659" y="6"/>
                  </a:lnTo>
                  <a:lnTo>
                    <a:pt x="4687" y="19"/>
                  </a:lnTo>
                  <a:lnTo>
                    <a:pt x="4707" y="41"/>
                  </a:lnTo>
                  <a:lnTo>
                    <a:pt x="4722" y="70"/>
                  </a:lnTo>
                  <a:lnTo>
                    <a:pt x="4728" y="102"/>
                  </a:lnTo>
                  <a:lnTo>
                    <a:pt x="4722" y="132"/>
                  </a:lnTo>
                  <a:lnTo>
                    <a:pt x="4707" y="160"/>
                  </a:lnTo>
                  <a:lnTo>
                    <a:pt x="4687" y="183"/>
                  </a:lnTo>
                  <a:lnTo>
                    <a:pt x="4659" y="196"/>
                  </a:lnTo>
                  <a:lnTo>
                    <a:pt x="4627" y="202"/>
                  </a:lnTo>
                  <a:lnTo>
                    <a:pt x="100" y="202"/>
                  </a:lnTo>
                  <a:lnTo>
                    <a:pt x="68" y="196"/>
                  </a:lnTo>
                  <a:lnTo>
                    <a:pt x="41" y="183"/>
                  </a:lnTo>
                  <a:lnTo>
                    <a:pt x="19" y="160"/>
                  </a:lnTo>
                  <a:lnTo>
                    <a:pt x="4" y="132"/>
                  </a:lnTo>
                  <a:lnTo>
                    <a:pt x="0" y="102"/>
                  </a:lnTo>
                  <a:lnTo>
                    <a:pt x="4" y="70"/>
                  </a:lnTo>
                  <a:lnTo>
                    <a:pt x="19" y="41"/>
                  </a:lnTo>
                  <a:lnTo>
                    <a:pt x="41" y="19"/>
                  </a:lnTo>
                  <a:lnTo>
                    <a:pt x="68" y="6"/>
                  </a:lnTo>
                  <a:lnTo>
                    <a:pt x="100" y="0"/>
                  </a:lnTo>
                  <a:close/>
                </a:path>
              </a:pathLst>
            </a:custGeom>
            <a:solidFill>
              <a:srgbClr val="4590b8"/>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860" name="Freeform 14"/>
            <p:cNvSpPr/>
            <p:nvPr/>
          </p:nvSpPr>
          <p:spPr>
            <a:xfrm>
              <a:off x="7385040" y="6380280"/>
              <a:ext cx="1751040" cy="36360"/>
            </a:xfrm>
            <a:custGeom>
              <a:avLst/>
              <a:gdLst/>
              <a:ahLst/>
              <a:rect l="l" t="t" r="r" b="b"/>
              <a:pathLst>
                <a:path w="4728" h="100">
                  <a:moveTo>
                    <a:pt x="0" y="0"/>
                  </a:moveTo>
                  <a:lnTo>
                    <a:pt x="4728" y="0"/>
                  </a:lnTo>
                  <a:lnTo>
                    <a:pt x="4722" y="30"/>
                  </a:lnTo>
                  <a:lnTo>
                    <a:pt x="4707" y="58"/>
                  </a:lnTo>
                  <a:lnTo>
                    <a:pt x="4687" y="81"/>
                  </a:lnTo>
                  <a:lnTo>
                    <a:pt x="4659" y="94"/>
                  </a:lnTo>
                  <a:lnTo>
                    <a:pt x="4627" y="100"/>
                  </a:lnTo>
                  <a:lnTo>
                    <a:pt x="100" y="100"/>
                  </a:lnTo>
                  <a:lnTo>
                    <a:pt x="68" y="94"/>
                  </a:lnTo>
                  <a:lnTo>
                    <a:pt x="41" y="81"/>
                  </a:lnTo>
                  <a:lnTo>
                    <a:pt x="19" y="58"/>
                  </a:lnTo>
                  <a:lnTo>
                    <a:pt x="4" y="30"/>
                  </a:lnTo>
                  <a:lnTo>
                    <a:pt x="0" y="0"/>
                  </a:lnTo>
                  <a:close/>
                </a:path>
              </a:pathLst>
            </a:custGeom>
            <a:solidFill>
              <a:srgbClr val="45cbe8"/>
            </a:solidFill>
            <a:ln w="0">
              <a:noFill/>
            </a:ln>
          </p:spPr>
          <p:style>
            <a:lnRef idx="0"/>
            <a:fillRef idx="0"/>
            <a:effectRef idx="0"/>
            <a:fontRef idx="minor"/>
          </p:style>
          <p:txBody>
            <a:bodyPr lIns="91080" rIns="91080" tIns="-9000" bIns="-9000" anchor="t">
              <a:noAutofit/>
            </a:bodyPr>
            <a:p>
              <a:endParaRPr b="0" lang="en-US" sz="1800" spc="-1" strike="noStrike">
                <a:solidFill>
                  <a:srgbClr val="000000"/>
                </a:solidFill>
                <a:latin typeface="Gill Sans MT"/>
              </a:endParaRPr>
            </a:p>
          </p:txBody>
        </p:sp>
        <p:sp>
          <p:nvSpPr>
            <p:cNvPr id="861" name="Rectangle 15"/>
            <p:cNvSpPr/>
            <p:nvPr/>
          </p:nvSpPr>
          <p:spPr>
            <a:xfrm>
              <a:off x="7550280" y="5141880"/>
              <a:ext cx="1420920" cy="9651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2" name="Freeform 16"/>
            <p:cNvSpPr/>
            <p:nvPr/>
          </p:nvSpPr>
          <p:spPr>
            <a:xfrm>
              <a:off x="7907400" y="5234040"/>
              <a:ext cx="681120" cy="680760"/>
            </a:xfrm>
            <a:custGeom>
              <a:avLst/>
              <a:gdLst/>
              <a:ahLst/>
              <a:rect l="l" t="t" r="r" b="b"/>
              <a:pathLst>
                <a:path w="1839" h="1843">
                  <a:moveTo>
                    <a:pt x="919" y="335"/>
                  </a:moveTo>
                  <a:lnTo>
                    <a:pt x="844" y="340"/>
                  </a:lnTo>
                  <a:lnTo>
                    <a:pt x="771" y="354"/>
                  </a:lnTo>
                  <a:lnTo>
                    <a:pt x="701" y="376"/>
                  </a:lnTo>
                  <a:lnTo>
                    <a:pt x="635" y="408"/>
                  </a:lnTo>
                  <a:lnTo>
                    <a:pt x="573" y="448"/>
                  </a:lnTo>
                  <a:lnTo>
                    <a:pt x="517" y="495"/>
                  </a:lnTo>
                  <a:lnTo>
                    <a:pt x="466" y="549"/>
                  </a:lnTo>
                  <a:lnTo>
                    <a:pt x="423" y="610"/>
                  </a:lnTo>
                  <a:lnTo>
                    <a:pt x="385" y="677"/>
                  </a:lnTo>
                  <a:lnTo>
                    <a:pt x="359" y="751"/>
                  </a:lnTo>
                  <a:lnTo>
                    <a:pt x="342" y="822"/>
                  </a:lnTo>
                  <a:lnTo>
                    <a:pt x="333" y="894"/>
                  </a:lnTo>
                  <a:lnTo>
                    <a:pt x="335" y="965"/>
                  </a:lnTo>
                  <a:lnTo>
                    <a:pt x="344" y="1035"/>
                  </a:lnTo>
                  <a:lnTo>
                    <a:pt x="361" y="1103"/>
                  </a:lnTo>
                  <a:lnTo>
                    <a:pt x="387" y="1167"/>
                  </a:lnTo>
                  <a:lnTo>
                    <a:pt x="419" y="1227"/>
                  </a:lnTo>
                  <a:lnTo>
                    <a:pt x="459" y="1286"/>
                  </a:lnTo>
                  <a:lnTo>
                    <a:pt x="506" y="1336"/>
                  </a:lnTo>
                  <a:lnTo>
                    <a:pt x="558" y="1383"/>
                  </a:lnTo>
                  <a:lnTo>
                    <a:pt x="617" y="1423"/>
                  </a:lnTo>
                  <a:lnTo>
                    <a:pt x="681" y="1457"/>
                  </a:lnTo>
                  <a:lnTo>
                    <a:pt x="748" y="1483"/>
                  </a:lnTo>
                  <a:lnTo>
                    <a:pt x="835" y="1502"/>
                  </a:lnTo>
                  <a:lnTo>
                    <a:pt x="919" y="1508"/>
                  </a:lnTo>
                  <a:lnTo>
                    <a:pt x="995" y="1504"/>
                  </a:lnTo>
                  <a:lnTo>
                    <a:pt x="1066" y="1489"/>
                  </a:lnTo>
                  <a:lnTo>
                    <a:pt x="1136" y="1466"/>
                  </a:lnTo>
                  <a:lnTo>
                    <a:pt x="1203" y="1434"/>
                  </a:lnTo>
                  <a:lnTo>
                    <a:pt x="1265" y="1395"/>
                  </a:lnTo>
                  <a:lnTo>
                    <a:pt x="1322" y="1348"/>
                  </a:lnTo>
                  <a:lnTo>
                    <a:pt x="1372" y="1293"/>
                  </a:lnTo>
                  <a:lnTo>
                    <a:pt x="1416" y="1233"/>
                  </a:lnTo>
                  <a:lnTo>
                    <a:pt x="1451" y="1165"/>
                  </a:lnTo>
                  <a:lnTo>
                    <a:pt x="1480" y="1092"/>
                  </a:lnTo>
                  <a:lnTo>
                    <a:pt x="1496" y="1020"/>
                  </a:lnTo>
                  <a:lnTo>
                    <a:pt x="1504" y="949"/>
                  </a:lnTo>
                  <a:lnTo>
                    <a:pt x="1504" y="877"/>
                  </a:lnTo>
                  <a:lnTo>
                    <a:pt x="1495" y="809"/>
                  </a:lnTo>
                  <a:lnTo>
                    <a:pt x="1476" y="741"/>
                  </a:lnTo>
                  <a:lnTo>
                    <a:pt x="1451" y="676"/>
                  </a:lnTo>
                  <a:lnTo>
                    <a:pt x="1419" y="615"/>
                  </a:lnTo>
                  <a:lnTo>
                    <a:pt x="1380" y="559"/>
                  </a:lnTo>
                  <a:lnTo>
                    <a:pt x="1333" y="506"/>
                  </a:lnTo>
                  <a:lnTo>
                    <a:pt x="1280" y="459"/>
                  </a:lnTo>
                  <a:lnTo>
                    <a:pt x="1222" y="420"/>
                  </a:lnTo>
                  <a:lnTo>
                    <a:pt x="1158" y="386"/>
                  </a:lnTo>
                  <a:lnTo>
                    <a:pt x="1089" y="361"/>
                  </a:lnTo>
                  <a:lnTo>
                    <a:pt x="1004" y="340"/>
                  </a:lnTo>
                  <a:lnTo>
                    <a:pt x="919" y="335"/>
                  </a:lnTo>
                  <a:close/>
                  <a:moveTo>
                    <a:pt x="1047" y="0"/>
                  </a:moveTo>
                  <a:lnTo>
                    <a:pt x="1324" y="84"/>
                  </a:lnTo>
                  <a:lnTo>
                    <a:pt x="1284" y="216"/>
                  </a:lnTo>
                  <a:lnTo>
                    <a:pt x="1357" y="259"/>
                  </a:lnTo>
                  <a:lnTo>
                    <a:pt x="1423" y="308"/>
                  </a:lnTo>
                  <a:lnTo>
                    <a:pt x="1485" y="365"/>
                  </a:lnTo>
                  <a:lnTo>
                    <a:pt x="1540" y="425"/>
                  </a:lnTo>
                  <a:lnTo>
                    <a:pt x="1660" y="361"/>
                  </a:lnTo>
                  <a:lnTo>
                    <a:pt x="1797" y="617"/>
                  </a:lnTo>
                  <a:lnTo>
                    <a:pt x="1675" y="681"/>
                  </a:lnTo>
                  <a:lnTo>
                    <a:pt x="1696" y="760"/>
                  </a:lnTo>
                  <a:lnTo>
                    <a:pt x="1709" y="843"/>
                  </a:lnTo>
                  <a:lnTo>
                    <a:pt x="1713" y="926"/>
                  </a:lnTo>
                  <a:lnTo>
                    <a:pt x="1707" y="1011"/>
                  </a:lnTo>
                  <a:lnTo>
                    <a:pt x="1839" y="1050"/>
                  </a:lnTo>
                  <a:lnTo>
                    <a:pt x="1754" y="1327"/>
                  </a:lnTo>
                  <a:lnTo>
                    <a:pt x="1622" y="1287"/>
                  </a:lnTo>
                  <a:lnTo>
                    <a:pt x="1581" y="1361"/>
                  </a:lnTo>
                  <a:lnTo>
                    <a:pt x="1530" y="1427"/>
                  </a:lnTo>
                  <a:lnTo>
                    <a:pt x="1476" y="1489"/>
                  </a:lnTo>
                  <a:lnTo>
                    <a:pt x="1414" y="1542"/>
                  </a:lnTo>
                  <a:lnTo>
                    <a:pt x="1480" y="1664"/>
                  </a:lnTo>
                  <a:lnTo>
                    <a:pt x="1224" y="1800"/>
                  </a:lnTo>
                  <a:lnTo>
                    <a:pt x="1158" y="1679"/>
                  </a:lnTo>
                  <a:lnTo>
                    <a:pt x="1079" y="1700"/>
                  </a:lnTo>
                  <a:lnTo>
                    <a:pt x="1000" y="1713"/>
                  </a:lnTo>
                  <a:lnTo>
                    <a:pt x="919" y="1717"/>
                  </a:lnTo>
                  <a:lnTo>
                    <a:pt x="831" y="1711"/>
                  </a:lnTo>
                  <a:lnTo>
                    <a:pt x="791" y="1843"/>
                  </a:lnTo>
                  <a:lnTo>
                    <a:pt x="513" y="1758"/>
                  </a:lnTo>
                  <a:lnTo>
                    <a:pt x="553" y="1626"/>
                  </a:lnTo>
                  <a:lnTo>
                    <a:pt x="481" y="1585"/>
                  </a:lnTo>
                  <a:lnTo>
                    <a:pt x="414" y="1534"/>
                  </a:lnTo>
                  <a:lnTo>
                    <a:pt x="353" y="1479"/>
                  </a:lnTo>
                  <a:lnTo>
                    <a:pt x="299" y="1417"/>
                  </a:lnTo>
                  <a:lnTo>
                    <a:pt x="179" y="1481"/>
                  </a:lnTo>
                  <a:lnTo>
                    <a:pt x="41" y="1225"/>
                  </a:lnTo>
                  <a:lnTo>
                    <a:pt x="164" y="1161"/>
                  </a:lnTo>
                  <a:lnTo>
                    <a:pt x="141" y="1082"/>
                  </a:lnTo>
                  <a:lnTo>
                    <a:pt x="130" y="1001"/>
                  </a:lnTo>
                  <a:lnTo>
                    <a:pt x="126" y="917"/>
                  </a:lnTo>
                  <a:lnTo>
                    <a:pt x="130" y="834"/>
                  </a:lnTo>
                  <a:lnTo>
                    <a:pt x="0" y="794"/>
                  </a:lnTo>
                  <a:lnTo>
                    <a:pt x="83" y="516"/>
                  </a:lnTo>
                  <a:lnTo>
                    <a:pt x="214" y="555"/>
                  </a:lnTo>
                  <a:lnTo>
                    <a:pt x="258" y="484"/>
                  </a:lnTo>
                  <a:lnTo>
                    <a:pt x="306" y="416"/>
                  </a:lnTo>
                  <a:lnTo>
                    <a:pt x="363" y="355"/>
                  </a:lnTo>
                  <a:lnTo>
                    <a:pt x="423" y="301"/>
                  </a:lnTo>
                  <a:lnTo>
                    <a:pt x="359" y="180"/>
                  </a:lnTo>
                  <a:lnTo>
                    <a:pt x="615" y="43"/>
                  </a:lnTo>
                  <a:lnTo>
                    <a:pt x="679" y="163"/>
                  </a:lnTo>
                  <a:lnTo>
                    <a:pt x="758" y="145"/>
                  </a:lnTo>
                  <a:lnTo>
                    <a:pt x="837" y="131"/>
                  </a:lnTo>
                  <a:lnTo>
                    <a:pt x="919" y="128"/>
                  </a:lnTo>
                  <a:lnTo>
                    <a:pt x="1008" y="131"/>
                  </a:lnTo>
                  <a:lnTo>
                    <a:pt x="104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3" name="Freeform 17"/>
            <p:cNvSpPr/>
            <p:nvPr/>
          </p:nvSpPr>
          <p:spPr>
            <a:xfrm>
              <a:off x="7205760" y="4791240"/>
              <a:ext cx="1270080" cy="1014480"/>
            </a:xfrm>
            <a:custGeom>
              <a:avLst/>
              <a:gdLst/>
              <a:ahLst/>
              <a:rect l="l" t="t" r="r" b="b"/>
              <a:pathLst>
                <a:path w="3433" h="2739">
                  <a:moveTo>
                    <a:pt x="596" y="0"/>
                  </a:moveTo>
                  <a:lnTo>
                    <a:pt x="675" y="2"/>
                  </a:lnTo>
                  <a:lnTo>
                    <a:pt x="752" y="13"/>
                  </a:lnTo>
                  <a:lnTo>
                    <a:pt x="831" y="34"/>
                  </a:lnTo>
                  <a:lnTo>
                    <a:pt x="906" y="66"/>
                  </a:lnTo>
                  <a:lnTo>
                    <a:pt x="978" y="109"/>
                  </a:lnTo>
                  <a:lnTo>
                    <a:pt x="1036" y="155"/>
                  </a:lnTo>
                  <a:lnTo>
                    <a:pt x="1088" y="205"/>
                  </a:lnTo>
                  <a:lnTo>
                    <a:pt x="1134" y="262"/>
                  </a:lnTo>
                  <a:lnTo>
                    <a:pt x="1173" y="322"/>
                  </a:lnTo>
                  <a:lnTo>
                    <a:pt x="1203" y="386"/>
                  </a:lnTo>
                  <a:lnTo>
                    <a:pt x="1226" y="454"/>
                  </a:lnTo>
                  <a:lnTo>
                    <a:pt x="1243" y="522"/>
                  </a:lnTo>
                  <a:lnTo>
                    <a:pt x="1250" y="591"/>
                  </a:lnTo>
                  <a:lnTo>
                    <a:pt x="1250" y="663"/>
                  </a:lnTo>
                  <a:lnTo>
                    <a:pt x="1241" y="733"/>
                  </a:lnTo>
                  <a:lnTo>
                    <a:pt x="2482" y="1578"/>
                  </a:lnTo>
                  <a:lnTo>
                    <a:pt x="2551" y="1542"/>
                  </a:lnTo>
                  <a:lnTo>
                    <a:pt x="2624" y="1514"/>
                  </a:lnTo>
                  <a:lnTo>
                    <a:pt x="2702" y="1497"/>
                  </a:lnTo>
                  <a:lnTo>
                    <a:pt x="2779" y="1487"/>
                  </a:lnTo>
                  <a:lnTo>
                    <a:pt x="2858" y="1489"/>
                  </a:lnTo>
                  <a:lnTo>
                    <a:pt x="2937" y="1501"/>
                  </a:lnTo>
                  <a:lnTo>
                    <a:pt x="3012" y="1521"/>
                  </a:lnTo>
                  <a:lnTo>
                    <a:pt x="3087" y="1553"/>
                  </a:lnTo>
                  <a:lnTo>
                    <a:pt x="3158" y="1595"/>
                  </a:lnTo>
                  <a:lnTo>
                    <a:pt x="3219" y="1640"/>
                  </a:lnTo>
                  <a:lnTo>
                    <a:pt x="3269" y="1691"/>
                  </a:lnTo>
                  <a:lnTo>
                    <a:pt x="3314" y="1747"/>
                  </a:lnTo>
                  <a:lnTo>
                    <a:pt x="3354" y="1808"/>
                  </a:lnTo>
                  <a:lnTo>
                    <a:pt x="3384" y="1870"/>
                  </a:lnTo>
                  <a:lnTo>
                    <a:pt x="3407" y="1936"/>
                  </a:lnTo>
                  <a:lnTo>
                    <a:pt x="3423" y="2005"/>
                  </a:lnTo>
                  <a:lnTo>
                    <a:pt x="3431" y="2073"/>
                  </a:lnTo>
                  <a:lnTo>
                    <a:pt x="3433" y="2145"/>
                  </a:lnTo>
                  <a:lnTo>
                    <a:pt x="3140" y="1945"/>
                  </a:lnTo>
                  <a:lnTo>
                    <a:pt x="2984" y="1840"/>
                  </a:lnTo>
                  <a:lnTo>
                    <a:pt x="2814" y="1921"/>
                  </a:lnTo>
                  <a:lnTo>
                    <a:pt x="2645" y="2003"/>
                  </a:lnTo>
                  <a:lnTo>
                    <a:pt x="2645" y="2003"/>
                  </a:lnTo>
                  <a:lnTo>
                    <a:pt x="2632" y="2190"/>
                  </a:lnTo>
                  <a:lnTo>
                    <a:pt x="2617" y="2378"/>
                  </a:lnTo>
                  <a:lnTo>
                    <a:pt x="2773" y="2485"/>
                  </a:lnTo>
                  <a:lnTo>
                    <a:pt x="3064" y="2683"/>
                  </a:lnTo>
                  <a:lnTo>
                    <a:pt x="2991" y="2711"/>
                  </a:lnTo>
                  <a:lnTo>
                    <a:pt x="2916" y="2730"/>
                  </a:lnTo>
                  <a:lnTo>
                    <a:pt x="2837" y="2739"/>
                  </a:lnTo>
                  <a:lnTo>
                    <a:pt x="2758" y="2738"/>
                  </a:lnTo>
                  <a:lnTo>
                    <a:pt x="2681" y="2726"/>
                  </a:lnTo>
                  <a:lnTo>
                    <a:pt x="2602" y="2706"/>
                  </a:lnTo>
                  <a:lnTo>
                    <a:pt x="2527" y="2674"/>
                  </a:lnTo>
                  <a:lnTo>
                    <a:pt x="2455" y="2630"/>
                  </a:lnTo>
                  <a:lnTo>
                    <a:pt x="2397" y="2585"/>
                  </a:lnTo>
                  <a:lnTo>
                    <a:pt x="2344" y="2534"/>
                  </a:lnTo>
                  <a:lnTo>
                    <a:pt x="2299" y="2478"/>
                  </a:lnTo>
                  <a:lnTo>
                    <a:pt x="2260" y="2418"/>
                  </a:lnTo>
                  <a:lnTo>
                    <a:pt x="2230" y="2354"/>
                  </a:lnTo>
                  <a:lnTo>
                    <a:pt x="2207" y="2286"/>
                  </a:lnTo>
                  <a:lnTo>
                    <a:pt x="2190" y="2218"/>
                  </a:lnTo>
                  <a:lnTo>
                    <a:pt x="2183" y="2148"/>
                  </a:lnTo>
                  <a:lnTo>
                    <a:pt x="2183" y="2077"/>
                  </a:lnTo>
                  <a:lnTo>
                    <a:pt x="2192" y="2005"/>
                  </a:lnTo>
                  <a:lnTo>
                    <a:pt x="951" y="1162"/>
                  </a:lnTo>
                  <a:lnTo>
                    <a:pt x="882" y="1198"/>
                  </a:lnTo>
                  <a:lnTo>
                    <a:pt x="808" y="1226"/>
                  </a:lnTo>
                  <a:lnTo>
                    <a:pt x="731" y="1243"/>
                  </a:lnTo>
                  <a:lnTo>
                    <a:pt x="654" y="1252"/>
                  </a:lnTo>
                  <a:lnTo>
                    <a:pt x="575" y="1250"/>
                  </a:lnTo>
                  <a:lnTo>
                    <a:pt x="496" y="1239"/>
                  </a:lnTo>
                  <a:lnTo>
                    <a:pt x="419" y="1218"/>
                  </a:lnTo>
                  <a:lnTo>
                    <a:pt x="346" y="1186"/>
                  </a:lnTo>
                  <a:lnTo>
                    <a:pt x="273" y="1145"/>
                  </a:lnTo>
                  <a:lnTo>
                    <a:pt x="214" y="1098"/>
                  </a:lnTo>
                  <a:lnTo>
                    <a:pt x="162" y="1047"/>
                  </a:lnTo>
                  <a:lnTo>
                    <a:pt x="118" y="992"/>
                  </a:lnTo>
                  <a:lnTo>
                    <a:pt x="79" y="932"/>
                  </a:lnTo>
                  <a:lnTo>
                    <a:pt x="49" y="870"/>
                  </a:lnTo>
                  <a:lnTo>
                    <a:pt x="26" y="802"/>
                  </a:lnTo>
                  <a:lnTo>
                    <a:pt x="9" y="734"/>
                  </a:lnTo>
                  <a:lnTo>
                    <a:pt x="2" y="665"/>
                  </a:lnTo>
                  <a:lnTo>
                    <a:pt x="0" y="595"/>
                  </a:lnTo>
                  <a:lnTo>
                    <a:pt x="293" y="795"/>
                  </a:lnTo>
                  <a:lnTo>
                    <a:pt x="449" y="900"/>
                  </a:lnTo>
                  <a:lnTo>
                    <a:pt x="618" y="819"/>
                  </a:lnTo>
                  <a:lnTo>
                    <a:pt x="788" y="736"/>
                  </a:lnTo>
                  <a:lnTo>
                    <a:pt x="801" y="548"/>
                  </a:lnTo>
                  <a:lnTo>
                    <a:pt x="816" y="362"/>
                  </a:lnTo>
                  <a:lnTo>
                    <a:pt x="660" y="254"/>
                  </a:lnTo>
                  <a:lnTo>
                    <a:pt x="367" y="55"/>
                  </a:lnTo>
                  <a:lnTo>
                    <a:pt x="442" y="28"/>
                  </a:lnTo>
                  <a:lnTo>
                    <a:pt x="517" y="10"/>
                  </a:lnTo>
                  <a:lnTo>
                    <a:pt x="596"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4" name="Freeform 18"/>
            <p:cNvSpPr/>
            <p:nvPr/>
          </p:nvSpPr>
          <p:spPr>
            <a:xfrm>
              <a:off x="8467920" y="5533920"/>
              <a:ext cx="503280" cy="573120"/>
            </a:xfrm>
            <a:custGeom>
              <a:avLst/>
              <a:gdLst/>
              <a:ahLst/>
              <a:rect l="l" t="t" r="r" b="b"/>
              <a:pathLst>
                <a:path w="1358" h="1550">
                  <a:moveTo>
                    <a:pt x="920" y="0"/>
                  </a:moveTo>
                  <a:lnTo>
                    <a:pt x="993" y="172"/>
                  </a:lnTo>
                  <a:lnTo>
                    <a:pt x="1083" y="155"/>
                  </a:lnTo>
                  <a:lnTo>
                    <a:pt x="1173" y="145"/>
                  </a:lnTo>
                  <a:lnTo>
                    <a:pt x="1266" y="145"/>
                  </a:lnTo>
                  <a:lnTo>
                    <a:pt x="1358" y="153"/>
                  </a:lnTo>
                  <a:lnTo>
                    <a:pt x="1358" y="437"/>
                  </a:lnTo>
                  <a:lnTo>
                    <a:pt x="1275" y="428"/>
                  </a:lnTo>
                  <a:lnTo>
                    <a:pt x="1192" y="428"/>
                  </a:lnTo>
                  <a:lnTo>
                    <a:pt x="1111" y="435"/>
                  </a:lnTo>
                  <a:lnTo>
                    <a:pt x="1031" y="452"/>
                  </a:lnTo>
                  <a:lnTo>
                    <a:pt x="953" y="477"/>
                  </a:lnTo>
                  <a:lnTo>
                    <a:pt x="878" y="509"/>
                  </a:lnTo>
                  <a:lnTo>
                    <a:pt x="809" y="548"/>
                  </a:lnTo>
                  <a:lnTo>
                    <a:pt x="741" y="595"/>
                  </a:lnTo>
                  <a:lnTo>
                    <a:pt x="679" y="650"/>
                  </a:lnTo>
                  <a:lnTo>
                    <a:pt x="623" y="710"/>
                  </a:lnTo>
                  <a:lnTo>
                    <a:pt x="572" y="776"/>
                  </a:lnTo>
                  <a:lnTo>
                    <a:pt x="529" y="849"/>
                  </a:lnTo>
                  <a:lnTo>
                    <a:pt x="491" y="928"/>
                  </a:lnTo>
                  <a:lnTo>
                    <a:pt x="463" y="1019"/>
                  </a:lnTo>
                  <a:lnTo>
                    <a:pt x="444" y="1109"/>
                  </a:lnTo>
                  <a:lnTo>
                    <a:pt x="435" y="1200"/>
                  </a:lnTo>
                  <a:lnTo>
                    <a:pt x="438" y="1290"/>
                  </a:lnTo>
                  <a:lnTo>
                    <a:pt x="451" y="1380"/>
                  </a:lnTo>
                  <a:lnTo>
                    <a:pt x="472" y="1465"/>
                  </a:lnTo>
                  <a:lnTo>
                    <a:pt x="504" y="1550"/>
                  </a:lnTo>
                  <a:lnTo>
                    <a:pt x="15" y="1550"/>
                  </a:lnTo>
                  <a:lnTo>
                    <a:pt x="8" y="1535"/>
                  </a:lnTo>
                  <a:lnTo>
                    <a:pt x="181" y="1461"/>
                  </a:lnTo>
                  <a:lnTo>
                    <a:pt x="160" y="1352"/>
                  </a:lnTo>
                  <a:lnTo>
                    <a:pt x="153" y="1239"/>
                  </a:lnTo>
                  <a:lnTo>
                    <a:pt x="158" y="1126"/>
                  </a:lnTo>
                  <a:lnTo>
                    <a:pt x="173" y="1013"/>
                  </a:lnTo>
                  <a:lnTo>
                    <a:pt x="0" y="943"/>
                  </a:lnTo>
                  <a:lnTo>
                    <a:pt x="147" y="578"/>
                  </a:lnTo>
                  <a:lnTo>
                    <a:pt x="320" y="648"/>
                  </a:lnTo>
                  <a:lnTo>
                    <a:pt x="373" y="573"/>
                  </a:lnTo>
                  <a:lnTo>
                    <a:pt x="429" y="501"/>
                  </a:lnTo>
                  <a:lnTo>
                    <a:pt x="493" y="437"/>
                  </a:lnTo>
                  <a:lnTo>
                    <a:pt x="561" y="379"/>
                  </a:lnTo>
                  <a:lnTo>
                    <a:pt x="632" y="326"/>
                  </a:lnTo>
                  <a:lnTo>
                    <a:pt x="559" y="155"/>
                  </a:lnTo>
                  <a:lnTo>
                    <a:pt x="920"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5" name="Freeform 19"/>
            <p:cNvSpPr/>
            <p:nvPr/>
          </p:nvSpPr>
          <p:spPr>
            <a:xfrm>
              <a:off x="7550280" y="5664240"/>
              <a:ext cx="523800" cy="442800"/>
            </a:xfrm>
            <a:custGeom>
              <a:avLst/>
              <a:gdLst/>
              <a:ahLst/>
              <a:rect l="l" t="t" r="r" b="b"/>
              <a:pathLst>
                <a:path w="1416" h="1196">
                  <a:moveTo>
                    <a:pt x="625" y="0"/>
                  </a:moveTo>
                  <a:lnTo>
                    <a:pt x="901" y="85"/>
                  </a:lnTo>
                  <a:lnTo>
                    <a:pt x="861" y="217"/>
                  </a:lnTo>
                  <a:lnTo>
                    <a:pt x="935" y="258"/>
                  </a:lnTo>
                  <a:lnTo>
                    <a:pt x="1001" y="309"/>
                  </a:lnTo>
                  <a:lnTo>
                    <a:pt x="1063" y="364"/>
                  </a:lnTo>
                  <a:lnTo>
                    <a:pt x="1117" y="426"/>
                  </a:lnTo>
                  <a:lnTo>
                    <a:pt x="1237" y="360"/>
                  </a:lnTo>
                  <a:lnTo>
                    <a:pt x="1375" y="616"/>
                  </a:lnTo>
                  <a:lnTo>
                    <a:pt x="1253" y="682"/>
                  </a:lnTo>
                  <a:lnTo>
                    <a:pt x="1273" y="761"/>
                  </a:lnTo>
                  <a:lnTo>
                    <a:pt x="1286" y="842"/>
                  </a:lnTo>
                  <a:lnTo>
                    <a:pt x="1290" y="925"/>
                  </a:lnTo>
                  <a:lnTo>
                    <a:pt x="1284" y="1009"/>
                  </a:lnTo>
                  <a:lnTo>
                    <a:pt x="1416" y="1049"/>
                  </a:lnTo>
                  <a:lnTo>
                    <a:pt x="1373" y="1196"/>
                  </a:lnTo>
                  <a:lnTo>
                    <a:pt x="1014" y="1196"/>
                  </a:lnTo>
                  <a:lnTo>
                    <a:pt x="1038" y="1145"/>
                  </a:lnTo>
                  <a:lnTo>
                    <a:pt x="1057" y="1092"/>
                  </a:lnTo>
                  <a:lnTo>
                    <a:pt x="1074" y="1021"/>
                  </a:lnTo>
                  <a:lnTo>
                    <a:pt x="1081" y="949"/>
                  </a:lnTo>
                  <a:lnTo>
                    <a:pt x="1081" y="878"/>
                  </a:lnTo>
                  <a:lnTo>
                    <a:pt x="1072" y="808"/>
                  </a:lnTo>
                  <a:lnTo>
                    <a:pt x="1053" y="740"/>
                  </a:lnTo>
                  <a:lnTo>
                    <a:pt x="1029" y="676"/>
                  </a:lnTo>
                  <a:lnTo>
                    <a:pt x="997" y="614"/>
                  </a:lnTo>
                  <a:lnTo>
                    <a:pt x="957" y="557"/>
                  </a:lnTo>
                  <a:lnTo>
                    <a:pt x="910" y="505"/>
                  </a:lnTo>
                  <a:lnTo>
                    <a:pt x="858" y="460"/>
                  </a:lnTo>
                  <a:lnTo>
                    <a:pt x="799" y="418"/>
                  </a:lnTo>
                  <a:lnTo>
                    <a:pt x="736" y="386"/>
                  </a:lnTo>
                  <a:lnTo>
                    <a:pt x="666" y="360"/>
                  </a:lnTo>
                  <a:lnTo>
                    <a:pt x="589" y="341"/>
                  </a:lnTo>
                  <a:lnTo>
                    <a:pt x="512" y="333"/>
                  </a:lnTo>
                  <a:lnTo>
                    <a:pt x="435" y="337"/>
                  </a:lnTo>
                  <a:lnTo>
                    <a:pt x="360" y="350"/>
                  </a:lnTo>
                  <a:lnTo>
                    <a:pt x="288" y="373"/>
                  </a:lnTo>
                  <a:lnTo>
                    <a:pt x="219" y="405"/>
                  </a:lnTo>
                  <a:lnTo>
                    <a:pt x="156" y="445"/>
                  </a:lnTo>
                  <a:lnTo>
                    <a:pt x="96" y="492"/>
                  </a:lnTo>
                  <a:lnTo>
                    <a:pt x="46" y="546"/>
                  </a:lnTo>
                  <a:lnTo>
                    <a:pt x="0" y="608"/>
                  </a:lnTo>
                  <a:lnTo>
                    <a:pt x="0" y="301"/>
                  </a:lnTo>
                  <a:lnTo>
                    <a:pt x="0" y="300"/>
                  </a:lnTo>
                  <a:lnTo>
                    <a:pt x="0" y="298"/>
                  </a:lnTo>
                  <a:lnTo>
                    <a:pt x="0" y="145"/>
                  </a:lnTo>
                  <a:lnTo>
                    <a:pt x="192" y="42"/>
                  </a:lnTo>
                  <a:lnTo>
                    <a:pt x="256" y="164"/>
                  </a:lnTo>
                  <a:lnTo>
                    <a:pt x="337" y="143"/>
                  </a:lnTo>
                  <a:lnTo>
                    <a:pt x="418" y="130"/>
                  </a:lnTo>
                  <a:lnTo>
                    <a:pt x="501" y="126"/>
                  </a:lnTo>
                  <a:lnTo>
                    <a:pt x="585" y="132"/>
                  </a:lnTo>
                  <a:lnTo>
                    <a:pt x="625"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6" name="Freeform 20"/>
            <p:cNvSpPr/>
            <p:nvPr/>
          </p:nvSpPr>
          <p:spPr>
            <a:xfrm>
              <a:off x="8326440" y="5532480"/>
              <a:ext cx="539640" cy="539640"/>
            </a:xfrm>
            <a:custGeom>
              <a:avLst/>
              <a:gdLst/>
              <a:ahLst/>
              <a:rect l="l" t="t" r="r" b="b"/>
              <a:pathLst>
                <a:path w="1455" h="1459">
                  <a:moveTo>
                    <a:pt x="727" y="270"/>
                  </a:moveTo>
                  <a:lnTo>
                    <a:pt x="665" y="273"/>
                  </a:lnTo>
                  <a:lnTo>
                    <a:pt x="603" y="287"/>
                  </a:lnTo>
                  <a:lnTo>
                    <a:pt x="543" y="309"/>
                  </a:lnTo>
                  <a:lnTo>
                    <a:pt x="486" y="337"/>
                  </a:lnTo>
                  <a:lnTo>
                    <a:pt x="434" y="375"/>
                  </a:lnTo>
                  <a:lnTo>
                    <a:pt x="387" y="420"/>
                  </a:lnTo>
                  <a:lnTo>
                    <a:pt x="345" y="475"/>
                  </a:lnTo>
                  <a:lnTo>
                    <a:pt x="312" y="533"/>
                  </a:lnTo>
                  <a:lnTo>
                    <a:pt x="287" y="595"/>
                  </a:lnTo>
                  <a:lnTo>
                    <a:pt x="274" y="659"/>
                  </a:lnTo>
                  <a:lnTo>
                    <a:pt x="268" y="723"/>
                  </a:lnTo>
                  <a:lnTo>
                    <a:pt x="272" y="787"/>
                  </a:lnTo>
                  <a:lnTo>
                    <a:pt x="283" y="851"/>
                  </a:lnTo>
                  <a:lnTo>
                    <a:pt x="306" y="912"/>
                  </a:lnTo>
                  <a:lnTo>
                    <a:pt x="334" y="970"/>
                  </a:lnTo>
                  <a:lnTo>
                    <a:pt x="372" y="1023"/>
                  </a:lnTo>
                  <a:lnTo>
                    <a:pt x="419" y="1072"/>
                  </a:lnTo>
                  <a:lnTo>
                    <a:pt x="471" y="1113"/>
                  </a:lnTo>
                  <a:lnTo>
                    <a:pt x="533" y="1147"/>
                  </a:lnTo>
                  <a:lnTo>
                    <a:pt x="595" y="1171"/>
                  </a:lnTo>
                  <a:lnTo>
                    <a:pt x="661" y="1185"/>
                  </a:lnTo>
                  <a:lnTo>
                    <a:pt x="727" y="1190"/>
                  </a:lnTo>
                  <a:lnTo>
                    <a:pt x="791" y="1186"/>
                  </a:lnTo>
                  <a:lnTo>
                    <a:pt x="853" y="1173"/>
                  </a:lnTo>
                  <a:lnTo>
                    <a:pt x="913" y="1151"/>
                  </a:lnTo>
                  <a:lnTo>
                    <a:pt x="970" y="1122"/>
                  </a:lnTo>
                  <a:lnTo>
                    <a:pt x="1020" y="1085"/>
                  </a:lnTo>
                  <a:lnTo>
                    <a:pt x="1069" y="1038"/>
                  </a:lnTo>
                  <a:lnTo>
                    <a:pt x="1111" y="985"/>
                  </a:lnTo>
                  <a:lnTo>
                    <a:pt x="1143" y="927"/>
                  </a:lnTo>
                  <a:lnTo>
                    <a:pt x="1167" y="865"/>
                  </a:lnTo>
                  <a:lnTo>
                    <a:pt x="1182" y="801"/>
                  </a:lnTo>
                  <a:lnTo>
                    <a:pt x="1188" y="736"/>
                  </a:lnTo>
                  <a:lnTo>
                    <a:pt x="1184" y="672"/>
                  </a:lnTo>
                  <a:lnTo>
                    <a:pt x="1171" y="608"/>
                  </a:lnTo>
                  <a:lnTo>
                    <a:pt x="1150" y="548"/>
                  </a:lnTo>
                  <a:lnTo>
                    <a:pt x="1120" y="490"/>
                  </a:lnTo>
                  <a:lnTo>
                    <a:pt x="1082" y="437"/>
                  </a:lnTo>
                  <a:lnTo>
                    <a:pt x="1037" y="388"/>
                  </a:lnTo>
                  <a:lnTo>
                    <a:pt x="983" y="347"/>
                  </a:lnTo>
                  <a:lnTo>
                    <a:pt x="923" y="313"/>
                  </a:lnTo>
                  <a:lnTo>
                    <a:pt x="859" y="288"/>
                  </a:lnTo>
                  <a:lnTo>
                    <a:pt x="793" y="273"/>
                  </a:lnTo>
                  <a:lnTo>
                    <a:pt x="727" y="270"/>
                  </a:lnTo>
                  <a:close/>
                  <a:moveTo>
                    <a:pt x="699" y="0"/>
                  </a:moveTo>
                  <a:lnTo>
                    <a:pt x="720" y="106"/>
                  </a:lnTo>
                  <a:lnTo>
                    <a:pt x="727" y="106"/>
                  </a:lnTo>
                  <a:lnTo>
                    <a:pt x="810" y="111"/>
                  </a:lnTo>
                  <a:lnTo>
                    <a:pt x="893" y="128"/>
                  </a:lnTo>
                  <a:lnTo>
                    <a:pt x="973" y="157"/>
                  </a:lnTo>
                  <a:lnTo>
                    <a:pt x="1034" y="68"/>
                  </a:lnTo>
                  <a:lnTo>
                    <a:pt x="1222" y="194"/>
                  </a:lnTo>
                  <a:lnTo>
                    <a:pt x="1161" y="283"/>
                  </a:lnTo>
                  <a:lnTo>
                    <a:pt x="1206" y="332"/>
                  </a:lnTo>
                  <a:lnTo>
                    <a:pt x="1246" y="384"/>
                  </a:lnTo>
                  <a:lnTo>
                    <a:pt x="1278" y="441"/>
                  </a:lnTo>
                  <a:lnTo>
                    <a:pt x="1306" y="499"/>
                  </a:lnTo>
                  <a:lnTo>
                    <a:pt x="1411" y="477"/>
                  </a:lnTo>
                  <a:lnTo>
                    <a:pt x="1455" y="701"/>
                  </a:lnTo>
                  <a:lnTo>
                    <a:pt x="1349" y="721"/>
                  </a:lnTo>
                  <a:lnTo>
                    <a:pt x="1347" y="785"/>
                  </a:lnTo>
                  <a:lnTo>
                    <a:pt x="1338" y="849"/>
                  </a:lnTo>
                  <a:lnTo>
                    <a:pt x="1323" y="913"/>
                  </a:lnTo>
                  <a:lnTo>
                    <a:pt x="1299" y="976"/>
                  </a:lnTo>
                  <a:lnTo>
                    <a:pt x="1389" y="1036"/>
                  </a:lnTo>
                  <a:lnTo>
                    <a:pt x="1263" y="1224"/>
                  </a:lnTo>
                  <a:lnTo>
                    <a:pt x="1173" y="1166"/>
                  </a:lnTo>
                  <a:lnTo>
                    <a:pt x="1126" y="1209"/>
                  </a:lnTo>
                  <a:lnTo>
                    <a:pt x="1073" y="1249"/>
                  </a:lnTo>
                  <a:lnTo>
                    <a:pt x="1017" y="1282"/>
                  </a:lnTo>
                  <a:lnTo>
                    <a:pt x="958" y="1309"/>
                  </a:lnTo>
                  <a:lnTo>
                    <a:pt x="979" y="1414"/>
                  </a:lnTo>
                  <a:lnTo>
                    <a:pt x="757" y="1459"/>
                  </a:lnTo>
                  <a:lnTo>
                    <a:pt x="735" y="1354"/>
                  </a:lnTo>
                  <a:lnTo>
                    <a:pt x="727" y="1354"/>
                  </a:lnTo>
                  <a:lnTo>
                    <a:pt x="644" y="1348"/>
                  </a:lnTo>
                  <a:lnTo>
                    <a:pt x="562" y="1331"/>
                  </a:lnTo>
                  <a:lnTo>
                    <a:pt x="483" y="1303"/>
                  </a:lnTo>
                  <a:lnTo>
                    <a:pt x="423" y="1392"/>
                  </a:lnTo>
                  <a:lnTo>
                    <a:pt x="233" y="1266"/>
                  </a:lnTo>
                  <a:lnTo>
                    <a:pt x="293" y="1177"/>
                  </a:lnTo>
                  <a:lnTo>
                    <a:pt x="248" y="1128"/>
                  </a:lnTo>
                  <a:lnTo>
                    <a:pt x="210" y="1075"/>
                  </a:lnTo>
                  <a:lnTo>
                    <a:pt x="176" y="1019"/>
                  </a:lnTo>
                  <a:lnTo>
                    <a:pt x="150" y="961"/>
                  </a:lnTo>
                  <a:lnTo>
                    <a:pt x="45" y="983"/>
                  </a:lnTo>
                  <a:lnTo>
                    <a:pt x="0" y="759"/>
                  </a:lnTo>
                  <a:lnTo>
                    <a:pt x="105" y="738"/>
                  </a:lnTo>
                  <a:lnTo>
                    <a:pt x="107" y="674"/>
                  </a:lnTo>
                  <a:lnTo>
                    <a:pt x="116" y="610"/>
                  </a:lnTo>
                  <a:lnTo>
                    <a:pt x="133" y="546"/>
                  </a:lnTo>
                  <a:lnTo>
                    <a:pt x="156" y="484"/>
                  </a:lnTo>
                  <a:lnTo>
                    <a:pt x="65" y="424"/>
                  </a:lnTo>
                  <a:lnTo>
                    <a:pt x="191" y="236"/>
                  </a:lnTo>
                  <a:lnTo>
                    <a:pt x="282" y="294"/>
                  </a:lnTo>
                  <a:lnTo>
                    <a:pt x="330" y="251"/>
                  </a:lnTo>
                  <a:lnTo>
                    <a:pt x="383" y="211"/>
                  </a:lnTo>
                  <a:lnTo>
                    <a:pt x="438" y="177"/>
                  </a:lnTo>
                  <a:lnTo>
                    <a:pt x="496" y="151"/>
                  </a:lnTo>
                  <a:lnTo>
                    <a:pt x="475" y="46"/>
                  </a:lnTo>
                  <a:lnTo>
                    <a:pt x="69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29:02Z</dcterms:modified>
  <cp:revision>21</cp:revision>
  <dc:subject/>
  <dc:title>Naslov prezentacije</dc:title>
</cp:coreProperties>
</file>